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85541-1BA2-4EB5-AEA9-151B3F43D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130C7-80B1-4B53-9F54-EEF0EA832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0B5FF-0B1A-4EF4-ADCD-80A497B04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75082-6C25-426A-83E8-9DCEB4980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1D64-97F9-4E02-87F7-910E281FF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B41E-E8F2-4AA7-ADC1-527E0FC9A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08E0B-2B10-46DD-8B6D-75918B295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726CD-D5A8-4F7D-A3E3-2F616BB4C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4A93D-EC32-4BA7-9F31-674476E7D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37A06-2720-4948-A32F-92AC292FC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D7B9-0475-4CCA-9F40-B0DF4DB33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B9114-A8B6-4E1B-A34D-2BE49CA71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81680" y="65527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8F65-600D-4FD7-9067-EB72F338B088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81400" y="2692080"/>
            <a:ext cx="426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Graphs of Trigonometric Functions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133720"/>
            <a:ext cx="23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ess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8200" y="642960"/>
            <a:ext cx="1517760" cy="482400"/>
          </a:xfrm>
          <a:custGeom>
            <a:avLst/>
            <a:gdLst/>
            <a:ahLst/>
            <a:rect l="l" t="t" r="r" b="b"/>
            <a:pathLst>
              <a:path w="4218" h="1340">
                <a:moveTo>
                  <a:pt x="1265" y="1836"/>
                </a:moveTo>
                <a:cubicBezTo>
                  <a:pt x="1284" y="1885"/>
                  <a:pt x="1300" y="1913"/>
                  <a:pt x="1315" y="1935"/>
                </a:cubicBezTo>
                <a:cubicBezTo>
                  <a:pt x="1298" y="1906"/>
                  <a:pt x="1308" y="1896"/>
                  <a:pt x="1290" y="1860"/>
                </a:cubicBezTo>
                <a:cubicBezTo>
                  <a:pt x="1275" y="1830"/>
                  <a:pt x="1234" y="1792"/>
                  <a:pt x="1215" y="1786"/>
                </a:cubicBezTo>
                <a:cubicBezTo>
                  <a:pt x="1169" y="1773"/>
                  <a:pt x="1091" y="1829"/>
                  <a:pt x="1067" y="1860"/>
                </a:cubicBezTo>
                <a:cubicBezTo>
                  <a:pt x="1045" y="1888"/>
                  <a:pt x="882" y="2065"/>
                  <a:pt x="868" y="2108"/>
                </a:cubicBezTo>
                <a:cubicBezTo>
                  <a:pt x="855" y="2146"/>
                  <a:pt x="827" y="2240"/>
                  <a:pt x="893" y="2257"/>
                </a:cubicBezTo>
                <a:cubicBezTo>
                  <a:pt x="957" y="2274"/>
                  <a:pt x="1050" y="2257"/>
                  <a:pt x="1116" y="2257"/>
                </a:cubicBezTo>
                <a:cubicBezTo>
                  <a:pt x="1088" y="2327"/>
                  <a:pt x="1074" y="2349"/>
                  <a:pt x="1017" y="2406"/>
                </a:cubicBezTo>
                <a:cubicBezTo>
                  <a:pt x="940" y="2483"/>
                  <a:pt x="895" y="2564"/>
                  <a:pt x="843" y="2654"/>
                </a:cubicBezTo>
                <a:cubicBezTo>
                  <a:pt x="801" y="2728"/>
                  <a:pt x="728" y="2808"/>
                  <a:pt x="744" y="2902"/>
                </a:cubicBezTo>
                <a:cubicBezTo>
                  <a:pt x="754" y="2959"/>
                  <a:pt x="779" y="3011"/>
                  <a:pt x="843" y="3026"/>
                </a:cubicBezTo>
                <a:cubicBezTo>
                  <a:pt x="918" y="3044"/>
                  <a:pt x="999" y="3024"/>
                  <a:pt x="1067" y="3001"/>
                </a:cubicBezTo>
                <a:cubicBezTo>
                  <a:pt x="1137" y="2977"/>
                  <a:pt x="1230" y="2949"/>
                  <a:pt x="1290" y="2902"/>
                </a:cubicBezTo>
                <a:cubicBezTo>
                  <a:pt x="1306" y="2886"/>
                  <a:pt x="1323" y="2869"/>
                  <a:pt x="1339" y="2853"/>
                </a:cubicBezTo>
              </a:path>
              <a:path w="4218" h="1340">
                <a:moveTo>
                  <a:pt x="1513" y="2431"/>
                </a:moveTo>
                <a:cubicBezTo>
                  <a:pt x="1522" y="2496"/>
                  <a:pt x="1546" y="2562"/>
                  <a:pt x="1563" y="2629"/>
                </a:cubicBezTo>
                <a:cubicBezTo>
                  <a:pt x="1574" y="2674"/>
                  <a:pt x="1615" y="2849"/>
                  <a:pt x="1637" y="2877"/>
                </a:cubicBezTo>
                <a:cubicBezTo>
                  <a:pt x="1654" y="2899"/>
                  <a:pt x="1728" y="2987"/>
                  <a:pt x="1761" y="3001"/>
                </a:cubicBezTo>
                <a:cubicBezTo>
                  <a:pt x="1797" y="3016"/>
                  <a:pt x="1829" y="2983"/>
                  <a:pt x="1836" y="2952"/>
                </a:cubicBezTo>
                <a:cubicBezTo>
                  <a:pt x="1836" y="2900"/>
                  <a:pt x="1837" y="2882"/>
                  <a:pt x="1860" y="2853"/>
                </a:cubicBezTo>
              </a:path>
              <a:path w="4218" h="1340">
                <a:moveTo>
                  <a:pt x="1935" y="2332"/>
                </a:moveTo>
                <a:cubicBezTo>
                  <a:pt x="1858" y="2343"/>
                  <a:pt x="1856" y="2367"/>
                  <a:pt x="1811" y="2431"/>
                </a:cubicBezTo>
                <a:cubicBezTo>
                  <a:pt x="1746" y="2523"/>
                  <a:pt x="1670" y="2609"/>
                  <a:pt x="1612" y="2704"/>
                </a:cubicBezTo>
                <a:cubicBezTo>
                  <a:pt x="1570" y="2772"/>
                  <a:pt x="1508" y="2813"/>
                  <a:pt x="1463" y="2877"/>
                </a:cubicBezTo>
                <a:cubicBezTo>
                  <a:pt x="1441" y="2909"/>
                  <a:pt x="1422" y="2943"/>
                  <a:pt x="1414" y="2977"/>
                </a:cubicBezTo>
              </a:path>
              <a:path w="4218" h="1340">
                <a:moveTo>
                  <a:pt x="2282" y="2356"/>
                </a:moveTo>
                <a:cubicBezTo>
                  <a:pt x="2220" y="2311"/>
                  <a:pt x="2188" y="2354"/>
                  <a:pt x="2133" y="2406"/>
                </a:cubicBezTo>
                <a:cubicBezTo>
                  <a:pt x="2059" y="2477"/>
                  <a:pt x="2019" y="2559"/>
                  <a:pt x="1984" y="2654"/>
                </a:cubicBezTo>
                <a:cubicBezTo>
                  <a:pt x="1960" y="2720"/>
                  <a:pt x="1938" y="2796"/>
                  <a:pt x="1984" y="2853"/>
                </a:cubicBezTo>
                <a:cubicBezTo>
                  <a:pt x="2008" y="2883"/>
                  <a:pt x="2041" y="2917"/>
                  <a:pt x="2084" y="2902"/>
                </a:cubicBezTo>
                <a:cubicBezTo>
                  <a:pt x="2126" y="2887"/>
                  <a:pt x="2207" y="2839"/>
                  <a:pt x="2232" y="2803"/>
                </a:cubicBezTo>
                <a:cubicBezTo>
                  <a:pt x="2286" y="2726"/>
                  <a:pt x="2329" y="2617"/>
                  <a:pt x="2356" y="2530"/>
                </a:cubicBezTo>
                <a:cubicBezTo>
                  <a:pt x="2356" y="2505"/>
                  <a:pt x="2356" y="2497"/>
                  <a:pt x="2356" y="2480"/>
                </a:cubicBezTo>
                <a:cubicBezTo>
                  <a:pt x="2344" y="2529"/>
                  <a:pt x="2319" y="2569"/>
                  <a:pt x="2332" y="2629"/>
                </a:cubicBezTo>
                <a:cubicBezTo>
                  <a:pt x="2342" y="2674"/>
                  <a:pt x="2358" y="2777"/>
                  <a:pt x="2406" y="2803"/>
                </a:cubicBezTo>
                <a:cubicBezTo>
                  <a:pt x="2423" y="2812"/>
                  <a:pt x="2505" y="2846"/>
                  <a:pt x="2530" y="2828"/>
                </a:cubicBezTo>
                <a:cubicBezTo>
                  <a:pt x="2547" y="2811"/>
                  <a:pt x="2563" y="2795"/>
                  <a:pt x="2580" y="2778"/>
                </a:cubicBezTo>
              </a:path>
              <a:path w="4218" h="1340">
                <a:moveTo>
                  <a:pt x="2629" y="2406"/>
                </a:moveTo>
                <a:cubicBezTo>
                  <a:pt x="2629" y="2514"/>
                  <a:pt x="2629" y="2621"/>
                  <a:pt x="2629" y="2729"/>
                </a:cubicBezTo>
                <a:cubicBezTo>
                  <a:pt x="2629" y="2786"/>
                  <a:pt x="2651" y="2666"/>
                  <a:pt x="2654" y="2654"/>
                </a:cubicBezTo>
                <a:cubicBezTo>
                  <a:pt x="2671" y="2588"/>
                  <a:pt x="2671" y="2546"/>
                  <a:pt x="2704" y="2480"/>
                </a:cubicBezTo>
                <a:cubicBezTo>
                  <a:pt x="2739" y="2410"/>
                  <a:pt x="2783" y="2384"/>
                  <a:pt x="2853" y="2431"/>
                </a:cubicBezTo>
                <a:cubicBezTo>
                  <a:pt x="2905" y="2467"/>
                  <a:pt x="2924" y="2547"/>
                  <a:pt x="2927" y="2604"/>
                </a:cubicBezTo>
                <a:cubicBezTo>
                  <a:pt x="2930" y="2653"/>
                  <a:pt x="2927" y="2704"/>
                  <a:pt x="2927" y="2753"/>
                </a:cubicBezTo>
                <a:cubicBezTo>
                  <a:pt x="2927" y="2693"/>
                  <a:pt x="2936" y="2654"/>
                  <a:pt x="2952" y="2604"/>
                </a:cubicBezTo>
                <a:cubicBezTo>
                  <a:pt x="2981" y="2514"/>
                  <a:pt x="2987" y="2455"/>
                  <a:pt x="3051" y="2406"/>
                </a:cubicBezTo>
                <a:cubicBezTo>
                  <a:pt x="3059" y="2398"/>
                  <a:pt x="3068" y="2389"/>
                  <a:pt x="3076" y="2381"/>
                </a:cubicBezTo>
                <a:cubicBezTo>
                  <a:pt x="3151" y="2436"/>
                  <a:pt x="3170" y="2460"/>
                  <a:pt x="3175" y="2555"/>
                </a:cubicBezTo>
                <a:cubicBezTo>
                  <a:pt x="3180" y="2646"/>
                  <a:pt x="3174" y="2725"/>
                  <a:pt x="3200" y="2803"/>
                </a:cubicBezTo>
                <a:cubicBezTo>
                  <a:pt x="3200" y="2831"/>
                  <a:pt x="3202" y="2837"/>
                  <a:pt x="3225" y="2803"/>
                </a:cubicBezTo>
              </a:path>
              <a:path w="4218" h="1340">
                <a:moveTo>
                  <a:pt x="3373" y="2381"/>
                </a:moveTo>
                <a:cubicBezTo>
                  <a:pt x="3353" y="2507"/>
                  <a:pt x="3329" y="2626"/>
                  <a:pt x="3324" y="2753"/>
                </a:cubicBezTo>
                <a:cubicBezTo>
                  <a:pt x="3319" y="2871"/>
                  <a:pt x="3314" y="2999"/>
                  <a:pt x="3349" y="3101"/>
                </a:cubicBezTo>
                <a:cubicBezTo>
                  <a:pt x="3366" y="3150"/>
                  <a:pt x="3349" y="3096"/>
                  <a:pt x="3349" y="3076"/>
                </a:cubicBezTo>
              </a:path>
              <a:path w="4218" h="1340">
                <a:moveTo>
                  <a:pt x="3249" y="2456"/>
                </a:moveTo>
                <a:cubicBezTo>
                  <a:pt x="3274" y="2370"/>
                  <a:pt x="3303" y="2268"/>
                  <a:pt x="3373" y="2208"/>
                </a:cubicBezTo>
                <a:cubicBezTo>
                  <a:pt x="3436" y="2153"/>
                  <a:pt x="3538" y="2186"/>
                  <a:pt x="3597" y="2232"/>
                </a:cubicBezTo>
                <a:cubicBezTo>
                  <a:pt x="3724" y="2331"/>
                  <a:pt x="3687" y="2442"/>
                  <a:pt x="3646" y="2580"/>
                </a:cubicBezTo>
                <a:cubicBezTo>
                  <a:pt x="3625" y="2650"/>
                  <a:pt x="3581" y="2694"/>
                  <a:pt x="3522" y="2729"/>
                </a:cubicBezTo>
                <a:cubicBezTo>
                  <a:pt x="3436" y="2780"/>
                  <a:pt x="3458" y="2762"/>
                  <a:pt x="3497" y="2704"/>
                </a:cubicBezTo>
              </a:path>
              <a:path w="4218" h="1340">
                <a:moveTo>
                  <a:pt x="3870" y="1885"/>
                </a:moveTo>
                <a:cubicBezTo>
                  <a:pt x="3870" y="2006"/>
                  <a:pt x="3855" y="2114"/>
                  <a:pt x="3845" y="2232"/>
                </a:cubicBezTo>
                <a:cubicBezTo>
                  <a:pt x="3835" y="2344"/>
                  <a:pt x="3810" y="2445"/>
                  <a:pt x="3795" y="2555"/>
                </a:cubicBezTo>
                <a:cubicBezTo>
                  <a:pt x="3791" y="2584"/>
                  <a:pt x="3795" y="2802"/>
                  <a:pt x="3795" y="2679"/>
                </a:cubicBezTo>
              </a:path>
              <a:path w="4218" h="1340">
                <a:moveTo>
                  <a:pt x="3870" y="2555"/>
                </a:moveTo>
                <a:cubicBezTo>
                  <a:pt x="3940" y="2534"/>
                  <a:pt x="4000" y="2501"/>
                  <a:pt x="4068" y="2480"/>
                </a:cubicBezTo>
                <a:cubicBezTo>
                  <a:pt x="4109" y="2467"/>
                  <a:pt x="4170" y="2455"/>
                  <a:pt x="4192" y="2406"/>
                </a:cubicBezTo>
                <a:cubicBezTo>
                  <a:pt x="4207" y="2372"/>
                  <a:pt x="4217" y="2348"/>
                  <a:pt x="4217" y="2307"/>
                </a:cubicBezTo>
                <a:cubicBezTo>
                  <a:pt x="4217" y="2299"/>
                  <a:pt x="4217" y="2290"/>
                  <a:pt x="4217" y="2282"/>
                </a:cubicBezTo>
                <a:cubicBezTo>
                  <a:pt x="4158" y="2282"/>
                  <a:pt x="4165" y="2303"/>
                  <a:pt x="4118" y="2332"/>
                </a:cubicBezTo>
                <a:cubicBezTo>
                  <a:pt x="4051" y="2374"/>
                  <a:pt x="3994" y="2448"/>
                  <a:pt x="3969" y="2530"/>
                </a:cubicBezTo>
                <a:cubicBezTo>
                  <a:pt x="3952" y="2585"/>
                  <a:pt x="3930" y="2630"/>
                  <a:pt x="3969" y="2679"/>
                </a:cubicBezTo>
                <a:cubicBezTo>
                  <a:pt x="4014" y="2736"/>
                  <a:pt x="4040" y="2726"/>
                  <a:pt x="4093" y="2753"/>
                </a:cubicBezTo>
                <a:cubicBezTo>
                  <a:pt x="4151" y="2782"/>
                  <a:pt x="4201" y="2737"/>
                  <a:pt x="4266" y="2704"/>
                </a:cubicBezTo>
              </a:path>
              <a:path w="4218" h="1340">
                <a:moveTo>
                  <a:pt x="4663" y="2158"/>
                </a:moveTo>
                <a:cubicBezTo>
                  <a:pt x="4631" y="2173"/>
                  <a:pt x="4488" y="2215"/>
                  <a:pt x="4465" y="2257"/>
                </a:cubicBezTo>
                <a:cubicBezTo>
                  <a:pt x="4445" y="2293"/>
                  <a:pt x="4476" y="2332"/>
                  <a:pt x="4490" y="2356"/>
                </a:cubicBezTo>
                <a:cubicBezTo>
                  <a:pt x="4522" y="2412"/>
                  <a:pt x="4552" y="2477"/>
                  <a:pt x="4589" y="2530"/>
                </a:cubicBezTo>
                <a:cubicBezTo>
                  <a:pt x="4616" y="2569"/>
                  <a:pt x="4614" y="2580"/>
                  <a:pt x="4614" y="2629"/>
                </a:cubicBezTo>
                <a:cubicBezTo>
                  <a:pt x="4548" y="2629"/>
                  <a:pt x="4481" y="2629"/>
                  <a:pt x="4415" y="2629"/>
                </a:cubicBezTo>
                <a:cubicBezTo>
                  <a:pt x="4458" y="2661"/>
                  <a:pt x="4455" y="2654"/>
                  <a:pt x="4514" y="2654"/>
                </a:cubicBezTo>
              </a:path>
              <a:path w="4218" h="1340">
                <a:moveTo>
                  <a:pt x="4961" y="2158"/>
                </a:moveTo>
                <a:cubicBezTo>
                  <a:pt x="4961" y="2199"/>
                  <a:pt x="4961" y="2224"/>
                  <a:pt x="4961" y="2257"/>
                </a:cubicBezTo>
              </a:path>
              <a:path w="4218" h="1340">
                <a:moveTo>
                  <a:pt x="4961" y="2505"/>
                </a:moveTo>
                <a:cubicBezTo>
                  <a:pt x="4961" y="2497"/>
                  <a:pt x="4961" y="2488"/>
                  <a:pt x="4961" y="24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919160" y="677880"/>
            <a:ext cx="750960" cy="430200"/>
          </a:xfrm>
          <a:custGeom>
            <a:avLst/>
            <a:gdLst/>
            <a:ahLst/>
            <a:rect l="l" t="t" r="r" b="b"/>
            <a:pathLst>
              <a:path w="2085" h="1192">
                <a:moveTo>
                  <a:pt x="5482" y="2356"/>
                </a:moveTo>
                <a:cubicBezTo>
                  <a:pt x="5473" y="2458"/>
                  <a:pt x="5457" y="2549"/>
                  <a:pt x="5457" y="2654"/>
                </a:cubicBezTo>
                <a:cubicBezTo>
                  <a:pt x="5457" y="2736"/>
                  <a:pt x="5456" y="2825"/>
                  <a:pt x="5432" y="2902"/>
                </a:cubicBezTo>
                <a:cubicBezTo>
                  <a:pt x="5410" y="2971"/>
                  <a:pt x="5410" y="3001"/>
                  <a:pt x="5358" y="3051"/>
                </a:cubicBezTo>
              </a:path>
              <a:path w="2085" h="1192">
                <a:moveTo>
                  <a:pt x="5333" y="2257"/>
                </a:moveTo>
                <a:cubicBezTo>
                  <a:pt x="5449" y="2180"/>
                  <a:pt x="5517" y="2122"/>
                  <a:pt x="5655" y="2158"/>
                </a:cubicBezTo>
                <a:cubicBezTo>
                  <a:pt x="5779" y="2190"/>
                  <a:pt x="5805" y="2274"/>
                  <a:pt x="5854" y="2381"/>
                </a:cubicBezTo>
                <a:cubicBezTo>
                  <a:pt x="5881" y="2441"/>
                  <a:pt x="5864" y="2511"/>
                  <a:pt x="5804" y="2555"/>
                </a:cubicBezTo>
                <a:cubicBezTo>
                  <a:pt x="5751" y="2593"/>
                  <a:pt x="5667" y="2637"/>
                  <a:pt x="5606" y="2654"/>
                </a:cubicBezTo>
                <a:cubicBezTo>
                  <a:pt x="5582" y="2660"/>
                  <a:pt x="5475" y="2679"/>
                  <a:pt x="5531" y="2679"/>
                </a:cubicBezTo>
                <a:cubicBezTo>
                  <a:pt x="5539" y="2679"/>
                  <a:pt x="5548" y="2679"/>
                  <a:pt x="5556" y="2679"/>
                </a:cubicBezTo>
              </a:path>
              <a:path w="2085" h="1192">
                <a:moveTo>
                  <a:pt x="5978" y="2704"/>
                </a:moveTo>
                <a:cubicBezTo>
                  <a:pt x="5953" y="2704"/>
                  <a:pt x="5945" y="2704"/>
                  <a:pt x="5953" y="2679"/>
                </a:cubicBezTo>
              </a:path>
              <a:path w="2085" h="1192">
                <a:moveTo>
                  <a:pt x="6251" y="2059"/>
                </a:moveTo>
                <a:cubicBezTo>
                  <a:pt x="6332" y="2036"/>
                  <a:pt x="6402" y="1998"/>
                  <a:pt x="6474" y="2034"/>
                </a:cubicBezTo>
                <a:cubicBezTo>
                  <a:pt x="6517" y="2056"/>
                  <a:pt x="6524" y="2091"/>
                  <a:pt x="6524" y="2133"/>
                </a:cubicBezTo>
                <a:cubicBezTo>
                  <a:pt x="6524" y="2244"/>
                  <a:pt x="6452" y="2267"/>
                  <a:pt x="6375" y="2332"/>
                </a:cubicBezTo>
                <a:cubicBezTo>
                  <a:pt x="6331" y="2370"/>
                  <a:pt x="6278" y="2414"/>
                  <a:pt x="6226" y="2431"/>
                </a:cubicBezTo>
                <a:cubicBezTo>
                  <a:pt x="6218" y="2431"/>
                  <a:pt x="6209" y="2431"/>
                  <a:pt x="6201" y="2431"/>
                </a:cubicBezTo>
                <a:cubicBezTo>
                  <a:pt x="6246" y="2420"/>
                  <a:pt x="6266" y="2390"/>
                  <a:pt x="6300" y="2356"/>
                </a:cubicBezTo>
                <a:cubicBezTo>
                  <a:pt x="6326" y="2330"/>
                  <a:pt x="6410" y="2316"/>
                  <a:pt x="6449" y="2332"/>
                </a:cubicBezTo>
                <a:cubicBezTo>
                  <a:pt x="6509" y="2356"/>
                  <a:pt x="6538" y="2509"/>
                  <a:pt x="6548" y="2555"/>
                </a:cubicBezTo>
                <a:cubicBezTo>
                  <a:pt x="6557" y="2597"/>
                  <a:pt x="6508" y="2680"/>
                  <a:pt x="6474" y="2704"/>
                </a:cubicBezTo>
                <a:cubicBezTo>
                  <a:pt x="6446" y="2724"/>
                  <a:pt x="6381" y="2750"/>
                  <a:pt x="6350" y="2753"/>
                </a:cubicBezTo>
                <a:cubicBezTo>
                  <a:pt x="6330" y="2755"/>
                  <a:pt x="6248" y="2703"/>
                  <a:pt x="6251" y="2679"/>
                </a:cubicBezTo>
                <a:cubicBezTo>
                  <a:pt x="6252" y="2673"/>
                  <a:pt x="6322" y="2585"/>
                  <a:pt x="6325" y="2580"/>
                </a:cubicBezTo>
              </a:path>
              <a:path w="2085" h="1192">
                <a:moveTo>
                  <a:pt x="6722" y="2034"/>
                </a:moveTo>
                <a:cubicBezTo>
                  <a:pt x="6758" y="2017"/>
                  <a:pt x="6898" y="1925"/>
                  <a:pt x="6970" y="1960"/>
                </a:cubicBezTo>
                <a:cubicBezTo>
                  <a:pt x="7014" y="1981"/>
                  <a:pt x="7020" y="2017"/>
                  <a:pt x="7020" y="2059"/>
                </a:cubicBezTo>
                <a:cubicBezTo>
                  <a:pt x="7020" y="2120"/>
                  <a:pt x="6968" y="2196"/>
                  <a:pt x="6921" y="2232"/>
                </a:cubicBezTo>
                <a:cubicBezTo>
                  <a:pt x="6883" y="2261"/>
                  <a:pt x="6814" y="2296"/>
                  <a:pt x="6772" y="2307"/>
                </a:cubicBezTo>
                <a:cubicBezTo>
                  <a:pt x="6813" y="2297"/>
                  <a:pt x="6858" y="2265"/>
                  <a:pt x="6896" y="2257"/>
                </a:cubicBezTo>
                <a:cubicBezTo>
                  <a:pt x="6957" y="2245"/>
                  <a:pt x="6982" y="2294"/>
                  <a:pt x="7020" y="2332"/>
                </a:cubicBezTo>
                <a:cubicBezTo>
                  <a:pt x="7051" y="2363"/>
                  <a:pt x="7060" y="2436"/>
                  <a:pt x="7045" y="2480"/>
                </a:cubicBezTo>
                <a:cubicBezTo>
                  <a:pt x="7022" y="2549"/>
                  <a:pt x="6967" y="2550"/>
                  <a:pt x="6921" y="2580"/>
                </a:cubicBezTo>
                <a:cubicBezTo>
                  <a:pt x="6872" y="2612"/>
                  <a:pt x="6826" y="2616"/>
                  <a:pt x="6772" y="2580"/>
                </a:cubicBezTo>
                <a:cubicBezTo>
                  <a:pt x="6749" y="2557"/>
                  <a:pt x="6745" y="2549"/>
                  <a:pt x="6722" y="2555"/>
                </a:cubicBezTo>
                <a:cubicBezTo>
                  <a:pt x="6722" y="2501"/>
                  <a:pt x="6734" y="2494"/>
                  <a:pt x="6772" y="2456"/>
                </a:cubicBezTo>
                <a:cubicBezTo>
                  <a:pt x="6788" y="2439"/>
                  <a:pt x="6805" y="2423"/>
                  <a:pt x="6821" y="2406"/>
                </a:cubicBezTo>
              </a:path>
              <a:path w="2085" h="1192">
                <a:moveTo>
                  <a:pt x="7342" y="1885"/>
                </a:moveTo>
                <a:cubicBezTo>
                  <a:pt x="7363" y="1989"/>
                  <a:pt x="7367" y="2077"/>
                  <a:pt x="7367" y="2183"/>
                </a:cubicBezTo>
                <a:cubicBezTo>
                  <a:pt x="7367" y="2320"/>
                  <a:pt x="7362" y="2451"/>
                  <a:pt x="7392" y="2580"/>
                </a:cubicBezTo>
                <a:cubicBezTo>
                  <a:pt x="7396" y="2595"/>
                  <a:pt x="7419" y="2677"/>
                  <a:pt x="7417" y="2679"/>
                </a:cubicBezTo>
                <a:cubicBezTo>
                  <a:pt x="7409" y="2679"/>
                  <a:pt x="7400" y="2679"/>
                  <a:pt x="7392" y="26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39840" y="1660680"/>
            <a:ext cx="517320" cy="438120"/>
          </a:xfrm>
          <a:custGeom>
            <a:avLst/>
            <a:gdLst/>
            <a:ahLst/>
            <a:rect l="l" t="t" r="r" b="b"/>
            <a:pathLst>
              <a:path w="1439" h="1216">
                <a:moveTo>
                  <a:pt x="967" y="5259"/>
                </a:moveTo>
                <a:cubicBezTo>
                  <a:pt x="1003" y="5305"/>
                  <a:pt x="992" y="5346"/>
                  <a:pt x="992" y="5407"/>
                </a:cubicBezTo>
                <a:cubicBezTo>
                  <a:pt x="992" y="5466"/>
                  <a:pt x="967" y="5493"/>
                  <a:pt x="967" y="5556"/>
                </a:cubicBezTo>
                <a:cubicBezTo>
                  <a:pt x="967" y="5613"/>
                  <a:pt x="936" y="5572"/>
                  <a:pt x="967" y="5556"/>
                </a:cubicBezTo>
                <a:cubicBezTo>
                  <a:pt x="988" y="5545"/>
                  <a:pt x="1045" y="5534"/>
                  <a:pt x="1067" y="5531"/>
                </a:cubicBezTo>
                <a:cubicBezTo>
                  <a:pt x="1140" y="5523"/>
                  <a:pt x="1368" y="5567"/>
                  <a:pt x="1389" y="5507"/>
                </a:cubicBezTo>
              </a:path>
              <a:path w="1439" h="1216">
                <a:moveTo>
                  <a:pt x="1339" y="5035"/>
                </a:moveTo>
                <a:cubicBezTo>
                  <a:pt x="1364" y="5094"/>
                  <a:pt x="1382" y="5171"/>
                  <a:pt x="1389" y="5234"/>
                </a:cubicBezTo>
                <a:cubicBezTo>
                  <a:pt x="1405" y="5373"/>
                  <a:pt x="1398" y="5518"/>
                  <a:pt x="1414" y="5655"/>
                </a:cubicBezTo>
                <a:cubicBezTo>
                  <a:pt x="1414" y="5657"/>
                  <a:pt x="1431" y="5837"/>
                  <a:pt x="1439" y="5829"/>
                </a:cubicBezTo>
                <a:cubicBezTo>
                  <a:pt x="1439" y="5801"/>
                  <a:pt x="1441" y="5790"/>
                  <a:pt x="1463" y="5779"/>
                </a:cubicBezTo>
              </a:path>
              <a:path w="1439" h="1216">
                <a:moveTo>
                  <a:pt x="1563" y="5184"/>
                </a:moveTo>
                <a:cubicBezTo>
                  <a:pt x="1589" y="5124"/>
                  <a:pt x="1588" y="5090"/>
                  <a:pt x="1662" y="5085"/>
                </a:cubicBezTo>
                <a:cubicBezTo>
                  <a:pt x="1718" y="5081"/>
                  <a:pt x="1769" y="5076"/>
                  <a:pt x="1811" y="5110"/>
                </a:cubicBezTo>
                <a:cubicBezTo>
                  <a:pt x="1875" y="5162"/>
                  <a:pt x="1905" y="5170"/>
                  <a:pt x="1910" y="5259"/>
                </a:cubicBezTo>
                <a:cubicBezTo>
                  <a:pt x="1915" y="5357"/>
                  <a:pt x="1897" y="5383"/>
                  <a:pt x="1836" y="5457"/>
                </a:cubicBezTo>
                <a:cubicBezTo>
                  <a:pt x="1780" y="5525"/>
                  <a:pt x="1738" y="5598"/>
                  <a:pt x="1687" y="5655"/>
                </a:cubicBezTo>
                <a:cubicBezTo>
                  <a:pt x="1662" y="5680"/>
                  <a:pt x="1654" y="5688"/>
                  <a:pt x="1637" y="5705"/>
                </a:cubicBezTo>
                <a:cubicBezTo>
                  <a:pt x="1646" y="5732"/>
                  <a:pt x="1655" y="5751"/>
                  <a:pt x="1687" y="5755"/>
                </a:cubicBezTo>
                <a:cubicBezTo>
                  <a:pt x="1748" y="5763"/>
                  <a:pt x="1781" y="5740"/>
                  <a:pt x="1836" y="5730"/>
                </a:cubicBezTo>
                <a:cubicBezTo>
                  <a:pt x="1893" y="5720"/>
                  <a:pt x="1928" y="5719"/>
                  <a:pt x="1984" y="5705"/>
                </a:cubicBezTo>
                <a:cubicBezTo>
                  <a:pt x="2012" y="5705"/>
                  <a:pt x="2023" y="5703"/>
                  <a:pt x="2034" y="5680"/>
                </a:cubicBezTo>
              </a:path>
              <a:path w="1439" h="1216">
                <a:moveTo>
                  <a:pt x="1786" y="4638"/>
                </a:moveTo>
                <a:cubicBezTo>
                  <a:pt x="1878" y="4616"/>
                  <a:pt x="1911" y="4644"/>
                  <a:pt x="1984" y="4713"/>
                </a:cubicBezTo>
                <a:cubicBezTo>
                  <a:pt x="2081" y="4804"/>
                  <a:pt x="2186" y="4898"/>
                  <a:pt x="2257" y="5011"/>
                </a:cubicBezTo>
                <a:cubicBezTo>
                  <a:pt x="2338" y="5140"/>
                  <a:pt x="2405" y="5302"/>
                  <a:pt x="2381" y="5457"/>
                </a:cubicBezTo>
                <a:cubicBezTo>
                  <a:pt x="2372" y="5514"/>
                  <a:pt x="2356" y="5635"/>
                  <a:pt x="2307" y="5680"/>
                </a:cubicBezTo>
                <a:cubicBezTo>
                  <a:pt x="2262" y="5721"/>
                  <a:pt x="2200" y="5741"/>
                  <a:pt x="2158" y="5779"/>
                </a:cubicBezTo>
                <a:cubicBezTo>
                  <a:pt x="2119" y="5814"/>
                  <a:pt x="2127" y="5783"/>
                  <a:pt x="2108" y="5779"/>
                </a:cubicBezTo>
                <a:cubicBezTo>
                  <a:pt x="2100" y="5779"/>
                  <a:pt x="2092" y="5779"/>
                  <a:pt x="2084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25360" y="1490760"/>
            <a:ext cx="2249640" cy="795240"/>
          </a:xfrm>
          <a:custGeom>
            <a:avLst/>
            <a:gdLst/>
            <a:ahLst/>
            <a:rect l="l" t="t" r="r" b="b"/>
            <a:pathLst>
              <a:path w="6252" h="2209">
                <a:moveTo>
                  <a:pt x="3373" y="5035"/>
                </a:moveTo>
                <a:cubicBezTo>
                  <a:pt x="3373" y="5092"/>
                  <a:pt x="3387" y="5103"/>
                  <a:pt x="3373" y="5159"/>
                </a:cubicBezTo>
                <a:cubicBezTo>
                  <a:pt x="3355" y="5230"/>
                  <a:pt x="3349" y="5282"/>
                  <a:pt x="3349" y="5358"/>
                </a:cubicBezTo>
                <a:cubicBezTo>
                  <a:pt x="3349" y="5408"/>
                  <a:pt x="3367" y="5469"/>
                  <a:pt x="3398" y="5507"/>
                </a:cubicBezTo>
                <a:cubicBezTo>
                  <a:pt x="3421" y="5535"/>
                  <a:pt x="3461" y="5539"/>
                  <a:pt x="3497" y="5531"/>
                </a:cubicBezTo>
                <a:cubicBezTo>
                  <a:pt x="3560" y="5518"/>
                  <a:pt x="3558" y="5479"/>
                  <a:pt x="3597" y="5432"/>
                </a:cubicBezTo>
                <a:cubicBezTo>
                  <a:pt x="3658" y="5358"/>
                  <a:pt x="3668" y="5319"/>
                  <a:pt x="3696" y="5234"/>
                </a:cubicBezTo>
                <a:cubicBezTo>
                  <a:pt x="3719" y="5164"/>
                  <a:pt x="3734" y="5083"/>
                  <a:pt x="3746" y="5011"/>
                </a:cubicBezTo>
                <a:cubicBezTo>
                  <a:pt x="3756" y="4949"/>
                  <a:pt x="3743" y="4955"/>
                  <a:pt x="3721" y="4911"/>
                </a:cubicBezTo>
                <a:cubicBezTo>
                  <a:pt x="3691" y="4961"/>
                  <a:pt x="3674" y="5022"/>
                  <a:pt x="3671" y="5085"/>
                </a:cubicBezTo>
                <a:cubicBezTo>
                  <a:pt x="3663" y="5270"/>
                  <a:pt x="3680" y="5452"/>
                  <a:pt x="3696" y="5631"/>
                </a:cubicBezTo>
                <a:cubicBezTo>
                  <a:pt x="3709" y="5771"/>
                  <a:pt x="3721" y="5911"/>
                  <a:pt x="3721" y="6052"/>
                </a:cubicBezTo>
                <a:cubicBezTo>
                  <a:pt x="3721" y="6151"/>
                  <a:pt x="3680" y="6251"/>
                  <a:pt x="3597" y="6300"/>
                </a:cubicBezTo>
                <a:cubicBezTo>
                  <a:pt x="3516" y="6347"/>
                  <a:pt x="3466" y="6350"/>
                  <a:pt x="3373" y="6350"/>
                </a:cubicBezTo>
                <a:cubicBezTo>
                  <a:pt x="3296" y="6350"/>
                  <a:pt x="3242" y="6345"/>
                  <a:pt x="3175" y="6300"/>
                </a:cubicBezTo>
                <a:cubicBezTo>
                  <a:pt x="3141" y="6277"/>
                  <a:pt x="3141" y="6253"/>
                  <a:pt x="3125" y="6226"/>
                </a:cubicBezTo>
              </a:path>
              <a:path w="6252" h="2209">
                <a:moveTo>
                  <a:pt x="4118" y="5159"/>
                </a:moveTo>
                <a:cubicBezTo>
                  <a:pt x="4234" y="5159"/>
                  <a:pt x="4349" y="5159"/>
                  <a:pt x="4465" y="5159"/>
                </a:cubicBezTo>
              </a:path>
              <a:path w="6252" h="2209">
                <a:moveTo>
                  <a:pt x="4142" y="5383"/>
                </a:moveTo>
                <a:cubicBezTo>
                  <a:pt x="4204" y="5383"/>
                  <a:pt x="4233" y="5373"/>
                  <a:pt x="4291" y="5358"/>
                </a:cubicBezTo>
                <a:cubicBezTo>
                  <a:pt x="4356" y="5342"/>
                  <a:pt x="4445" y="5358"/>
                  <a:pt x="4514" y="5358"/>
                </a:cubicBezTo>
              </a:path>
              <a:path w="6252" h="2209">
                <a:moveTo>
                  <a:pt x="5085" y="4390"/>
                </a:moveTo>
                <a:cubicBezTo>
                  <a:pt x="5164" y="4381"/>
                  <a:pt x="5225" y="4366"/>
                  <a:pt x="5308" y="4366"/>
                </a:cubicBezTo>
                <a:cubicBezTo>
                  <a:pt x="5407" y="4366"/>
                  <a:pt x="5497" y="4366"/>
                  <a:pt x="5581" y="4341"/>
                </a:cubicBezTo>
                <a:cubicBezTo>
                  <a:pt x="5589" y="4341"/>
                  <a:pt x="5598" y="4341"/>
                  <a:pt x="5606" y="4341"/>
                </a:cubicBezTo>
              </a:path>
              <a:path w="6252" h="2209">
                <a:moveTo>
                  <a:pt x="5085" y="4390"/>
                </a:moveTo>
                <a:cubicBezTo>
                  <a:pt x="5042" y="4490"/>
                  <a:pt x="5035" y="4513"/>
                  <a:pt x="5035" y="4614"/>
                </a:cubicBezTo>
                <a:cubicBezTo>
                  <a:pt x="5035" y="4669"/>
                  <a:pt x="5011" y="4684"/>
                  <a:pt x="5011" y="4738"/>
                </a:cubicBezTo>
                <a:cubicBezTo>
                  <a:pt x="5011" y="4746"/>
                  <a:pt x="5011" y="4754"/>
                  <a:pt x="5011" y="4762"/>
                </a:cubicBezTo>
                <a:cubicBezTo>
                  <a:pt x="5041" y="4752"/>
                  <a:pt x="5063" y="4705"/>
                  <a:pt x="5085" y="4688"/>
                </a:cubicBezTo>
                <a:cubicBezTo>
                  <a:pt x="5131" y="4653"/>
                  <a:pt x="5180" y="4663"/>
                  <a:pt x="5234" y="4663"/>
                </a:cubicBezTo>
                <a:cubicBezTo>
                  <a:pt x="5305" y="4663"/>
                  <a:pt x="5321" y="4680"/>
                  <a:pt x="5383" y="4713"/>
                </a:cubicBezTo>
                <a:cubicBezTo>
                  <a:pt x="5431" y="4739"/>
                  <a:pt x="5493" y="4803"/>
                  <a:pt x="5507" y="4862"/>
                </a:cubicBezTo>
                <a:cubicBezTo>
                  <a:pt x="5526" y="4940"/>
                  <a:pt x="5525" y="4962"/>
                  <a:pt x="5507" y="5035"/>
                </a:cubicBezTo>
                <a:cubicBezTo>
                  <a:pt x="5503" y="5050"/>
                  <a:pt x="5460" y="5102"/>
                  <a:pt x="5432" y="5110"/>
                </a:cubicBezTo>
                <a:cubicBezTo>
                  <a:pt x="5345" y="5135"/>
                  <a:pt x="5226" y="5117"/>
                  <a:pt x="5135" y="5135"/>
                </a:cubicBezTo>
                <a:cubicBezTo>
                  <a:pt x="5127" y="5135"/>
                  <a:pt x="5118" y="5135"/>
                  <a:pt x="5110" y="5135"/>
                </a:cubicBezTo>
              </a:path>
              <a:path w="6252" h="2209">
                <a:moveTo>
                  <a:pt x="4911" y="5234"/>
                </a:moveTo>
                <a:cubicBezTo>
                  <a:pt x="4991" y="5270"/>
                  <a:pt x="5048" y="5283"/>
                  <a:pt x="5135" y="5283"/>
                </a:cubicBezTo>
                <a:cubicBezTo>
                  <a:pt x="5240" y="5283"/>
                  <a:pt x="5332" y="5297"/>
                  <a:pt x="5432" y="5308"/>
                </a:cubicBezTo>
                <a:cubicBezTo>
                  <a:pt x="5538" y="5320"/>
                  <a:pt x="5633" y="5305"/>
                  <a:pt x="5730" y="5283"/>
                </a:cubicBezTo>
                <a:cubicBezTo>
                  <a:pt x="5797" y="5268"/>
                  <a:pt x="5684" y="5283"/>
                  <a:pt x="5680" y="5283"/>
                </a:cubicBezTo>
              </a:path>
              <a:path w="6252" h="2209">
                <a:moveTo>
                  <a:pt x="5159" y="5556"/>
                </a:moveTo>
                <a:cubicBezTo>
                  <a:pt x="5143" y="5564"/>
                  <a:pt x="5126" y="5573"/>
                  <a:pt x="5110" y="5581"/>
                </a:cubicBezTo>
                <a:cubicBezTo>
                  <a:pt x="5141" y="5558"/>
                  <a:pt x="5170" y="5535"/>
                  <a:pt x="5209" y="5531"/>
                </a:cubicBezTo>
                <a:cubicBezTo>
                  <a:pt x="5254" y="5526"/>
                  <a:pt x="5286" y="5507"/>
                  <a:pt x="5333" y="5507"/>
                </a:cubicBezTo>
                <a:cubicBezTo>
                  <a:pt x="5373" y="5507"/>
                  <a:pt x="5413" y="5512"/>
                  <a:pt x="5432" y="5556"/>
                </a:cubicBezTo>
                <a:cubicBezTo>
                  <a:pt x="5452" y="5601"/>
                  <a:pt x="5424" y="5673"/>
                  <a:pt x="5407" y="5705"/>
                </a:cubicBezTo>
                <a:cubicBezTo>
                  <a:pt x="5352" y="5810"/>
                  <a:pt x="5311" y="5911"/>
                  <a:pt x="5234" y="6003"/>
                </a:cubicBezTo>
                <a:cubicBezTo>
                  <a:pt x="5179" y="6069"/>
                  <a:pt x="5112" y="6115"/>
                  <a:pt x="5060" y="6176"/>
                </a:cubicBezTo>
                <a:cubicBezTo>
                  <a:pt x="5038" y="6203"/>
                  <a:pt x="4969" y="6261"/>
                  <a:pt x="4936" y="6276"/>
                </a:cubicBezTo>
                <a:cubicBezTo>
                  <a:pt x="4877" y="6302"/>
                  <a:pt x="4929" y="6291"/>
                  <a:pt x="4936" y="6276"/>
                </a:cubicBezTo>
                <a:cubicBezTo>
                  <a:pt x="4955" y="6238"/>
                  <a:pt x="4992" y="6252"/>
                  <a:pt x="5035" y="6226"/>
                </a:cubicBezTo>
                <a:cubicBezTo>
                  <a:pt x="5085" y="6195"/>
                  <a:pt x="5119" y="6201"/>
                  <a:pt x="5184" y="6201"/>
                </a:cubicBezTo>
                <a:cubicBezTo>
                  <a:pt x="5215" y="6201"/>
                  <a:pt x="5301" y="6216"/>
                  <a:pt x="5333" y="6226"/>
                </a:cubicBezTo>
                <a:cubicBezTo>
                  <a:pt x="5384" y="6241"/>
                  <a:pt x="5437" y="6263"/>
                  <a:pt x="5482" y="6276"/>
                </a:cubicBezTo>
                <a:cubicBezTo>
                  <a:pt x="5514" y="6286"/>
                  <a:pt x="5575" y="6276"/>
                  <a:pt x="5606" y="6276"/>
                </a:cubicBezTo>
              </a:path>
              <a:path w="6252" h="2209">
                <a:moveTo>
                  <a:pt x="6548" y="4837"/>
                </a:moveTo>
                <a:cubicBezTo>
                  <a:pt x="6580" y="4826"/>
                  <a:pt x="6577" y="4782"/>
                  <a:pt x="6548" y="4762"/>
                </a:cubicBezTo>
                <a:cubicBezTo>
                  <a:pt x="6533" y="4752"/>
                  <a:pt x="6441" y="4687"/>
                  <a:pt x="6424" y="4688"/>
                </a:cubicBezTo>
                <a:cubicBezTo>
                  <a:pt x="6379" y="4692"/>
                  <a:pt x="6262" y="4710"/>
                  <a:pt x="6226" y="4738"/>
                </a:cubicBezTo>
                <a:cubicBezTo>
                  <a:pt x="6179" y="4775"/>
                  <a:pt x="6163" y="4797"/>
                  <a:pt x="6127" y="4837"/>
                </a:cubicBezTo>
                <a:cubicBezTo>
                  <a:pt x="6092" y="4876"/>
                  <a:pt x="6092" y="4897"/>
                  <a:pt x="6127" y="4936"/>
                </a:cubicBezTo>
                <a:cubicBezTo>
                  <a:pt x="6167" y="4980"/>
                  <a:pt x="6206" y="4985"/>
                  <a:pt x="6251" y="5011"/>
                </a:cubicBezTo>
                <a:cubicBezTo>
                  <a:pt x="6315" y="5048"/>
                  <a:pt x="6380" y="5077"/>
                  <a:pt x="6449" y="5110"/>
                </a:cubicBezTo>
                <a:cubicBezTo>
                  <a:pt x="6501" y="5135"/>
                  <a:pt x="6589" y="5187"/>
                  <a:pt x="6623" y="5234"/>
                </a:cubicBezTo>
                <a:cubicBezTo>
                  <a:pt x="6658" y="5282"/>
                  <a:pt x="6648" y="5328"/>
                  <a:pt x="6648" y="5383"/>
                </a:cubicBezTo>
                <a:cubicBezTo>
                  <a:pt x="6648" y="5430"/>
                  <a:pt x="6590" y="5468"/>
                  <a:pt x="6548" y="5482"/>
                </a:cubicBezTo>
                <a:cubicBezTo>
                  <a:pt x="6503" y="5497"/>
                  <a:pt x="6379" y="5528"/>
                  <a:pt x="6325" y="5507"/>
                </a:cubicBezTo>
                <a:cubicBezTo>
                  <a:pt x="6316" y="5504"/>
                  <a:pt x="6227" y="5458"/>
                  <a:pt x="6226" y="5457"/>
                </a:cubicBezTo>
                <a:cubicBezTo>
                  <a:pt x="6210" y="5433"/>
                  <a:pt x="6227" y="5370"/>
                  <a:pt x="6251" y="5358"/>
                </a:cubicBezTo>
                <a:cubicBezTo>
                  <a:pt x="6282" y="5343"/>
                  <a:pt x="6296" y="5337"/>
                  <a:pt x="6325" y="5308"/>
                </a:cubicBezTo>
              </a:path>
              <a:path w="6252" h="2209">
                <a:moveTo>
                  <a:pt x="6896" y="5011"/>
                </a:moveTo>
                <a:cubicBezTo>
                  <a:pt x="6878" y="5110"/>
                  <a:pt x="6871" y="5185"/>
                  <a:pt x="6871" y="5283"/>
                </a:cubicBezTo>
                <a:cubicBezTo>
                  <a:pt x="6871" y="5345"/>
                  <a:pt x="6861" y="5385"/>
                  <a:pt x="6896" y="5432"/>
                </a:cubicBezTo>
                <a:cubicBezTo>
                  <a:pt x="6896" y="5382"/>
                  <a:pt x="6896" y="5333"/>
                  <a:pt x="6896" y="5283"/>
                </a:cubicBezTo>
              </a:path>
              <a:path w="6252" h="2209">
                <a:moveTo>
                  <a:pt x="6970" y="4539"/>
                </a:moveTo>
                <a:cubicBezTo>
                  <a:pt x="6987" y="4539"/>
                  <a:pt x="7003" y="4539"/>
                  <a:pt x="7020" y="4539"/>
                </a:cubicBezTo>
              </a:path>
              <a:path w="6252" h="2209">
                <a:moveTo>
                  <a:pt x="7069" y="5209"/>
                </a:moveTo>
                <a:cubicBezTo>
                  <a:pt x="7069" y="5283"/>
                  <a:pt x="7069" y="5358"/>
                  <a:pt x="7069" y="5432"/>
                </a:cubicBezTo>
                <a:cubicBezTo>
                  <a:pt x="7080" y="5376"/>
                  <a:pt x="7094" y="5342"/>
                  <a:pt x="7094" y="5283"/>
                </a:cubicBezTo>
                <a:cubicBezTo>
                  <a:pt x="7094" y="5193"/>
                  <a:pt x="7119" y="5146"/>
                  <a:pt x="7144" y="5060"/>
                </a:cubicBezTo>
                <a:cubicBezTo>
                  <a:pt x="7177" y="4948"/>
                  <a:pt x="7184" y="4906"/>
                  <a:pt x="7268" y="4837"/>
                </a:cubicBezTo>
                <a:cubicBezTo>
                  <a:pt x="7327" y="4788"/>
                  <a:pt x="7327" y="4778"/>
                  <a:pt x="7392" y="4787"/>
                </a:cubicBezTo>
                <a:cubicBezTo>
                  <a:pt x="7506" y="4802"/>
                  <a:pt x="7523" y="4841"/>
                  <a:pt x="7565" y="4936"/>
                </a:cubicBezTo>
                <a:cubicBezTo>
                  <a:pt x="7605" y="5025"/>
                  <a:pt x="7615" y="5087"/>
                  <a:pt x="7615" y="5184"/>
                </a:cubicBezTo>
                <a:cubicBezTo>
                  <a:pt x="7615" y="5245"/>
                  <a:pt x="7615" y="5330"/>
                  <a:pt x="7590" y="5383"/>
                </a:cubicBezTo>
                <a:cubicBezTo>
                  <a:pt x="7573" y="5419"/>
                  <a:pt x="7572" y="5457"/>
                  <a:pt x="7541" y="5482"/>
                </a:cubicBezTo>
                <a:cubicBezTo>
                  <a:pt x="7510" y="5507"/>
                  <a:pt x="7496" y="5472"/>
                  <a:pt x="7491" y="5457"/>
                </a:cubicBezTo>
              </a:path>
              <a:path w="6252" h="2209">
                <a:moveTo>
                  <a:pt x="8062" y="4242"/>
                </a:moveTo>
                <a:cubicBezTo>
                  <a:pt x="8112" y="4165"/>
                  <a:pt x="8121" y="4206"/>
                  <a:pt x="8210" y="4192"/>
                </a:cubicBezTo>
                <a:cubicBezTo>
                  <a:pt x="8349" y="4171"/>
                  <a:pt x="8463" y="4192"/>
                  <a:pt x="8607" y="4192"/>
                </a:cubicBezTo>
                <a:cubicBezTo>
                  <a:pt x="8667" y="4192"/>
                  <a:pt x="8898" y="4216"/>
                  <a:pt x="8855" y="4167"/>
                </a:cubicBezTo>
                <a:cubicBezTo>
                  <a:pt x="8847" y="4159"/>
                  <a:pt x="8838" y="4150"/>
                  <a:pt x="8830" y="4142"/>
                </a:cubicBezTo>
              </a:path>
              <a:path w="6252" h="2209">
                <a:moveTo>
                  <a:pt x="8409" y="4192"/>
                </a:moveTo>
                <a:cubicBezTo>
                  <a:pt x="8368" y="4274"/>
                  <a:pt x="8359" y="4322"/>
                  <a:pt x="8359" y="4415"/>
                </a:cubicBezTo>
                <a:cubicBezTo>
                  <a:pt x="8359" y="4479"/>
                  <a:pt x="8357" y="4603"/>
                  <a:pt x="8334" y="4663"/>
                </a:cubicBezTo>
                <a:cubicBezTo>
                  <a:pt x="8318" y="4707"/>
                  <a:pt x="8332" y="4789"/>
                  <a:pt x="8285" y="4787"/>
                </a:cubicBezTo>
                <a:cubicBezTo>
                  <a:pt x="8257" y="4786"/>
                  <a:pt x="8293" y="4735"/>
                  <a:pt x="8310" y="4713"/>
                </a:cubicBezTo>
              </a:path>
              <a:path w="6252" h="2209">
                <a:moveTo>
                  <a:pt x="8607" y="4167"/>
                </a:moveTo>
                <a:cubicBezTo>
                  <a:pt x="8634" y="4231"/>
                  <a:pt x="8632" y="4270"/>
                  <a:pt x="8632" y="4341"/>
                </a:cubicBezTo>
                <a:cubicBezTo>
                  <a:pt x="8632" y="4460"/>
                  <a:pt x="8622" y="4584"/>
                  <a:pt x="8657" y="4688"/>
                </a:cubicBezTo>
                <a:cubicBezTo>
                  <a:pt x="8667" y="4719"/>
                  <a:pt x="8677" y="4795"/>
                  <a:pt x="8682" y="4762"/>
                </a:cubicBezTo>
                <a:cubicBezTo>
                  <a:pt x="8682" y="4746"/>
                  <a:pt x="8682" y="4729"/>
                  <a:pt x="8682" y="4713"/>
                </a:cubicBezTo>
              </a:path>
              <a:path w="6252" h="2209">
                <a:moveTo>
                  <a:pt x="8954" y="4390"/>
                </a:moveTo>
                <a:cubicBezTo>
                  <a:pt x="9019" y="4444"/>
                  <a:pt x="9002" y="4462"/>
                  <a:pt x="9029" y="4539"/>
                </a:cubicBezTo>
                <a:cubicBezTo>
                  <a:pt x="9046" y="4587"/>
                  <a:pt x="9072" y="4652"/>
                  <a:pt x="9103" y="4688"/>
                </a:cubicBezTo>
                <a:cubicBezTo>
                  <a:pt x="9129" y="4718"/>
                  <a:pt x="9168" y="4751"/>
                  <a:pt x="9203" y="4762"/>
                </a:cubicBezTo>
                <a:cubicBezTo>
                  <a:pt x="9240" y="4774"/>
                  <a:pt x="9244" y="4762"/>
                  <a:pt x="9252" y="4738"/>
                </a:cubicBezTo>
              </a:path>
              <a:path w="6252" h="2209">
                <a:moveTo>
                  <a:pt x="9277" y="4366"/>
                </a:moveTo>
                <a:cubicBezTo>
                  <a:pt x="9223" y="4465"/>
                  <a:pt x="9166" y="4501"/>
                  <a:pt x="9103" y="4589"/>
                </a:cubicBezTo>
                <a:cubicBezTo>
                  <a:pt x="9066" y="4641"/>
                  <a:pt x="9026" y="4666"/>
                  <a:pt x="8979" y="4713"/>
                </a:cubicBezTo>
                <a:cubicBezTo>
                  <a:pt x="8944" y="4748"/>
                  <a:pt x="8931" y="4749"/>
                  <a:pt x="8905" y="4787"/>
                </a:cubicBezTo>
                <a:cubicBezTo>
                  <a:pt x="8871" y="4821"/>
                  <a:pt x="8850" y="4829"/>
                  <a:pt x="8806" y="4812"/>
                </a:cubicBezTo>
              </a:path>
              <a:path w="6252" h="2209">
                <a:moveTo>
                  <a:pt x="8285" y="4911"/>
                </a:moveTo>
                <a:cubicBezTo>
                  <a:pt x="8355" y="4938"/>
                  <a:pt x="8407" y="4936"/>
                  <a:pt x="8483" y="4936"/>
                </a:cubicBezTo>
                <a:cubicBezTo>
                  <a:pt x="8628" y="4936"/>
                  <a:pt x="8765" y="4948"/>
                  <a:pt x="8905" y="4961"/>
                </a:cubicBezTo>
                <a:cubicBezTo>
                  <a:pt x="9030" y="4972"/>
                  <a:pt x="9158" y="4970"/>
                  <a:pt x="9277" y="4986"/>
                </a:cubicBezTo>
                <a:cubicBezTo>
                  <a:pt x="9335" y="4986"/>
                  <a:pt x="9343" y="4986"/>
                  <a:pt x="9376" y="4986"/>
                </a:cubicBezTo>
                <a:cubicBezTo>
                  <a:pt x="9333" y="4954"/>
                  <a:pt x="9337" y="4961"/>
                  <a:pt x="9277" y="4961"/>
                </a:cubicBezTo>
              </a:path>
              <a:path w="6252" h="2209">
                <a:moveTo>
                  <a:pt x="8607" y="5209"/>
                </a:moveTo>
                <a:cubicBezTo>
                  <a:pt x="8584" y="5266"/>
                  <a:pt x="8570" y="5316"/>
                  <a:pt x="8533" y="5358"/>
                </a:cubicBezTo>
                <a:cubicBezTo>
                  <a:pt x="8497" y="5399"/>
                  <a:pt x="8483" y="5402"/>
                  <a:pt x="8483" y="5457"/>
                </a:cubicBezTo>
                <a:cubicBezTo>
                  <a:pt x="8573" y="5457"/>
                  <a:pt x="8991" y="5509"/>
                  <a:pt x="9029" y="5432"/>
                </a:cubicBezTo>
                <a:cubicBezTo>
                  <a:pt x="9040" y="5409"/>
                  <a:pt x="9048" y="5384"/>
                  <a:pt x="9054" y="5358"/>
                </a:cubicBezTo>
              </a:path>
              <a:path w="6252" h="2209">
                <a:moveTo>
                  <a:pt x="8930" y="5085"/>
                </a:moveTo>
                <a:cubicBezTo>
                  <a:pt x="8891" y="5111"/>
                  <a:pt x="8905" y="5173"/>
                  <a:pt x="8905" y="5234"/>
                </a:cubicBezTo>
                <a:cubicBezTo>
                  <a:pt x="8905" y="5387"/>
                  <a:pt x="8898" y="5535"/>
                  <a:pt x="8880" y="5680"/>
                </a:cubicBezTo>
                <a:cubicBezTo>
                  <a:pt x="8866" y="5792"/>
                  <a:pt x="8880" y="5915"/>
                  <a:pt x="8880" y="60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32160" y="1465200"/>
            <a:ext cx="492120" cy="222480"/>
          </a:xfrm>
          <a:custGeom>
            <a:avLst/>
            <a:gdLst/>
            <a:ahLst/>
            <a:rect l="l" t="t" r="r" b="b"/>
            <a:pathLst>
              <a:path w="1366" h="621">
                <a:moveTo>
                  <a:pt x="12179" y="4316"/>
                </a:moveTo>
                <a:cubicBezTo>
                  <a:pt x="12179" y="4341"/>
                  <a:pt x="12179" y="4349"/>
                  <a:pt x="12204" y="4341"/>
                </a:cubicBezTo>
                <a:cubicBezTo>
                  <a:pt x="12193" y="4298"/>
                  <a:pt x="12166" y="4258"/>
                  <a:pt x="12154" y="4217"/>
                </a:cubicBezTo>
                <a:cubicBezTo>
                  <a:pt x="12143" y="4180"/>
                  <a:pt x="12132" y="4149"/>
                  <a:pt x="12105" y="4118"/>
                </a:cubicBezTo>
                <a:cubicBezTo>
                  <a:pt x="12082" y="4092"/>
                  <a:pt x="12038" y="4072"/>
                  <a:pt x="12005" y="4068"/>
                </a:cubicBezTo>
                <a:cubicBezTo>
                  <a:pt x="11973" y="4064"/>
                  <a:pt x="11929" y="4098"/>
                  <a:pt x="11906" y="4118"/>
                </a:cubicBezTo>
                <a:cubicBezTo>
                  <a:pt x="11863" y="4156"/>
                  <a:pt x="11834" y="4192"/>
                  <a:pt x="11807" y="4242"/>
                </a:cubicBezTo>
                <a:cubicBezTo>
                  <a:pt x="11781" y="4290"/>
                  <a:pt x="11750" y="4360"/>
                  <a:pt x="11757" y="4415"/>
                </a:cubicBezTo>
                <a:cubicBezTo>
                  <a:pt x="11772" y="4539"/>
                  <a:pt x="11796" y="4592"/>
                  <a:pt x="11881" y="4663"/>
                </a:cubicBezTo>
                <a:cubicBezTo>
                  <a:pt x="11940" y="4713"/>
                  <a:pt x="11967" y="4679"/>
                  <a:pt x="12030" y="4663"/>
                </a:cubicBezTo>
                <a:cubicBezTo>
                  <a:pt x="12072" y="4652"/>
                  <a:pt x="12127" y="4606"/>
                  <a:pt x="12154" y="4564"/>
                </a:cubicBezTo>
                <a:cubicBezTo>
                  <a:pt x="12186" y="4514"/>
                  <a:pt x="12241" y="4449"/>
                  <a:pt x="12254" y="4390"/>
                </a:cubicBezTo>
                <a:cubicBezTo>
                  <a:pt x="12267" y="4331"/>
                  <a:pt x="12314" y="4274"/>
                  <a:pt x="12328" y="4242"/>
                </a:cubicBezTo>
                <a:cubicBezTo>
                  <a:pt x="12348" y="4196"/>
                  <a:pt x="12328" y="4264"/>
                  <a:pt x="12328" y="4291"/>
                </a:cubicBezTo>
                <a:cubicBezTo>
                  <a:pt x="12328" y="4354"/>
                  <a:pt x="12322" y="4406"/>
                  <a:pt x="12353" y="4465"/>
                </a:cubicBezTo>
                <a:cubicBezTo>
                  <a:pt x="12368" y="4492"/>
                  <a:pt x="12394" y="4549"/>
                  <a:pt x="12427" y="4564"/>
                </a:cubicBezTo>
                <a:cubicBezTo>
                  <a:pt x="12460" y="4579"/>
                  <a:pt x="12485" y="4589"/>
                  <a:pt x="12526" y="4589"/>
                </a:cubicBezTo>
                <a:cubicBezTo>
                  <a:pt x="12534" y="4589"/>
                  <a:pt x="12543" y="4589"/>
                  <a:pt x="12551" y="4589"/>
                </a:cubicBezTo>
              </a:path>
              <a:path w="1366" h="621">
                <a:moveTo>
                  <a:pt x="12774" y="4266"/>
                </a:moveTo>
                <a:cubicBezTo>
                  <a:pt x="12818" y="4299"/>
                  <a:pt x="12840" y="4291"/>
                  <a:pt x="12898" y="4291"/>
                </a:cubicBezTo>
                <a:cubicBezTo>
                  <a:pt x="12973" y="4291"/>
                  <a:pt x="13164" y="4349"/>
                  <a:pt x="13097" y="4316"/>
                </a:cubicBezTo>
                <a:cubicBezTo>
                  <a:pt x="13089" y="4308"/>
                  <a:pt x="13080" y="4299"/>
                  <a:pt x="13072" y="4291"/>
                </a:cubicBezTo>
              </a:path>
              <a:path w="1366" h="621">
                <a:moveTo>
                  <a:pt x="12750" y="4514"/>
                </a:moveTo>
                <a:cubicBezTo>
                  <a:pt x="12840" y="4514"/>
                  <a:pt x="12920" y="4513"/>
                  <a:pt x="12998" y="4490"/>
                </a:cubicBezTo>
                <a:cubicBezTo>
                  <a:pt x="13024" y="4482"/>
                  <a:pt x="13159" y="4490"/>
                  <a:pt x="13097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29120" y="1214280"/>
            <a:ext cx="322200" cy="758880"/>
          </a:xfrm>
          <a:custGeom>
            <a:avLst/>
            <a:gdLst/>
            <a:ahLst/>
            <a:rect l="l" t="t" r="r" b="b"/>
            <a:pathLst>
              <a:path w="894" h="2110">
                <a:moveTo>
                  <a:pt x="13767" y="3373"/>
                </a:moveTo>
                <a:cubicBezTo>
                  <a:pt x="13781" y="3416"/>
                  <a:pt x="13837" y="3420"/>
                  <a:pt x="13891" y="3423"/>
                </a:cubicBezTo>
                <a:cubicBezTo>
                  <a:pt x="13966" y="3427"/>
                  <a:pt x="14018" y="3402"/>
                  <a:pt x="14089" y="3398"/>
                </a:cubicBezTo>
                <a:cubicBezTo>
                  <a:pt x="14143" y="3395"/>
                  <a:pt x="14248" y="3425"/>
                  <a:pt x="14213" y="3373"/>
                </a:cubicBezTo>
              </a:path>
              <a:path w="894" h="2110">
                <a:moveTo>
                  <a:pt x="13791" y="3473"/>
                </a:moveTo>
                <a:cubicBezTo>
                  <a:pt x="13782" y="3537"/>
                  <a:pt x="13757" y="3581"/>
                  <a:pt x="13742" y="3646"/>
                </a:cubicBezTo>
                <a:cubicBezTo>
                  <a:pt x="13732" y="3689"/>
                  <a:pt x="13717" y="3724"/>
                  <a:pt x="13717" y="3770"/>
                </a:cubicBezTo>
                <a:cubicBezTo>
                  <a:pt x="13717" y="3826"/>
                  <a:pt x="13692" y="3840"/>
                  <a:pt x="13692" y="3894"/>
                </a:cubicBezTo>
                <a:cubicBezTo>
                  <a:pt x="13734" y="3894"/>
                  <a:pt x="13743" y="3888"/>
                  <a:pt x="13767" y="3870"/>
                </a:cubicBezTo>
                <a:cubicBezTo>
                  <a:pt x="13822" y="3828"/>
                  <a:pt x="13916" y="3824"/>
                  <a:pt x="13990" y="3820"/>
                </a:cubicBezTo>
                <a:cubicBezTo>
                  <a:pt x="14043" y="3817"/>
                  <a:pt x="14150" y="3853"/>
                  <a:pt x="14188" y="3894"/>
                </a:cubicBezTo>
                <a:cubicBezTo>
                  <a:pt x="14224" y="3933"/>
                  <a:pt x="14282" y="3995"/>
                  <a:pt x="14312" y="4043"/>
                </a:cubicBezTo>
                <a:cubicBezTo>
                  <a:pt x="14333" y="4075"/>
                  <a:pt x="14362" y="4142"/>
                  <a:pt x="14312" y="4167"/>
                </a:cubicBezTo>
                <a:cubicBezTo>
                  <a:pt x="14277" y="4185"/>
                  <a:pt x="14224" y="4206"/>
                  <a:pt x="14188" y="4217"/>
                </a:cubicBezTo>
                <a:cubicBezTo>
                  <a:pt x="14121" y="4237"/>
                  <a:pt x="14058" y="4226"/>
                  <a:pt x="13990" y="4242"/>
                </a:cubicBezTo>
                <a:cubicBezTo>
                  <a:pt x="13949" y="4262"/>
                  <a:pt x="13943" y="4270"/>
                  <a:pt x="13915" y="4266"/>
                </a:cubicBezTo>
              </a:path>
              <a:path w="894" h="2110">
                <a:moveTo>
                  <a:pt x="13717" y="4316"/>
                </a:moveTo>
                <a:cubicBezTo>
                  <a:pt x="13844" y="4316"/>
                  <a:pt x="13945" y="4336"/>
                  <a:pt x="14064" y="4341"/>
                </a:cubicBezTo>
                <a:cubicBezTo>
                  <a:pt x="14162" y="4345"/>
                  <a:pt x="14243" y="4352"/>
                  <a:pt x="14337" y="4366"/>
                </a:cubicBezTo>
                <a:cubicBezTo>
                  <a:pt x="14409" y="4376"/>
                  <a:pt x="14473" y="4372"/>
                  <a:pt x="14536" y="4390"/>
                </a:cubicBezTo>
                <a:cubicBezTo>
                  <a:pt x="14575" y="4402"/>
                  <a:pt x="14575" y="4399"/>
                  <a:pt x="14585" y="4440"/>
                </a:cubicBezTo>
              </a:path>
              <a:path w="894" h="2110">
                <a:moveTo>
                  <a:pt x="14039" y="4663"/>
                </a:moveTo>
                <a:cubicBezTo>
                  <a:pt x="14020" y="4721"/>
                  <a:pt x="14012" y="4764"/>
                  <a:pt x="14015" y="4713"/>
                </a:cubicBezTo>
                <a:cubicBezTo>
                  <a:pt x="14015" y="4660"/>
                  <a:pt x="14026" y="4652"/>
                  <a:pt x="14064" y="4614"/>
                </a:cubicBezTo>
                <a:cubicBezTo>
                  <a:pt x="14105" y="4573"/>
                  <a:pt x="14155" y="4548"/>
                  <a:pt x="14213" y="4539"/>
                </a:cubicBezTo>
                <a:cubicBezTo>
                  <a:pt x="14267" y="4531"/>
                  <a:pt x="14315" y="4537"/>
                  <a:pt x="14362" y="4564"/>
                </a:cubicBezTo>
                <a:cubicBezTo>
                  <a:pt x="14416" y="4595"/>
                  <a:pt x="14405" y="4642"/>
                  <a:pt x="14436" y="4688"/>
                </a:cubicBezTo>
                <a:cubicBezTo>
                  <a:pt x="14465" y="4730"/>
                  <a:pt x="14477" y="4807"/>
                  <a:pt x="14461" y="4862"/>
                </a:cubicBezTo>
                <a:cubicBezTo>
                  <a:pt x="14440" y="4937"/>
                  <a:pt x="14433" y="5041"/>
                  <a:pt x="14387" y="5110"/>
                </a:cubicBezTo>
                <a:cubicBezTo>
                  <a:pt x="14339" y="5181"/>
                  <a:pt x="14275" y="5246"/>
                  <a:pt x="14213" y="5308"/>
                </a:cubicBezTo>
                <a:cubicBezTo>
                  <a:pt x="14158" y="5362"/>
                  <a:pt x="14111" y="5426"/>
                  <a:pt x="14039" y="5457"/>
                </a:cubicBezTo>
                <a:cubicBezTo>
                  <a:pt x="13950" y="5496"/>
                  <a:pt x="13935" y="5476"/>
                  <a:pt x="13866" y="5457"/>
                </a:cubicBezTo>
                <a:cubicBezTo>
                  <a:pt x="13817" y="5443"/>
                  <a:pt x="13772" y="5396"/>
                  <a:pt x="13791" y="5333"/>
                </a:cubicBezTo>
                <a:cubicBezTo>
                  <a:pt x="13805" y="5289"/>
                  <a:pt x="13884" y="5257"/>
                  <a:pt x="13915" y="5234"/>
                </a:cubicBezTo>
                <a:cubicBezTo>
                  <a:pt x="13951" y="5207"/>
                  <a:pt x="14039" y="5173"/>
                  <a:pt x="14089" y="5184"/>
                </a:cubicBezTo>
                <a:cubicBezTo>
                  <a:pt x="14132" y="5193"/>
                  <a:pt x="14205" y="5212"/>
                  <a:pt x="14238" y="5234"/>
                </a:cubicBezTo>
                <a:cubicBezTo>
                  <a:pt x="14272" y="5257"/>
                  <a:pt x="14308" y="5295"/>
                  <a:pt x="14312" y="5333"/>
                </a:cubicBezTo>
                <a:cubicBezTo>
                  <a:pt x="14312" y="5358"/>
                  <a:pt x="14312" y="5366"/>
                  <a:pt x="14288" y="53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3840" y="1098720"/>
            <a:ext cx="2697120" cy="1089000"/>
          </a:xfrm>
          <a:custGeom>
            <a:avLst/>
            <a:gdLst/>
            <a:ahLst/>
            <a:rect l="l" t="t" r="r" b="b"/>
            <a:pathLst>
              <a:path w="7492" h="3027">
                <a:moveTo>
                  <a:pt x="16768" y="4266"/>
                </a:moveTo>
                <a:cubicBezTo>
                  <a:pt x="16752" y="4396"/>
                  <a:pt x="16743" y="4509"/>
                  <a:pt x="16743" y="4638"/>
                </a:cubicBezTo>
                <a:cubicBezTo>
                  <a:pt x="16743" y="4737"/>
                  <a:pt x="16733" y="4819"/>
                  <a:pt x="16718" y="4911"/>
                </a:cubicBezTo>
                <a:cubicBezTo>
                  <a:pt x="16714" y="4935"/>
                  <a:pt x="16721" y="4962"/>
                  <a:pt x="16718" y="4986"/>
                </a:cubicBezTo>
                <a:cubicBezTo>
                  <a:pt x="16695" y="4934"/>
                  <a:pt x="16687" y="4868"/>
                  <a:pt x="16669" y="4812"/>
                </a:cubicBezTo>
                <a:cubicBezTo>
                  <a:pt x="16643" y="4729"/>
                  <a:pt x="16623" y="4654"/>
                  <a:pt x="16619" y="4564"/>
                </a:cubicBezTo>
                <a:cubicBezTo>
                  <a:pt x="16615" y="4479"/>
                  <a:pt x="16594" y="4404"/>
                  <a:pt x="16594" y="4316"/>
                </a:cubicBezTo>
                <a:cubicBezTo>
                  <a:pt x="16594" y="4216"/>
                  <a:pt x="16605" y="4138"/>
                  <a:pt x="16619" y="4043"/>
                </a:cubicBezTo>
                <a:cubicBezTo>
                  <a:pt x="16632" y="3956"/>
                  <a:pt x="16659" y="3866"/>
                  <a:pt x="16718" y="3795"/>
                </a:cubicBezTo>
                <a:cubicBezTo>
                  <a:pt x="16755" y="3751"/>
                  <a:pt x="16831" y="3689"/>
                  <a:pt x="16892" y="3696"/>
                </a:cubicBezTo>
                <a:cubicBezTo>
                  <a:pt x="16955" y="3703"/>
                  <a:pt x="17040" y="3759"/>
                  <a:pt x="17090" y="3795"/>
                </a:cubicBezTo>
                <a:cubicBezTo>
                  <a:pt x="17149" y="3837"/>
                  <a:pt x="17154" y="3929"/>
                  <a:pt x="17140" y="3994"/>
                </a:cubicBezTo>
                <a:cubicBezTo>
                  <a:pt x="17125" y="4065"/>
                  <a:pt x="17092" y="4091"/>
                  <a:pt x="17041" y="4142"/>
                </a:cubicBezTo>
                <a:cubicBezTo>
                  <a:pt x="16991" y="4192"/>
                  <a:pt x="16954" y="4234"/>
                  <a:pt x="16892" y="4266"/>
                </a:cubicBezTo>
                <a:cubicBezTo>
                  <a:pt x="16874" y="4275"/>
                  <a:pt x="16785" y="4343"/>
                  <a:pt x="16768" y="4341"/>
                </a:cubicBezTo>
                <a:cubicBezTo>
                  <a:pt x="16699" y="4334"/>
                  <a:pt x="16769" y="4321"/>
                  <a:pt x="16793" y="4316"/>
                </a:cubicBezTo>
              </a:path>
              <a:path w="7492" h="3027">
                <a:moveTo>
                  <a:pt x="17512" y="4217"/>
                </a:moveTo>
                <a:cubicBezTo>
                  <a:pt x="17549" y="4245"/>
                  <a:pt x="17585" y="4252"/>
                  <a:pt x="17636" y="4242"/>
                </a:cubicBezTo>
                <a:cubicBezTo>
                  <a:pt x="17719" y="4225"/>
                  <a:pt x="17777" y="4217"/>
                  <a:pt x="17859" y="4217"/>
                </a:cubicBezTo>
                <a:cubicBezTo>
                  <a:pt x="17876" y="4217"/>
                  <a:pt x="17996" y="4192"/>
                  <a:pt x="17934" y="4192"/>
                </a:cubicBezTo>
                <a:cubicBezTo>
                  <a:pt x="17926" y="4192"/>
                  <a:pt x="17917" y="4192"/>
                  <a:pt x="17909" y="4192"/>
                </a:cubicBezTo>
              </a:path>
              <a:path w="7492" h="3027">
                <a:moveTo>
                  <a:pt x="17462" y="4465"/>
                </a:moveTo>
                <a:cubicBezTo>
                  <a:pt x="17500" y="4494"/>
                  <a:pt x="17513" y="4490"/>
                  <a:pt x="17562" y="4490"/>
                </a:cubicBezTo>
                <a:cubicBezTo>
                  <a:pt x="17631" y="4490"/>
                  <a:pt x="17687" y="4465"/>
                  <a:pt x="17760" y="4465"/>
                </a:cubicBezTo>
                <a:cubicBezTo>
                  <a:pt x="17825" y="4465"/>
                  <a:pt x="17998" y="4454"/>
                  <a:pt x="17983" y="4465"/>
                </a:cubicBezTo>
                <a:cubicBezTo>
                  <a:pt x="17975" y="4473"/>
                  <a:pt x="17967" y="4482"/>
                  <a:pt x="17959" y="4490"/>
                </a:cubicBezTo>
              </a:path>
              <a:path w="7492" h="3027">
                <a:moveTo>
                  <a:pt x="18479" y="3200"/>
                </a:moveTo>
                <a:cubicBezTo>
                  <a:pt x="18479" y="3147"/>
                  <a:pt x="18491" y="3139"/>
                  <a:pt x="18529" y="3101"/>
                </a:cubicBezTo>
                <a:cubicBezTo>
                  <a:pt x="18573" y="3058"/>
                  <a:pt x="18609" y="3067"/>
                  <a:pt x="18653" y="3076"/>
                </a:cubicBezTo>
                <a:cubicBezTo>
                  <a:pt x="18699" y="3085"/>
                  <a:pt x="18721" y="3077"/>
                  <a:pt x="18752" y="3125"/>
                </a:cubicBezTo>
                <a:cubicBezTo>
                  <a:pt x="18799" y="3198"/>
                  <a:pt x="18824" y="3264"/>
                  <a:pt x="18827" y="3349"/>
                </a:cubicBezTo>
                <a:cubicBezTo>
                  <a:pt x="18832" y="3489"/>
                  <a:pt x="18838" y="3634"/>
                  <a:pt x="18802" y="3770"/>
                </a:cubicBezTo>
                <a:cubicBezTo>
                  <a:pt x="18774" y="3874"/>
                  <a:pt x="18766" y="3966"/>
                  <a:pt x="18728" y="4068"/>
                </a:cubicBezTo>
                <a:cubicBezTo>
                  <a:pt x="18700" y="4144"/>
                  <a:pt x="18689" y="4214"/>
                  <a:pt x="18604" y="4242"/>
                </a:cubicBezTo>
                <a:cubicBezTo>
                  <a:pt x="18563" y="4256"/>
                  <a:pt x="18525" y="4225"/>
                  <a:pt x="18504" y="4192"/>
                </a:cubicBezTo>
                <a:cubicBezTo>
                  <a:pt x="18483" y="4160"/>
                  <a:pt x="18448" y="4055"/>
                  <a:pt x="18455" y="4018"/>
                </a:cubicBezTo>
                <a:cubicBezTo>
                  <a:pt x="18476" y="3911"/>
                  <a:pt x="18476" y="3903"/>
                  <a:pt x="18554" y="3845"/>
                </a:cubicBezTo>
                <a:cubicBezTo>
                  <a:pt x="18658" y="3768"/>
                  <a:pt x="18647" y="3784"/>
                  <a:pt x="18802" y="3870"/>
                </a:cubicBezTo>
                <a:cubicBezTo>
                  <a:pt x="18851" y="3897"/>
                  <a:pt x="18865" y="3995"/>
                  <a:pt x="18876" y="4043"/>
                </a:cubicBezTo>
                <a:cubicBezTo>
                  <a:pt x="18885" y="4083"/>
                  <a:pt x="18868" y="4131"/>
                  <a:pt x="18901" y="4093"/>
                </a:cubicBezTo>
                <a:cubicBezTo>
                  <a:pt x="18909" y="4085"/>
                  <a:pt x="18918" y="4076"/>
                  <a:pt x="18926" y="4068"/>
                </a:cubicBezTo>
              </a:path>
              <a:path w="7492" h="3027">
                <a:moveTo>
                  <a:pt x="19025" y="3349"/>
                </a:moveTo>
                <a:cubicBezTo>
                  <a:pt x="19079" y="3342"/>
                  <a:pt x="19120" y="3324"/>
                  <a:pt x="19174" y="3324"/>
                </a:cubicBezTo>
                <a:cubicBezTo>
                  <a:pt x="19243" y="3324"/>
                  <a:pt x="19528" y="3354"/>
                  <a:pt x="19546" y="3299"/>
                </a:cubicBezTo>
              </a:path>
              <a:path w="7492" h="3027">
                <a:moveTo>
                  <a:pt x="19248" y="3423"/>
                </a:moveTo>
                <a:cubicBezTo>
                  <a:pt x="19248" y="3548"/>
                  <a:pt x="19242" y="3654"/>
                  <a:pt x="19224" y="3770"/>
                </a:cubicBezTo>
                <a:cubicBezTo>
                  <a:pt x="19215" y="3832"/>
                  <a:pt x="19186" y="4114"/>
                  <a:pt x="19248" y="3944"/>
                </a:cubicBezTo>
              </a:path>
              <a:path w="7492" h="3027">
                <a:moveTo>
                  <a:pt x="19447" y="3274"/>
                </a:moveTo>
                <a:cubicBezTo>
                  <a:pt x="19419" y="3397"/>
                  <a:pt x="19385" y="3523"/>
                  <a:pt x="19372" y="3646"/>
                </a:cubicBezTo>
                <a:cubicBezTo>
                  <a:pt x="19362" y="3738"/>
                  <a:pt x="19383" y="3811"/>
                  <a:pt x="19397" y="3894"/>
                </a:cubicBezTo>
                <a:cubicBezTo>
                  <a:pt x="19414" y="3995"/>
                  <a:pt x="19424" y="4001"/>
                  <a:pt x="19496" y="4043"/>
                </a:cubicBezTo>
                <a:cubicBezTo>
                  <a:pt x="19534" y="4065"/>
                  <a:pt x="19557" y="4108"/>
                  <a:pt x="19571" y="4142"/>
                </a:cubicBezTo>
              </a:path>
              <a:path w="7492" h="3027">
                <a:moveTo>
                  <a:pt x="18479" y="4366"/>
                </a:moveTo>
                <a:cubicBezTo>
                  <a:pt x="18575" y="4391"/>
                  <a:pt x="18654" y="4388"/>
                  <a:pt x="18752" y="4366"/>
                </a:cubicBezTo>
                <a:cubicBezTo>
                  <a:pt x="18871" y="4340"/>
                  <a:pt x="19002" y="4305"/>
                  <a:pt x="19124" y="4291"/>
                </a:cubicBezTo>
                <a:cubicBezTo>
                  <a:pt x="19260" y="4276"/>
                  <a:pt x="19387" y="4235"/>
                  <a:pt x="19521" y="4217"/>
                </a:cubicBezTo>
                <a:cubicBezTo>
                  <a:pt x="19522" y="4217"/>
                  <a:pt x="19686" y="4220"/>
                  <a:pt x="19596" y="4242"/>
                </a:cubicBezTo>
                <a:cubicBezTo>
                  <a:pt x="19579" y="4242"/>
                  <a:pt x="19563" y="4242"/>
                  <a:pt x="19546" y="4242"/>
                </a:cubicBezTo>
              </a:path>
              <a:path w="7492" h="3027">
                <a:moveTo>
                  <a:pt x="18628" y="4887"/>
                </a:moveTo>
                <a:cubicBezTo>
                  <a:pt x="18674" y="4841"/>
                  <a:pt x="18700" y="4847"/>
                  <a:pt x="18752" y="4812"/>
                </a:cubicBezTo>
                <a:cubicBezTo>
                  <a:pt x="18807" y="4775"/>
                  <a:pt x="18905" y="4766"/>
                  <a:pt x="18976" y="4762"/>
                </a:cubicBezTo>
                <a:cubicBezTo>
                  <a:pt x="19061" y="4757"/>
                  <a:pt x="19137" y="4738"/>
                  <a:pt x="19224" y="4738"/>
                </a:cubicBezTo>
                <a:cubicBezTo>
                  <a:pt x="19280" y="4738"/>
                  <a:pt x="19317" y="4713"/>
                  <a:pt x="19372" y="4713"/>
                </a:cubicBezTo>
                <a:cubicBezTo>
                  <a:pt x="19397" y="4713"/>
                  <a:pt x="19405" y="4713"/>
                  <a:pt x="19372" y="4713"/>
                </a:cubicBezTo>
              </a:path>
              <a:path w="7492" h="3027">
                <a:moveTo>
                  <a:pt x="18951" y="4961"/>
                </a:moveTo>
                <a:cubicBezTo>
                  <a:pt x="18968" y="5038"/>
                  <a:pt x="18981" y="5117"/>
                  <a:pt x="19000" y="5184"/>
                </a:cubicBezTo>
                <a:cubicBezTo>
                  <a:pt x="19012" y="5225"/>
                  <a:pt x="19028" y="5254"/>
                  <a:pt x="19075" y="5259"/>
                </a:cubicBezTo>
                <a:cubicBezTo>
                  <a:pt x="19111" y="5263"/>
                  <a:pt x="19126" y="5233"/>
                  <a:pt x="19149" y="5209"/>
                </a:cubicBezTo>
              </a:path>
              <a:path w="7492" h="3027">
                <a:moveTo>
                  <a:pt x="19323" y="4862"/>
                </a:moveTo>
                <a:cubicBezTo>
                  <a:pt x="19344" y="4955"/>
                  <a:pt x="19372" y="5041"/>
                  <a:pt x="19372" y="5135"/>
                </a:cubicBezTo>
                <a:cubicBezTo>
                  <a:pt x="19372" y="5166"/>
                  <a:pt x="19381" y="5206"/>
                  <a:pt x="19397" y="5234"/>
                </a:cubicBezTo>
                <a:cubicBezTo>
                  <a:pt x="19420" y="5257"/>
                  <a:pt x="19428" y="5268"/>
                  <a:pt x="19422" y="5234"/>
                </a:cubicBezTo>
              </a:path>
              <a:path w="7492" h="3027">
                <a:moveTo>
                  <a:pt x="19695" y="4762"/>
                </a:moveTo>
                <a:cubicBezTo>
                  <a:pt x="19630" y="4907"/>
                  <a:pt x="19589" y="5068"/>
                  <a:pt x="19521" y="5209"/>
                </a:cubicBezTo>
                <a:cubicBezTo>
                  <a:pt x="19463" y="5330"/>
                  <a:pt x="19406" y="5423"/>
                  <a:pt x="19372" y="5556"/>
                </a:cubicBezTo>
                <a:cubicBezTo>
                  <a:pt x="19343" y="5670"/>
                  <a:pt x="19285" y="5766"/>
                  <a:pt x="19248" y="5879"/>
                </a:cubicBezTo>
                <a:cubicBezTo>
                  <a:pt x="19225" y="5948"/>
                  <a:pt x="19198" y="6146"/>
                  <a:pt x="19174" y="6077"/>
                </a:cubicBezTo>
                <a:cubicBezTo>
                  <a:pt x="19161" y="6040"/>
                  <a:pt x="19183" y="6029"/>
                  <a:pt x="19199" y="6003"/>
                </a:cubicBezTo>
              </a:path>
              <a:path w="7492" h="3027">
                <a:moveTo>
                  <a:pt x="19621" y="5507"/>
                </a:moveTo>
                <a:cubicBezTo>
                  <a:pt x="19613" y="5585"/>
                  <a:pt x="19591" y="5614"/>
                  <a:pt x="19571" y="5680"/>
                </a:cubicBezTo>
                <a:cubicBezTo>
                  <a:pt x="19563" y="5707"/>
                  <a:pt x="19571" y="5750"/>
                  <a:pt x="19571" y="5779"/>
                </a:cubicBezTo>
                <a:cubicBezTo>
                  <a:pt x="19636" y="5779"/>
                  <a:pt x="19685" y="5765"/>
                  <a:pt x="19745" y="5755"/>
                </a:cubicBezTo>
                <a:cubicBezTo>
                  <a:pt x="19795" y="5747"/>
                  <a:pt x="19872" y="5726"/>
                  <a:pt x="19918" y="5705"/>
                </a:cubicBezTo>
                <a:cubicBezTo>
                  <a:pt x="19926" y="5697"/>
                  <a:pt x="19935" y="5688"/>
                  <a:pt x="19943" y="5680"/>
                </a:cubicBezTo>
              </a:path>
              <a:path w="7492" h="3027">
                <a:moveTo>
                  <a:pt x="19918" y="5407"/>
                </a:moveTo>
                <a:cubicBezTo>
                  <a:pt x="19935" y="5559"/>
                  <a:pt x="19943" y="5702"/>
                  <a:pt x="19943" y="5854"/>
                </a:cubicBezTo>
                <a:cubicBezTo>
                  <a:pt x="19943" y="5928"/>
                  <a:pt x="19943" y="6003"/>
                  <a:pt x="19943" y="6077"/>
                </a:cubicBezTo>
                <a:cubicBezTo>
                  <a:pt x="19930" y="6039"/>
                  <a:pt x="19918" y="6057"/>
                  <a:pt x="19918" y="6003"/>
                </a:cubicBezTo>
                <a:cubicBezTo>
                  <a:pt x="19918" y="5995"/>
                  <a:pt x="19918" y="5986"/>
                  <a:pt x="19918" y="5978"/>
                </a:cubicBezTo>
              </a:path>
              <a:path w="7492" h="3027">
                <a:moveTo>
                  <a:pt x="19794" y="4415"/>
                </a:moveTo>
                <a:cubicBezTo>
                  <a:pt x="19843" y="4378"/>
                  <a:pt x="19876" y="4390"/>
                  <a:pt x="19943" y="4390"/>
                </a:cubicBezTo>
                <a:cubicBezTo>
                  <a:pt x="19984" y="4390"/>
                  <a:pt x="20026" y="4390"/>
                  <a:pt x="20067" y="4390"/>
                </a:cubicBezTo>
              </a:path>
              <a:path w="7492" h="3027">
                <a:moveTo>
                  <a:pt x="19844" y="4663"/>
                </a:moveTo>
                <a:cubicBezTo>
                  <a:pt x="19897" y="4656"/>
                  <a:pt x="19939" y="4638"/>
                  <a:pt x="19993" y="4638"/>
                </a:cubicBezTo>
                <a:cubicBezTo>
                  <a:pt x="20015" y="4638"/>
                  <a:pt x="20098" y="4624"/>
                  <a:pt x="20117" y="4614"/>
                </a:cubicBezTo>
                <a:cubicBezTo>
                  <a:pt x="20139" y="4591"/>
                  <a:pt x="20147" y="4586"/>
                  <a:pt x="20141" y="4564"/>
                </a:cubicBezTo>
              </a:path>
              <a:path w="7492" h="3027">
                <a:moveTo>
                  <a:pt x="20588" y="3597"/>
                </a:moveTo>
                <a:cubicBezTo>
                  <a:pt x="20633" y="3563"/>
                  <a:pt x="20695" y="3519"/>
                  <a:pt x="20762" y="3547"/>
                </a:cubicBezTo>
                <a:cubicBezTo>
                  <a:pt x="20815" y="3569"/>
                  <a:pt x="20854" y="3674"/>
                  <a:pt x="20861" y="3721"/>
                </a:cubicBezTo>
                <a:cubicBezTo>
                  <a:pt x="20880" y="3843"/>
                  <a:pt x="20869" y="4002"/>
                  <a:pt x="20836" y="4118"/>
                </a:cubicBezTo>
                <a:cubicBezTo>
                  <a:pt x="20800" y="4243"/>
                  <a:pt x="20741" y="4360"/>
                  <a:pt x="20662" y="4465"/>
                </a:cubicBezTo>
                <a:cubicBezTo>
                  <a:pt x="20622" y="4519"/>
                  <a:pt x="20581" y="4591"/>
                  <a:pt x="20513" y="4614"/>
                </a:cubicBezTo>
                <a:cubicBezTo>
                  <a:pt x="20458" y="4633"/>
                  <a:pt x="20458" y="4592"/>
                  <a:pt x="20439" y="4564"/>
                </a:cubicBezTo>
                <a:cubicBezTo>
                  <a:pt x="20395" y="4498"/>
                  <a:pt x="20422" y="4485"/>
                  <a:pt x="20439" y="4415"/>
                </a:cubicBezTo>
                <a:cubicBezTo>
                  <a:pt x="20447" y="4382"/>
                  <a:pt x="20503" y="4353"/>
                  <a:pt x="20538" y="4341"/>
                </a:cubicBezTo>
                <a:cubicBezTo>
                  <a:pt x="20576" y="4328"/>
                  <a:pt x="20632" y="4346"/>
                  <a:pt x="20662" y="4366"/>
                </a:cubicBezTo>
                <a:cubicBezTo>
                  <a:pt x="20723" y="4406"/>
                  <a:pt x="20731" y="4462"/>
                  <a:pt x="20762" y="4514"/>
                </a:cubicBezTo>
                <a:cubicBezTo>
                  <a:pt x="20774" y="4535"/>
                  <a:pt x="20775" y="4630"/>
                  <a:pt x="20786" y="4638"/>
                </a:cubicBezTo>
                <a:cubicBezTo>
                  <a:pt x="20819" y="4663"/>
                  <a:pt x="20811" y="4580"/>
                  <a:pt x="20811" y="4539"/>
                </a:cubicBezTo>
              </a:path>
              <a:path w="7492" h="3027">
                <a:moveTo>
                  <a:pt x="21034" y="3795"/>
                </a:moveTo>
                <a:cubicBezTo>
                  <a:pt x="21164" y="3750"/>
                  <a:pt x="21237" y="3750"/>
                  <a:pt x="21357" y="3721"/>
                </a:cubicBezTo>
                <a:cubicBezTo>
                  <a:pt x="21419" y="3706"/>
                  <a:pt x="21494" y="3713"/>
                  <a:pt x="21555" y="3696"/>
                </a:cubicBezTo>
                <a:cubicBezTo>
                  <a:pt x="21672" y="3663"/>
                  <a:pt x="21600" y="3672"/>
                  <a:pt x="21530" y="3646"/>
                </a:cubicBezTo>
              </a:path>
              <a:path w="7492" h="3027">
                <a:moveTo>
                  <a:pt x="21208" y="3944"/>
                </a:moveTo>
                <a:cubicBezTo>
                  <a:pt x="21189" y="4097"/>
                  <a:pt x="21158" y="4239"/>
                  <a:pt x="21158" y="4390"/>
                </a:cubicBezTo>
                <a:cubicBezTo>
                  <a:pt x="21158" y="4448"/>
                  <a:pt x="21158" y="4506"/>
                  <a:pt x="21158" y="4564"/>
                </a:cubicBezTo>
                <a:cubicBezTo>
                  <a:pt x="21170" y="4504"/>
                  <a:pt x="21186" y="4448"/>
                  <a:pt x="21208" y="4390"/>
                </a:cubicBezTo>
              </a:path>
              <a:path w="7492" h="3027">
                <a:moveTo>
                  <a:pt x="21456" y="3671"/>
                </a:moveTo>
                <a:cubicBezTo>
                  <a:pt x="21473" y="3800"/>
                  <a:pt x="21445" y="3889"/>
                  <a:pt x="21431" y="4018"/>
                </a:cubicBezTo>
                <a:cubicBezTo>
                  <a:pt x="21421" y="4110"/>
                  <a:pt x="21406" y="4198"/>
                  <a:pt x="21406" y="4291"/>
                </a:cubicBezTo>
                <a:cubicBezTo>
                  <a:pt x="21406" y="4328"/>
                  <a:pt x="21416" y="4429"/>
                  <a:pt x="21431" y="4465"/>
                </a:cubicBezTo>
                <a:cubicBezTo>
                  <a:pt x="21442" y="4492"/>
                  <a:pt x="21477" y="4531"/>
                  <a:pt x="21481" y="4539"/>
                </a:cubicBezTo>
                <a:cubicBezTo>
                  <a:pt x="21481" y="4547"/>
                  <a:pt x="21481" y="4556"/>
                  <a:pt x="21481" y="4564"/>
                </a:cubicBezTo>
              </a:path>
              <a:path w="7492" h="3027">
                <a:moveTo>
                  <a:pt x="21853" y="4490"/>
                </a:moveTo>
                <a:cubicBezTo>
                  <a:pt x="21853" y="4533"/>
                  <a:pt x="21858" y="4466"/>
                  <a:pt x="21878" y="4440"/>
                </a:cubicBezTo>
              </a:path>
              <a:path w="7492" h="3027">
                <a:moveTo>
                  <a:pt x="22324" y="3696"/>
                </a:moveTo>
                <a:cubicBezTo>
                  <a:pt x="22295" y="3755"/>
                  <a:pt x="22265" y="3818"/>
                  <a:pt x="22225" y="3870"/>
                </a:cubicBezTo>
                <a:cubicBezTo>
                  <a:pt x="22198" y="3906"/>
                  <a:pt x="22172" y="3986"/>
                  <a:pt x="22225" y="4018"/>
                </a:cubicBezTo>
                <a:cubicBezTo>
                  <a:pt x="22273" y="4047"/>
                  <a:pt x="22509" y="4035"/>
                  <a:pt x="22547" y="3994"/>
                </a:cubicBezTo>
                <a:cubicBezTo>
                  <a:pt x="22597" y="3940"/>
                  <a:pt x="22598" y="3916"/>
                  <a:pt x="22622" y="3845"/>
                </a:cubicBezTo>
                <a:cubicBezTo>
                  <a:pt x="22630" y="3828"/>
                  <a:pt x="22639" y="3812"/>
                  <a:pt x="22647" y="3795"/>
                </a:cubicBezTo>
              </a:path>
              <a:path w="7492" h="3027">
                <a:moveTo>
                  <a:pt x="22498" y="3746"/>
                </a:moveTo>
                <a:cubicBezTo>
                  <a:pt x="22480" y="3905"/>
                  <a:pt x="22448" y="4059"/>
                  <a:pt x="22448" y="4217"/>
                </a:cubicBezTo>
                <a:cubicBezTo>
                  <a:pt x="22448" y="4293"/>
                  <a:pt x="22457" y="4345"/>
                  <a:pt x="22473" y="4415"/>
                </a:cubicBezTo>
                <a:cubicBezTo>
                  <a:pt x="22482" y="4452"/>
                  <a:pt x="22473" y="4501"/>
                  <a:pt x="22473" y="4539"/>
                </a:cubicBezTo>
              </a:path>
              <a:path w="7492" h="3027">
                <a:moveTo>
                  <a:pt x="22126" y="4663"/>
                </a:moveTo>
                <a:cubicBezTo>
                  <a:pt x="22200" y="4683"/>
                  <a:pt x="22296" y="4707"/>
                  <a:pt x="22374" y="4688"/>
                </a:cubicBezTo>
                <a:cubicBezTo>
                  <a:pt x="22458" y="4668"/>
                  <a:pt x="22531" y="4663"/>
                  <a:pt x="22622" y="4663"/>
                </a:cubicBezTo>
                <a:cubicBezTo>
                  <a:pt x="22685" y="4663"/>
                  <a:pt x="22731" y="4638"/>
                  <a:pt x="22796" y="4638"/>
                </a:cubicBezTo>
                <a:cubicBezTo>
                  <a:pt x="22732" y="4670"/>
                  <a:pt x="22701" y="4682"/>
                  <a:pt x="22647" y="4688"/>
                </a:cubicBezTo>
              </a:path>
              <a:path w="7492" h="3027">
                <a:moveTo>
                  <a:pt x="22027" y="5110"/>
                </a:moveTo>
                <a:cubicBezTo>
                  <a:pt x="22071" y="5076"/>
                  <a:pt x="22116" y="5063"/>
                  <a:pt x="22175" y="5060"/>
                </a:cubicBezTo>
                <a:cubicBezTo>
                  <a:pt x="22261" y="5055"/>
                  <a:pt x="22343" y="5045"/>
                  <a:pt x="22423" y="5035"/>
                </a:cubicBezTo>
                <a:cubicBezTo>
                  <a:pt x="22524" y="5022"/>
                  <a:pt x="22770" y="5035"/>
                  <a:pt x="22796" y="5035"/>
                </a:cubicBezTo>
              </a:path>
              <a:path w="7492" h="3027">
                <a:moveTo>
                  <a:pt x="22200" y="5234"/>
                </a:moveTo>
                <a:cubicBezTo>
                  <a:pt x="22200" y="5365"/>
                  <a:pt x="22209" y="5484"/>
                  <a:pt x="22225" y="5606"/>
                </a:cubicBezTo>
                <a:cubicBezTo>
                  <a:pt x="22236" y="5690"/>
                  <a:pt x="22209" y="5675"/>
                  <a:pt x="22250" y="5730"/>
                </a:cubicBezTo>
                <a:cubicBezTo>
                  <a:pt x="22250" y="5677"/>
                  <a:pt x="22257" y="5667"/>
                  <a:pt x="22275" y="5606"/>
                </a:cubicBezTo>
              </a:path>
              <a:path w="7492" h="3027">
                <a:moveTo>
                  <a:pt x="22423" y="5035"/>
                </a:moveTo>
                <a:cubicBezTo>
                  <a:pt x="22423" y="5243"/>
                  <a:pt x="22416" y="5464"/>
                  <a:pt x="22448" y="5655"/>
                </a:cubicBezTo>
                <a:cubicBezTo>
                  <a:pt x="22453" y="5686"/>
                  <a:pt x="22444" y="5760"/>
                  <a:pt x="22473" y="5779"/>
                </a:cubicBezTo>
                <a:cubicBezTo>
                  <a:pt x="22498" y="5779"/>
                  <a:pt x="22506" y="5779"/>
                  <a:pt x="22498" y="5755"/>
                </a:cubicBezTo>
              </a:path>
              <a:path w="7492" h="3027">
                <a:moveTo>
                  <a:pt x="22126" y="5606"/>
                </a:moveTo>
                <a:cubicBezTo>
                  <a:pt x="22175" y="5544"/>
                  <a:pt x="22252" y="5447"/>
                  <a:pt x="22324" y="5407"/>
                </a:cubicBezTo>
                <a:cubicBezTo>
                  <a:pt x="22404" y="5362"/>
                  <a:pt x="22473" y="5316"/>
                  <a:pt x="22547" y="5259"/>
                </a:cubicBezTo>
                <a:cubicBezTo>
                  <a:pt x="22580" y="5234"/>
                  <a:pt x="22637" y="5229"/>
                  <a:pt x="22597" y="5209"/>
                </a:cubicBezTo>
              </a:path>
              <a:path w="7492" h="3027">
                <a:moveTo>
                  <a:pt x="21183" y="4242"/>
                </a:moveTo>
                <a:cubicBezTo>
                  <a:pt x="21315" y="4125"/>
                  <a:pt x="21447" y="4008"/>
                  <a:pt x="21580" y="3894"/>
                </a:cubicBezTo>
                <a:cubicBezTo>
                  <a:pt x="21613" y="3866"/>
                  <a:pt x="21709" y="3805"/>
                  <a:pt x="21729" y="3770"/>
                </a:cubicBezTo>
                <a:cubicBezTo>
                  <a:pt x="21759" y="3716"/>
                  <a:pt x="21715" y="3728"/>
                  <a:pt x="21803" y="3746"/>
                </a:cubicBezTo>
              </a:path>
              <a:path w="7492" h="3027">
                <a:moveTo>
                  <a:pt x="22845" y="4514"/>
                </a:moveTo>
                <a:cubicBezTo>
                  <a:pt x="22921" y="4514"/>
                  <a:pt x="22975" y="4502"/>
                  <a:pt x="23044" y="4490"/>
                </a:cubicBezTo>
                <a:cubicBezTo>
                  <a:pt x="23100" y="4480"/>
                  <a:pt x="23163" y="4470"/>
                  <a:pt x="23217" y="4465"/>
                </a:cubicBezTo>
                <a:cubicBezTo>
                  <a:pt x="23261" y="4461"/>
                  <a:pt x="23281" y="4456"/>
                  <a:pt x="23292" y="4490"/>
                </a:cubicBezTo>
              </a:path>
              <a:path w="7492" h="3027">
                <a:moveTo>
                  <a:pt x="22969" y="4812"/>
                </a:moveTo>
                <a:cubicBezTo>
                  <a:pt x="23016" y="4812"/>
                  <a:pt x="23032" y="4795"/>
                  <a:pt x="23068" y="4787"/>
                </a:cubicBezTo>
                <a:cubicBezTo>
                  <a:pt x="23123" y="4775"/>
                  <a:pt x="23158" y="4762"/>
                  <a:pt x="23217" y="4762"/>
                </a:cubicBezTo>
                <a:cubicBezTo>
                  <a:pt x="23242" y="4762"/>
                  <a:pt x="23250" y="4762"/>
                  <a:pt x="23267" y="4762"/>
                </a:cubicBezTo>
              </a:path>
              <a:path w="7492" h="3027">
                <a:moveTo>
                  <a:pt x="24061" y="3845"/>
                </a:moveTo>
                <a:cubicBezTo>
                  <a:pt x="24024" y="3762"/>
                  <a:pt x="23994" y="3742"/>
                  <a:pt x="23887" y="3770"/>
                </a:cubicBezTo>
                <a:cubicBezTo>
                  <a:pt x="23812" y="3790"/>
                  <a:pt x="23732" y="3798"/>
                  <a:pt x="23664" y="3845"/>
                </a:cubicBezTo>
                <a:cubicBezTo>
                  <a:pt x="23565" y="3914"/>
                  <a:pt x="23534" y="3998"/>
                  <a:pt x="23540" y="4093"/>
                </a:cubicBezTo>
                <a:cubicBezTo>
                  <a:pt x="23545" y="4174"/>
                  <a:pt x="23608" y="4209"/>
                  <a:pt x="23664" y="4266"/>
                </a:cubicBezTo>
                <a:cubicBezTo>
                  <a:pt x="23735" y="4338"/>
                  <a:pt x="23803" y="4352"/>
                  <a:pt x="23862" y="4440"/>
                </a:cubicBezTo>
                <a:cubicBezTo>
                  <a:pt x="23902" y="4500"/>
                  <a:pt x="23932" y="4568"/>
                  <a:pt x="23937" y="4638"/>
                </a:cubicBezTo>
                <a:cubicBezTo>
                  <a:pt x="23942" y="4705"/>
                  <a:pt x="23899" y="4714"/>
                  <a:pt x="23862" y="4738"/>
                </a:cubicBezTo>
                <a:cubicBezTo>
                  <a:pt x="23831" y="4758"/>
                  <a:pt x="23781" y="4783"/>
                  <a:pt x="23738" y="4762"/>
                </a:cubicBezTo>
                <a:cubicBezTo>
                  <a:pt x="23675" y="4731"/>
                  <a:pt x="23688" y="4672"/>
                  <a:pt x="23688" y="4614"/>
                </a:cubicBezTo>
                <a:cubicBezTo>
                  <a:pt x="23688" y="4531"/>
                  <a:pt x="23683" y="4459"/>
                  <a:pt x="23738" y="4390"/>
                </a:cubicBezTo>
                <a:cubicBezTo>
                  <a:pt x="23789" y="4325"/>
                  <a:pt x="23818" y="4263"/>
                  <a:pt x="23862" y="4192"/>
                </a:cubicBezTo>
                <a:cubicBezTo>
                  <a:pt x="23907" y="4119"/>
                  <a:pt x="23970" y="4068"/>
                  <a:pt x="24011" y="3994"/>
                </a:cubicBezTo>
                <a:cubicBezTo>
                  <a:pt x="24024" y="3971"/>
                  <a:pt x="24052" y="3879"/>
                  <a:pt x="24061" y="3870"/>
                </a:cubicBezTo>
                <a:cubicBezTo>
                  <a:pt x="24106" y="3824"/>
                  <a:pt x="24084" y="3886"/>
                  <a:pt x="24061" y="3944"/>
                </a:cubicBezTo>
                <a:cubicBezTo>
                  <a:pt x="24053" y="3961"/>
                  <a:pt x="24044" y="3977"/>
                  <a:pt x="24036" y="39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98320" y="2741760"/>
            <a:ext cx="6697800" cy="2973240"/>
          </a:xfrm>
          <a:custGeom>
            <a:avLst/>
            <a:gdLst/>
            <a:ahLst/>
            <a:rect l="l" t="t" r="r" b="b"/>
            <a:pathLst>
              <a:path w="18604" h="8261">
                <a:moveTo>
                  <a:pt x="4514" y="7615"/>
                </a:moveTo>
                <a:cubicBezTo>
                  <a:pt x="4514" y="7685"/>
                  <a:pt x="4488" y="7786"/>
                  <a:pt x="4490" y="7838"/>
                </a:cubicBezTo>
                <a:cubicBezTo>
                  <a:pt x="4492" y="7880"/>
                  <a:pt x="4512" y="7912"/>
                  <a:pt x="4514" y="7962"/>
                </a:cubicBezTo>
                <a:cubicBezTo>
                  <a:pt x="4525" y="8260"/>
                  <a:pt x="4560" y="8590"/>
                  <a:pt x="4539" y="8880"/>
                </a:cubicBezTo>
                <a:cubicBezTo>
                  <a:pt x="4534" y="8942"/>
                  <a:pt x="4517" y="8990"/>
                  <a:pt x="4514" y="9054"/>
                </a:cubicBezTo>
                <a:cubicBezTo>
                  <a:pt x="4498" y="9357"/>
                  <a:pt x="4504" y="9675"/>
                  <a:pt x="4490" y="9971"/>
                </a:cubicBezTo>
                <a:cubicBezTo>
                  <a:pt x="4486" y="10063"/>
                  <a:pt x="4471" y="10159"/>
                  <a:pt x="4465" y="10244"/>
                </a:cubicBezTo>
                <a:cubicBezTo>
                  <a:pt x="4460" y="10317"/>
                  <a:pt x="4444" y="10410"/>
                  <a:pt x="4440" y="10468"/>
                </a:cubicBezTo>
                <a:cubicBezTo>
                  <a:pt x="4433" y="10569"/>
                  <a:pt x="4420" y="10669"/>
                  <a:pt x="4415" y="10765"/>
                </a:cubicBezTo>
                <a:cubicBezTo>
                  <a:pt x="4410" y="10852"/>
                  <a:pt x="4395" y="10930"/>
                  <a:pt x="4390" y="11013"/>
                </a:cubicBezTo>
                <a:cubicBezTo>
                  <a:pt x="4384" y="11129"/>
                  <a:pt x="4372" y="11222"/>
                  <a:pt x="4366" y="11336"/>
                </a:cubicBezTo>
                <a:cubicBezTo>
                  <a:pt x="4358" y="11502"/>
                  <a:pt x="4349" y="11673"/>
                  <a:pt x="4341" y="11832"/>
                </a:cubicBezTo>
                <a:cubicBezTo>
                  <a:pt x="4336" y="11931"/>
                  <a:pt x="4361" y="12012"/>
                  <a:pt x="4366" y="12105"/>
                </a:cubicBezTo>
                <a:cubicBezTo>
                  <a:pt x="4393" y="12598"/>
                  <a:pt x="4337" y="13091"/>
                  <a:pt x="4316" y="13568"/>
                </a:cubicBezTo>
                <a:cubicBezTo>
                  <a:pt x="4311" y="13692"/>
                  <a:pt x="4297" y="13821"/>
                  <a:pt x="4291" y="13940"/>
                </a:cubicBezTo>
                <a:cubicBezTo>
                  <a:pt x="4285" y="14064"/>
                  <a:pt x="4271" y="14193"/>
                  <a:pt x="4266" y="14312"/>
                </a:cubicBezTo>
                <a:cubicBezTo>
                  <a:pt x="4259" y="14460"/>
                  <a:pt x="4249" y="14618"/>
                  <a:pt x="4242" y="14759"/>
                </a:cubicBezTo>
                <a:cubicBezTo>
                  <a:pt x="4238" y="14835"/>
                  <a:pt x="4222" y="14913"/>
                  <a:pt x="4217" y="14982"/>
                </a:cubicBezTo>
                <a:cubicBezTo>
                  <a:pt x="4211" y="15064"/>
                  <a:pt x="4196" y="15155"/>
                  <a:pt x="4192" y="15230"/>
                </a:cubicBezTo>
                <a:cubicBezTo>
                  <a:pt x="4187" y="15320"/>
                  <a:pt x="4172" y="15429"/>
                  <a:pt x="4167" y="15503"/>
                </a:cubicBezTo>
                <a:cubicBezTo>
                  <a:pt x="4160" y="15601"/>
                  <a:pt x="4164" y="15690"/>
                  <a:pt x="4142" y="15776"/>
                </a:cubicBezTo>
                <a:cubicBezTo>
                  <a:pt x="4130" y="15824"/>
                  <a:pt x="4131" y="15850"/>
                  <a:pt x="4118" y="15875"/>
                </a:cubicBezTo>
                <a:cubicBezTo>
                  <a:pt x="4118" y="15858"/>
                  <a:pt x="4118" y="15842"/>
                  <a:pt x="4118" y="15825"/>
                </a:cubicBezTo>
              </a:path>
              <a:path w="18604" h="8261">
                <a:moveTo>
                  <a:pt x="1687" y="11757"/>
                </a:moveTo>
                <a:cubicBezTo>
                  <a:pt x="1662" y="11757"/>
                  <a:pt x="1654" y="11757"/>
                  <a:pt x="1662" y="11733"/>
                </a:cubicBezTo>
                <a:cubicBezTo>
                  <a:pt x="1700" y="11740"/>
                  <a:pt x="1685" y="11751"/>
                  <a:pt x="1736" y="11757"/>
                </a:cubicBezTo>
                <a:cubicBezTo>
                  <a:pt x="1778" y="11762"/>
                  <a:pt x="1798" y="11776"/>
                  <a:pt x="1836" y="11782"/>
                </a:cubicBezTo>
                <a:cubicBezTo>
                  <a:pt x="1933" y="11797"/>
                  <a:pt x="2036" y="11808"/>
                  <a:pt x="2133" y="11807"/>
                </a:cubicBezTo>
                <a:cubicBezTo>
                  <a:pt x="2238" y="11806"/>
                  <a:pt x="2330" y="11785"/>
                  <a:pt x="2431" y="11782"/>
                </a:cubicBezTo>
                <a:cubicBezTo>
                  <a:pt x="2553" y="11779"/>
                  <a:pt x="2661" y="11763"/>
                  <a:pt x="2778" y="11757"/>
                </a:cubicBezTo>
                <a:cubicBezTo>
                  <a:pt x="2862" y="11753"/>
                  <a:pt x="2955" y="11740"/>
                  <a:pt x="3026" y="11733"/>
                </a:cubicBezTo>
                <a:cubicBezTo>
                  <a:pt x="3116" y="11724"/>
                  <a:pt x="3213" y="11712"/>
                  <a:pt x="3299" y="11708"/>
                </a:cubicBezTo>
                <a:cubicBezTo>
                  <a:pt x="3584" y="11696"/>
                  <a:pt x="3890" y="11691"/>
                  <a:pt x="4167" y="11733"/>
                </a:cubicBezTo>
                <a:cubicBezTo>
                  <a:pt x="4259" y="11747"/>
                  <a:pt x="4353" y="11773"/>
                  <a:pt x="4440" y="11782"/>
                </a:cubicBezTo>
                <a:cubicBezTo>
                  <a:pt x="4510" y="11789"/>
                  <a:pt x="4570" y="11799"/>
                  <a:pt x="4638" y="11807"/>
                </a:cubicBezTo>
                <a:cubicBezTo>
                  <a:pt x="4741" y="11819"/>
                  <a:pt x="4835" y="11821"/>
                  <a:pt x="4936" y="11832"/>
                </a:cubicBezTo>
                <a:cubicBezTo>
                  <a:pt x="5045" y="11844"/>
                  <a:pt x="5152" y="11852"/>
                  <a:pt x="5259" y="11857"/>
                </a:cubicBezTo>
                <a:cubicBezTo>
                  <a:pt x="5814" y="11882"/>
                  <a:pt x="6369" y="11850"/>
                  <a:pt x="6921" y="11881"/>
                </a:cubicBezTo>
                <a:cubicBezTo>
                  <a:pt x="7039" y="11888"/>
                  <a:pt x="7149" y="11895"/>
                  <a:pt x="7268" y="11906"/>
                </a:cubicBezTo>
                <a:cubicBezTo>
                  <a:pt x="7375" y="11916"/>
                  <a:pt x="7484" y="11927"/>
                  <a:pt x="7590" y="11931"/>
                </a:cubicBezTo>
                <a:cubicBezTo>
                  <a:pt x="7759" y="11937"/>
                  <a:pt x="7918" y="11950"/>
                  <a:pt x="8086" y="11956"/>
                </a:cubicBezTo>
                <a:cubicBezTo>
                  <a:pt x="8230" y="11961"/>
                  <a:pt x="8367" y="11976"/>
                  <a:pt x="8508" y="11981"/>
                </a:cubicBezTo>
                <a:cubicBezTo>
                  <a:pt x="9021" y="11998"/>
                  <a:pt x="9537" y="11999"/>
                  <a:pt x="10046" y="12005"/>
                </a:cubicBezTo>
                <a:cubicBezTo>
                  <a:pt x="10265" y="12007"/>
                  <a:pt x="10475" y="12023"/>
                  <a:pt x="10691" y="12030"/>
                </a:cubicBezTo>
                <a:cubicBezTo>
                  <a:pt x="10859" y="12036"/>
                  <a:pt x="11020" y="12040"/>
                  <a:pt x="11187" y="12055"/>
                </a:cubicBezTo>
                <a:cubicBezTo>
                  <a:pt x="11328" y="12068"/>
                  <a:pt x="11472" y="12092"/>
                  <a:pt x="11609" y="12105"/>
                </a:cubicBezTo>
                <a:cubicBezTo>
                  <a:pt x="11725" y="12116"/>
                  <a:pt x="11840" y="12117"/>
                  <a:pt x="11956" y="12129"/>
                </a:cubicBezTo>
                <a:cubicBezTo>
                  <a:pt x="12064" y="12140"/>
                  <a:pt x="12169" y="12143"/>
                  <a:pt x="12278" y="12154"/>
                </a:cubicBezTo>
                <a:cubicBezTo>
                  <a:pt x="12434" y="12169"/>
                  <a:pt x="12594" y="12187"/>
                  <a:pt x="12750" y="12204"/>
                </a:cubicBezTo>
                <a:cubicBezTo>
                  <a:pt x="12881" y="12219"/>
                  <a:pt x="13015" y="12216"/>
                  <a:pt x="13146" y="12229"/>
                </a:cubicBezTo>
                <a:cubicBezTo>
                  <a:pt x="13246" y="12239"/>
                  <a:pt x="13343" y="12244"/>
                  <a:pt x="13444" y="12254"/>
                </a:cubicBezTo>
                <a:cubicBezTo>
                  <a:pt x="13592" y="12268"/>
                  <a:pt x="13743" y="12287"/>
                  <a:pt x="13891" y="12303"/>
                </a:cubicBezTo>
                <a:cubicBezTo>
                  <a:pt x="13991" y="12314"/>
                  <a:pt x="14087" y="12317"/>
                  <a:pt x="14188" y="12328"/>
                </a:cubicBezTo>
                <a:cubicBezTo>
                  <a:pt x="14273" y="12337"/>
                  <a:pt x="14352" y="12349"/>
                  <a:pt x="14436" y="12353"/>
                </a:cubicBezTo>
                <a:cubicBezTo>
                  <a:pt x="14580" y="12360"/>
                  <a:pt x="14730" y="12350"/>
                  <a:pt x="14858" y="12328"/>
                </a:cubicBezTo>
                <a:cubicBezTo>
                  <a:pt x="14883" y="12324"/>
                  <a:pt x="14883" y="12307"/>
                  <a:pt x="14908" y="12303"/>
                </a:cubicBezTo>
              </a:path>
              <a:path w="18604" h="8261">
                <a:moveTo>
                  <a:pt x="14908" y="12229"/>
                </a:moveTo>
                <a:cubicBezTo>
                  <a:pt x="14966" y="12225"/>
                  <a:pt x="15030" y="12207"/>
                  <a:pt x="15081" y="12204"/>
                </a:cubicBezTo>
                <a:cubicBezTo>
                  <a:pt x="15160" y="12199"/>
                  <a:pt x="15230" y="12195"/>
                  <a:pt x="15304" y="12179"/>
                </a:cubicBezTo>
                <a:cubicBezTo>
                  <a:pt x="15371" y="12165"/>
                  <a:pt x="15434" y="12164"/>
                  <a:pt x="15503" y="12154"/>
                </a:cubicBezTo>
                <a:cubicBezTo>
                  <a:pt x="15588" y="12141"/>
                  <a:pt x="15663" y="12131"/>
                  <a:pt x="15751" y="12129"/>
                </a:cubicBezTo>
                <a:cubicBezTo>
                  <a:pt x="15909" y="12125"/>
                  <a:pt x="16068" y="12113"/>
                  <a:pt x="16222" y="12105"/>
                </a:cubicBezTo>
                <a:cubicBezTo>
                  <a:pt x="16376" y="12097"/>
                  <a:pt x="16521" y="12121"/>
                  <a:pt x="16669" y="12129"/>
                </a:cubicBezTo>
                <a:cubicBezTo>
                  <a:pt x="16837" y="12138"/>
                  <a:pt x="17005" y="12116"/>
                  <a:pt x="17165" y="12105"/>
                </a:cubicBezTo>
                <a:cubicBezTo>
                  <a:pt x="17284" y="12097"/>
                  <a:pt x="17390" y="12139"/>
                  <a:pt x="17512" y="12129"/>
                </a:cubicBezTo>
                <a:cubicBezTo>
                  <a:pt x="17611" y="12121"/>
                  <a:pt x="17707" y="12107"/>
                  <a:pt x="17810" y="12105"/>
                </a:cubicBezTo>
                <a:cubicBezTo>
                  <a:pt x="17966" y="12103"/>
                  <a:pt x="18104" y="12089"/>
                  <a:pt x="18256" y="12080"/>
                </a:cubicBezTo>
                <a:cubicBezTo>
                  <a:pt x="18381" y="12073"/>
                  <a:pt x="18503" y="12062"/>
                  <a:pt x="18628" y="12055"/>
                </a:cubicBezTo>
                <a:cubicBezTo>
                  <a:pt x="18754" y="12048"/>
                  <a:pt x="18875" y="12033"/>
                  <a:pt x="19000" y="12030"/>
                </a:cubicBezTo>
                <a:cubicBezTo>
                  <a:pt x="19167" y="12026"/>
                  <a:pt x="19334" y="12015"/>
                  <a:pt x="19496" y="12005"/>
                </a:cubicBezTo>
                <a:cubicBezTo>
                  <a:pt x="19653" y="11995"/>
                  <a:pt x="19818" y="11993"/>
                  <a:pt x="19968" y="11981"/>
                </a:cubicBezTo>
                <a:cubicBezTo>
                  <a:pt x="20052" y="11974"/>
                  <a:pt x="20145" y="11965"/>
                  <a:pt x="20216" y="11956"/>
                </a:cubicBezTo>
                <a:cubicBezTo>
                  <a:pt x="20241" y="11956"/>
                  <a:pt x="20249" y="11956"/>
                  <a:pt x="20265" y="11956"/>
                </a:cubicBezTo>
                <a:cubicBezTo>
                  <a:pt x="20238" y="11956"/>
                  <a:pt x="20213" y="11965"/>
                  <a:pt x="20166" y="11956"/>
                </a:cubicBezTo>
              </a:path>
              <a:path w="18604" h="8261">
                <a:moveTo>
                  <a:pt x="9996" y="11559"/>
                </a:moveTo>
                <a:cubicBezTo>
                  <a:pt x="9976" y="11626"/>
                  <a:pt x="9951" y="11688"/>
                  <a:pt x="9947" y="11757"/>
                </a:cubicBezTo>
                <a:cubicBezTo>
                  <a:pt x="9937" y="11938"/>
                  <a:pt x="9971" y="12139"/>
                  <a:pt x="9922" y="12303"/>
                </a:cubicBezTo>
                <a:cubicBezTo>
                  <a:pt x="9916" y="12323"/>
                  <a:pt x="9922" y="12357"/>
                  <a:pt x="9922" y="12378"/>
                </a:cubicBezTo>
              </a:path>
              <a:path w="18604" h="8261">
                <a:moveTo>
                  <a:pt x="10120" y="12824"/>
                </a:moveTo>
                <a:cubicBezTo>
                  <a:pt x="10184" y="12813"/>
                  <a:pt x="10170" y="12833"/>
                  <a:pt x="10170" y="12774"/>
                </a:cubicBezTo>
                <a:cubicBezTo>
                  <a:pt x="10128" y="12744"/>
                  <a:pt x="10101" y="12750"/>
                  <a:pt x="10046" y="12750"/>
                </a:cubicBezTo>
                <a:cubicBezTo>
                  <a:pt x="9984" y="12750"/>
                  <a:pt x="9920" y="12742"/>
                  <a:pt x="9872" y="12774"/>
                </a:cubicBezTo>
                <a:cubicBezTo>
                  <a:pt x="9822" y="12807"/>
                  <a:pt x="9852" y="12840"/>
                  <a:pt x="9872" y="12874"/>
                </a:cubicBezTo>
                <a:cubicBezTo>
                  <a:pt x="9918" y="12953"/>
                  <a:pt x="9965" y="13001"/>
                  <a:pt x="10021" y="13072"/>
                </a:cubicBezTo>
                <a:cubicBezTo>
                  <a:pt x="10074" y="13139"/>
                  <a:pt x="10129" y="13221"/>
                  <a:pt x="10170" y="13295"/>
                </a:cubicBezTo>
                <a:cubicBezTo>
                  <a:pt x="10204" y="13356"/>
                  <a:pt x="10195" y="13400"/>
                  <a:pt x="10195" y="13469"/>
                </a:cubicBezTo>
                <a:cubicBezTo>
                  <a:pt x="10146" y="13469"/>
                  <a:pt x="10116" y="13474"/>
                  <a:pt x="10071" y="13444"/>
                </a:cubicBezTo>
                <a:cubicBezTo>
                  <a:pt x="10026" y="13414"/>
                  <a:pt x="9986" y="13384"/>
                  <a:pt x="9947" y="13345"/>
                </a:cubicBezTo>
                <a:cubicBezTo>
                  <a:pt x="9879" y="13276"/>
                  <a:pt x="9904" y="13244"/>
                  <a:pt x="9922" y="13171"/>
                </a:cubicBezTo>
                <a:cubicBezTo>
                  <a:pt x="9937" y="13112"/>
                  <a:pt x="9965" y="13073"/>
                  <a:pt x="9996" y="13022"/>
                </a:cubicBezTo>
                <a:cubicBezTo>
                  <a:pt x="10031" y="12964"/>
                  <a:pt x="10056" y="12903"/>
                  <a:pt x="10096" y="12849"/>
                </a:cubicBezTo>
                <a:cubicBezTo>
                  <a:pt x="10115" y="12824"/>
                  <a:pt x="10165" y="12783"/>
                  <a:pt x="10170" y="12774"/>
                </a:cubicBezTo>
                <a:cubicBezTo>
                  <a:pt x="10170" y="12746"/>
                  <a:pt x="10173" y="12736"/>
                  <a:pt x="10195" y="12725"/>
                </a:cubicBezTo>
              </a:path>
              <a:path w="18604" h="8261">
                <a:moveTo>
                  <a:pt x="17066" y="11857"/>
                </a:moveTo>
                <a:cubicBezTo>
                  <a:pt x="17102" y="11869"/>
                  <a:pt x="17090" y="11887"/>
                  <a:pt x="17090" y="11931"/>
                </a:cubicBezTo>
                <a:cubicBezTo>
                  <a:pt x="17090" y="12057"/>
                  <a:pt x="17099" y="12184"/>
                  <a:pt x="17115" y="12303"/>
                </a:cubicBezTo>
                <a:cubicBezTo>
                  <a:pt x="17124" y="12375"/>
                  <a:pt x="17099" y="12434"/>
                  <a:pt x="17090" y="12502"/>
                </a:cubicBezTo>
              </a:path>
              <a:path w="18604" h="8261">
                <a:moveTo>
                  <a:pt x="17066" y="13146"/>
                </a:moveTo>
                <a:cubicBezTo>
                  <a:pt x="17066" y="13323"/>
                  <a:pt x="17027" y="13610"/>
                  <a:pt x="17090" y="13742"/>
                </a:cubicBezTo>
                <a:cubicBezTo>
                  <a:pt x="17090" y="13767"/>
                  <a:pt x="17090" y="13775"/>
                  <a:pt x="17090" y="13742"/>
                </a:cubicBezTo>
              </a:path>
              <a:path w="18604" h="8261">
                <a:moveTo>
                  <a:pt x="17462" y="13221"/>
                </a:moveTo>
                <a:cubicBezTo>
                  <a:pt x="17435" y="13286"/>
                  <a:pt x="17417" y="13352"/>
                  <a:pt x="17388" y="13419"/>
                </a:cubicBezTo>
                <a:cubicBezTo>
                  <a:pt x="17360" y="13483"/>
                  <a:pt x="17363" y="13522"/>
                  <a:pt x="17363" y="13593"/>
                </a:cubicBezTo>
                <a:cubicBezTo>
                  <a:pt x="17363" y="13688"/>
                  <a:pt x="17425" y="13749"/>
                  <a:pt x="17487" y="13816"/>
                </a:cubicBezTo>
                <a:cubicBezTo>
                  <a:pt x="17534" y="13867"/>
                  <a:pt x="17595" y="13886"/>
                  <a:pt x="17661" y="13891"/>
                </a:cubicBezTo>
                <a:cubicBezTo>
                  <a:pt x="17717" y="13895"/>
                  <a:pt x="17767" y="13900"/>
                  <a:pt x="17810" y="13866"/>
                </a:cubicBezTo>
                <a:cubicBezTo>
                  <a:pt x="17862" y="13825"/>
                  <a:pt x="17881" y="13753"/>
                  <a:pt x="17884" y="13692"/>
                </a:cubicBezTo>
                <a:cubicBezTo>
                  <a:pt x="17889" y="13610"/>
                  <a:pt x="17871" y="13588"/>
                  <a:pt x="17835" y="13519"/>
                </a:cubicBezTo>
                <a:cubicBezTo>
                  <a:pt x="17802" y="13457"/>
                  <a:pt x="17778" y="13444"/>
                  <a:pt x="17711" y="13444"/>
                </a:cubicBezTo>
                <a:cubicBezTo>
                  <a:pt x="17667" y="13444"/>
                  <a:pt x="17624" y="13551"/>
                  <a:pt x="17611" y="13593"/>
                </a:cubicBezTo>
                <a:cubicBezTo>
                  <a:pt x="17569" y="13725"/>
                  <a:pt x="17563" y="13878"/>
                  <a:pt x="17537" y="14015"/>
                </a:cubicBezTo>
              </a:path>
              <a:path w="18604" h="8261">
                <a:moveTo>
                  <a:pt x="9897" y="12005"/>
                </a:moveTo>
                <a:cubicBezTo>
                  <a:pt x="9964" y="11996"/>
                  <a:pt x="9973" y="11979"/>
                  <a:pt x="10021" y="11931"/>
                </a:cubicBezTo>
                <a:cubicBezTo>
                  <a:pt x="10012" y="11895"/>
                  <a:pt x="10005" y="11861"/>
                  <a:pt x="9971" y="11857"/>
                </a:cubicBezTo>
                <a:cubicBezTo>
                  <a:pt x="9932" y="11852"/>
                  <a:pt x="9903" y="11868"/>
                  <a:pt x="9872" y="11881"/>
                </a:cubicBezTo>
                <a:cubicBezTo>
                  <a:pt x="9821" y="11903"/>
                  <a:pt x="9810" y="11910"/>
                  <a:pt x="9798" y="11956"/>
                </a:cubicBezTo>
                <a:cubicBezTo>
                  <a:pt x="9839" y="12027"/>
                  <a:pt x="9840" y="12030"/>
                  <a:pt x="9922" y="12030"/>
                </a:cubicBezTo>
                <a:cubicBezTo>
                  <a:pt x="9958" y="12030"/>
                  <a:pt x="9994" y="12023"/>
                  <a:pt x="10021" y="12005"/>
                </a:cubicBezTo>
                <a:cubicBezTo>
                  <a:pt x="10051" y="11976"/>
                  <a:pt x="10063" y="11962"/>
                  <a:pt x="10071" y="11931"/>
                </a:cubicBezTo>
                <a:cubicBezTo>
                  <a:pt x="10039" y="11888"/>
                  <a:pt x="10052" y="11881"/>
                  <a:pt x="9996" y="11881"/>
                </a:cubicBezTo>
                <a:cubicBezTo>
                  <a:pt x="9953" y="11881"/>
                  <a:pt x="9842" y="11911"/>
                  <a:pt x="9823" y="11956"/>
                </a:cubicBezTo>
                <a:cubicBezTo>
                  <a:pt x="9823" y="11997"/>
                  <a:pt x="9823" y="12005"/>
                  <a:pt x="9823" y="12030"/>
                </a:cubicBezTo>
                <a:cubicBezTo>
                  <a:pt x="9862" y="12040"/>
                  <a:pt x="9886" y="12068"/>
                  <a:pt x="9922" y="12080"/>
                </a:cubicBezTo>
                <a:cubicBezTo>
                  <a:pt x="9952" y="12090"/>
                  <a:pt x="10002" y="12068"/>
                  <a:pt x="10021" y="12055"/>
                </a:cubicBezTo>
                <a:cubicBezTo>
                  <a:pt x="10073" y="12020"/>
                  <a:pt x="10088" y="11987"/>
                  <a:pt x="10096" y="11931"/>
                </a:cubicBezTo>
                <a:cubicBezTo>
                  <a:pt x="10028" y="11890"/>
                  <a:pt x="10018" y="11913"/>
                  <a:pt x="9947" y="11931"/>
                </a:cubicBezTo>
                <a:cubicBezTo>
                  <a:pt x="9919" y="11931"/>
                  <a:pt x="9908" y="11933"/>
                  <a:pt x="9897" y="11956"/>
                </a:cubicBezTo>
                <a:cubicBezTo>
                  <a:pt x="9927" y="12026"/>
                  <a:pt x="9916" y="12048"/>
                  <a:pt x="9996" y="12055"/>
                </a:cubicBezTo>
                <a:cubicBezTo>
                  <a:pt x="10045" y="12059"/>
                  <a:pt x="10082" y="12061"/>
                  <a:pt x="10120" y="12030"/>
                </a:cubicBezTo>
                <a:cubicBezTo>
                  <a:pt x="10142" y="12008"/>
                  <a:pt x="10151" y="12003"/>
                  <a:pt x="10145" y="11981"/>
                </a:cubicBezTo>
                <a:cubicBezTo>
                  <a:pt x="10095" y="11930"/>
                  <a:pt x="10076" y="11933"/>
                  <a:pt x="10021" y="11906"/>
                </a:cubicBezTo>
                <a:cubicBezTo>
                  <a:pt x="9980" y="11885"/>
                  <a:pt x="9946" y="11875"/>
                  <a:pt x="9897" y="11857"/>
                </a:cubicBezTo>
              </a:path>
              <a:path w="18604" h="8261">
                <a:moveTo>
                  <a:pt x="7069" y="11832"/>
                </a:moveTo>
                <a:cubicBezTo>
                  <a:pt x="7040" y="11787"/>
                  <a:pt x="7019" y="11744"/>
                  <a:pt x="6970" y="11782"/>
                </a:cubicBezTo>
                <a:cubicBezTo>
                  <a:pt x="6962" y="11790"/>
                  <a:pt x="6953" y="11799"/>
                  <a:pt x="6945" y="11807"/>
                </a:cubicBezTo>
                <a:cubicBezTo>
                  <a:pt x="6945" y="11841"/>
                  <a:pt x="6932" y="11887"/>
                  <a:pt x="6970" y="11906"/>
                </a:cubicBezTo>
                <a:cubicBezTo>
                  <a:pt x="6999" y="11920"/>
                  <a:pt x="7079" y="11910"/>
                  <a:pt x="7094" y="11881"/>
                </a:cubicBezTo>
                <a:cubicBezTo>
                  <a:pt x="7121" y="11828"/>
                  <a:pt x="7106" y="11805"/>
                  <a:pt x="7094" y="11757"/>
                </a:cubicBezTo>
                <a:cubicBezTo>
                  <a:pt x="7058" y="11757"/>
                  <a:pt x="7022" y="11764"/>
                  <a:pt x="6995" y="11782"/>
                </a:cubicBezTo>
                <a:cubicBezTo>
                  <a:pt x="6953" y="11810"/>
                  <a:pt x="6945" y="11835"/>
                  <a:pt x="6945" y="11881"/>
                </a:cubicBezTo>
                <a:cubicBezTo>
                  <a:pt x="6945" y="11934"/>
                  <a:pt x="6978" y="11931"/>
                  <a:pt x="7020" y="11931"/>
                </a:cubicBezTo>
                <a:cubicBezTo>
                  <a:pt x="7051" y="11931"/>
                  <a:pt x="7086" y="11923"/>
                  <a:pt x="7094" y="11906"/>
                </a:cubicBezTo>
                <a:cubicBezTo>
                  <a:pt x="7117" y="11861"/>
                  <a:pt x="7126" y="11850"/>
                  <a:pt x="7094" y="11807"/>
                </a:cubicBezTo>
                <a:cubicBezTo>
                  <a:pt x="7081" y="11768"/>
                  <a:pt x="7054" y="11784"/>
                  <a:pt x="7020" y="11807"/>
                </a:cubicBezTo>
                <a:cubicBezTo>
                  <a:pt x="6984" y="11831"/>
                  <a:pt x="6954" y="11869"/>
                  <a:pt x="6945" y="11906"/>
                </a:cubicBezTo>
                <a:cubicBezTo>
                  <a:pt x="6968" y="11952"/>
                  <a:pt x="6991" y="11956"/>
                  <a:pt x="7045" y="11956"/>
                </a:cubicBezTo>
                <a:cubicBezTo>
                  <a:pt x="7099" y="11956"/>
                  <a:pt x="7137" y="11968"/>
                  <a:pt x="7144" y="11906"/>
                </a:cubicBezTo>
                <a:cubicBezTo>
                  <a:pt x="7151" y="11840"/>
                  <a:pt x="7165" y="11870"/>
                  <a:pt x="7144" y="11807"/>
                </a:cubicBezTo>
                <a:cubicBezTo>
                  <a:pt x="7144" y="11799"/>
                  <a:pt x="7144" y="11790"/>
                  <a:pt x="7144" y="11782"/>
                </a:cubicBezTo>
                <a:cubicBezTo>
                  <a:pt x="7089" y="11793"/>
                  <a:pt x="7040" y="11808"/>
                  <a:pt x="6995" y="11832"/>
                </a:cubicBezTo>
                <a:cubicBezTo>
                  <a:pt x="6972" y="11845"/>
                  <a:pt x="6903" y="11890"/>
                  <a:pt x="6921" y="11931"/>
                </a:cubicBezTo>
                <a:cubicBezTo>
                  <a:pt x="6929" y="11939"/>
                  <a:pt x="6937" y="11948"/>
                  <a:pt x="6945" y="11956"/>
                </a:cubicBezTo>
                <a:cubicBezTo>
                  <a:pt x="6991" y="11956"/>
                  <a:pt x="7035" y="11954"/>
                  <a:pt x="7069" y="11931"/>
                </a:cubicBezTo>
                <a:cubicBezTo>
                  <a:pt x="7129" y="11891"/>
                  <a:pt x="7119" y="11847"/>
                  <a:pt x="7119" y="11782"/>
                </a:cubicBezTo>
                <a:cubicBezTo>
                  <a:pt x="7070" y="11782"/>
                  <a:pt x="6927" y="11759"/>
                  <a:pt x="6921" y="11807"/>
                </a:cubicBezTo>
                <a:cubicBezTo>
                  <a:pt x="6921" y="11815"/>
                  <a:pt x="6921" y="11824"/>
                  <a:pt x="6921" y="11832"/>
                </a:cubicBezTo>
              </a:path>
              <a:path w="18604" h="8261">
                <a:moveTo>
                  <a:pt x="5631" y="9401"/>
                </a:moveTo>
                <a:cubicBezTo>
                  <a:pt x="5653" y="9370"/>
                  <a:pt x="5660" y="9341"/>
                  <a:pt x="5631" y="9327"/>
                </a:cubicBezTo>
                <a:cubicBezTo>
                  <a:pt x="5606" y="9327"/>
                  <a:pt x="5598" y="9327"/>
                  <a:pt x="5581" y="9327"/>
                </a:cubicBezTo>
                <a:cubicBezTo>
                  <a:pt x="5566" y="9357"/>
                  <a:pt x="5560" y="9397"/>
                  <a:pt x="5606" y="9401"/>
                </a:cubicBezTo>
                <a:cubicBezTo>
                  <a:pt x="5660" y="9405"/>
                  <a:pt x="5668" y="9413"/>
                  <a:pt x="5680" y="9376"/>
                </a:cubicBezTo>
                <a:cubicBezTo>
                  <a:pt x="5680" y="9345"/>
                  <a:pt x="5672" y="9311"/>
                  <a:pt x="5655" y="9302"/>
                </a:cubicBezTo>
                <a:cubicBezTo>
                  <a:pt x="5639" y="9294"/>
                  <a:pt x="5564" y="9335"/>
                  <a:pt x="5556" y="9351"/>
                </a:cubicBezTo>
                <a:cubicBezTo>
                  <a:pt x="5534" y="9394"/>
                  <a:pt x="5576" y="9417"/>
                  <a:pt x="5581" y="9426"/>
                </a:cubicBezTo>
                <a:cubicBezTo>
                  <a:pt x="5581" y="9434"/>
                  <a:pt x="5581" y="9443"/>
                  <a:pt x="5581" y="9451"/>
                </a:cubicBezTo>
                <a:cubicBezTo>
                  <a:pt x="5631" y="9439"/>
                  <a:pt x="5631" y="9427"/>
                  <a:pt x="5631" y="9376"/>
                </a:cubicBezTo>
                <a:cubicBezTo>
                  <a:pt x="5631" y="9351"/>
                  <a:pt x="5631" y="9343"/>
                  <a:pt x="5631" y="9327"/>
                </a:cubicBezTo>
                <a:cubicBezTo>
                  <a:pt x="5586" y="9327"/>
                  <a:pt x="5565" y="9320"/>
                  <a:pt x="5531" y="9351"/>
                </a:cubicBezTo>
                <a:cubicBezTo>
                  <a:pt x="5505" y="9374"/>
                  <a:pt x="5482" y="9401"/>
                  <a:pt x="5457" y="9426"/>
                </a:cubicBezTo>
              </a:path>
              <a:path w="18604" h="8261">
                <a:moveTo>
                  <a:pt x="8285" y="14387"/>
                </a:moveTo>
                <a:cubicBezTo>
                  <a:pt x="8314" y="14409"/>
                  <a:pt x="8353" y="14438"/>
                  <a:pt x="8359" y="14387"/>
                </a:cubicBezTo>
                <a:cubicBezTo>
                  <a:pt x="8359" y="14379"/>
                  <a:pt x="8359" y="14370"/>
                  <a:pt x="8359" y="14362"/>
                </a:cubicBezTo>
                <a:cubicBezTo>
                  <a:pt x="8321" y="14375"/>
                  <a:pt x="8334" y="14391"/>
                  <a:pt x="8334" y="14436"/>
                </a:cubicBezTo>
                <a:cubicBezTo>
                  <a:pt x="8383" y="14436"/>
                  <a:pt x="8389" y="14422"/>
                  <a:pt x="8409" y="14412"/>
                </a:cubicBezTo>
                <a:cubicBezTo>
                  <a:pt x="8434" y="14412"/>
                  <a:pt x="8442" y="14412"/>
                  <a:pt x="8434" y="14387"/>
                </a:cubicBezTo>
                <a:cubicBezTo>
                  <a:pt x="8382" y="14387"/>
                  <a:pt x="8384" y="14418"/>
                  <a:pt x="8384" y="14387"/>
                </a:cubicBezTo>
              </a:path>
              <a:path w="18604" h="8261">
                <a:moveTo>
                  <a:pt x="4341" y="11757"/>
                </a:moveTo>
                <a:cubicBezTo>
                  <a:pt x="4356" y="11727"/>
                  <a:pt x="4370" y="11725"/>
                  <a:pt x="4390" y="11683"/>
                </a:cubicBezTo>
                <a:cubicBezTo>
                  <a:pt x="4405" y="11652"/>
                  <a:pt x="4427" y="11616"/>
                  <a:pt x="4440" y="11584"/>
                </a:cubicBezTo>
                <a:cubicBezTo>
                  <a:pt x="4457" y="11543"/>
                  <a:pt x="4473" y="11501"/>
                  <a:pt x="4490" y="11460"/>
                </a:cubicBezTo>
                <a:cubicBezTo>
                  <a:pt x="4508" y="11415"/>
                  <a:pt x="4521" y="11374"/>
                  <a:pt x="4539" y="11336"/>
                </a:cubicBezTo>
                <a:cubicBezTo>
                  <a:pt x="4554" y="11304"/>
                  <a:pt x="4574" y="11270"/>
                  <a:pt x="4589" y="11237"/>
                </a:cubicBezTo>
                <a:cubicBezTo>
                  <a:pt x="4603" y="11207"/>
                  <a:pt x="4600" y="11167"/>
                  <a:pt x="4614" y="11137"/>
                </a:cubicBezTo>
                <a:cubicBezTo>
                  <a:pt x="4635" y="11092"/>
                  <a:pt x="4666" y="11056"/>
                  <a:pt x="4688" y="11013"/>
                </a:cubicBezTo>
                <a:cubicBezTo>
                  <a:pt x="4712" y="10968"/>
                  <a:pt x="4734" y="10909"/>
                  <a:pt x="4762" y="10864"/>
                </a:cubicBezTo>
                <a:cubicBezTo>
                  <a:pt x="4790" y="10820"/>
                  <a:pt x="4807" y="10787"/>
                  <a:pt x="4837" y="10740"/>
                </a:cubicBezTo>
                <a:cubicBezTo>
                  <a:pt x="4860" y="10705"/>
                  <a:pt x="4888" y="10679"/>
                  <a:pt x="4911" y="10641"/>
                </a:cubicBezTo>
                <a:cubicBezTo>
                  <a:pt x="4945" y="10585"/>
                  <a:pt x="4980" y="10549"/>
                  <a:pt x="5011" y="10492"/>
                </a:cubicBezTo>
                <a:cubicBezTo>
                  <a:pt x="5039" y="10441"/>
                  <a:pt x="5059" y="10373"/>
                  <a:pt x="5085" y="10319"/>
                </a:cubicBezTo>
                <a:cubicBezTo>
                  <a:pt x="5102" y="10284"/>
                  <a:pt x="5120" y="10255"/>
                  <a:pt x="5135" y="10220"/>
                </a:cubicBezTo>
                <a:cubicBezTo>
                  <a:pt x="5155" y="10174"/>
                  <a:pt x="5168" y="10137"/>
                  <a:pt x="5184" y="10096"/>
                </a:cubicBezTo>
                <a:cubicBezTo>
                  <a:pt x="5197" y="10064"/>
                  <a:pt x="5196" y="10028"/>
                  <a:pt x="5209" y="9996"/>
                </a:cubicBezTo>
                <a:cubicBezTo>
                  <a:pt x="5229" y="9947"/>
                  <a:pt x="5241" y="9896"/>
                  <a:pt x="5259" y="9847"/>
                </a:cubicBezTo>
                <a:cubicBezTo>
                  <a:pt x="5276" y="9799"/>
                  <a:pt x="5294" y="9756"/>
                  <a:pt x="5308" y="9723"/>
                </a:cubicBezTo>
                <a:cubicBezTo>
                  <a:pt x="5325" y="9683"/>
                  <a:pt x="5338" y="9631"/>
                  <a:pt x="5358" y="9599"/>
                </a:cubicBezTo>
                <a:cubicBezTo>
                  <a:pt x="5374" y="9573"/>
                  <a:pt x="5390" y="9520"/>
                  <a:pt x="5407" y="9500"/>
                </a:cubicBezTo>
                <a:cubicBezTo>
                  <a:pt x="5417" y="9488"/>
                  <a:pt x="5445" y="9463"/>
                  <a:pt x="5457" y="9451"/>
                </a:cubicBezTo>
                <a:cubicBezTo>
                  <a:pt x="5472" y="9437"/>
                  <a:pt x="5501" y="9417"/>
                  <a:pt x="5531" y="9401"/>
                </a:cubicBezTo>
                <a:cubicBezTo>
                  <a:pt x="5572" y="9380"/>
                  <a:pt x="5571" y="9355"/>
                  <a:pt x="5606" y="9351"/>
                </a:cubicBezTo>
                <a:cubicBezTo>
                  <a:pt x="5668" y="9344"/>
                  <a:pt x="5647" y="9338"/>
                  <a:pt x="5705" y="9351"/>
                </a:cubicBezTo>
                <a:cubicBezTo>
                  <a:pt x="5749" y="9361"/>
                  <a:pt x="5760" y="9389"/>
                  <a:pt x="5779" y="9401"/>
                </a:cubicBezTo>
                <a:cubicBezTo>
                  <a:pt x="5804" y="9417"/>
                  <a:pt x="5806" y="9455"/>
                  <a:pt x="5829" y="9475"/>
                </a:cubicBezTo>
                <a:cubicBezTo>
                  <a:pt x="5863" y="9505"/>
                  <a:pt x="5860" y="9526"/>
                  <a:pt x="5879" y="9550"/>
                </a:cubicBezTo>
                <a:cubicBezTo>
                  <a:pt x="5908" y="9588"/>
                  <a:pt x="5929" y="9611"/>
                  <a:pt x="5953" y="9649"/>
                </a:cubicBezTo>
                <a:cubicBezTo>
                  <a:pt x="5971" y="9677"/>
                  <a:pt x="5983" y="9717"/>
                  <a:pt x="6003" y="9748"/>
                </a:cubicBezTo>
                <a:cubicBezTo>
                  <a:pt x="6017" y="9770"/>
                  <a:pt x="6048" y="9839"/>
                  <a:pt x="6052" y="9847"/>
                </a:cubicBezTo>
                <a:cubicBezTo>
                  <a:pt x="6069" y="9880"/>
                  <a:pt x="6082" y="9913"/>
                  <a:pt x="6102" y="9947"/>
                </a:cubicBezTo>
                <a:cubicBezTo>
                  <a:pt x="6118" y="9975"/>
                  <a:pt x="6130" y="9981"/>
                  <a:pt x="6152" y="10021"/>
                </a:cubicBezTo>
                <a:cubicBezTo>
                  <a:pt x="6169" y="10053"/>
                  <a:pt x="6181" y="10087"/>
                  <a:pt x="6201" y="10120"/>
                </a:cubicBezTo>
                <a:cubicBezTo>
                  <a:pt x="6221" y="10155"/>
                  <a:pt x="6234" y="10186"/>
                  <a:pt x="6251" y="10220"/>
                </a:cubicBezTo>
                <a:cubicBezTo>
                  <a:pt x="6270" y="10257"/>
                  <a:pt x="6304" y="10281"/>
                  <a:pt x="6325" y="10319"/>
                </a:cubicBezTo>
                <a:cubicBezTo>
                  <a:pt x="6341" y="10349"/>
                  <a:pt x="6359" y="10386"/>
                  <a:pt x="6375" y="10418"/>
                </a:cubicBezTo>
                <a:cubicBezTo>
                  <a:pt x="6389" y="10446"/>
                  <a:pt x="6418" y="10504"/>
                  <a:pt x="6424" y="10517"/>
                </a:cubicBezTo>
                <a:cubicBezTo>
                  <a:pt x="6439" y="10547"/>
                  <a:pt x="6460" y="10585"/>
                  <a:pt x="6474" y="10616"/>
                </a:cubicBezTo>
                <a:cubicBezTo>
                  <a:pt x="6491" y="10656"/>
                  <a:pt x="6507" y="10700"/>
                  <a:pt x="6524" y="10740"/>
                </a:cubicBezTo>
                <a:cubicBezTo>
                  <a:pt x="6541" y="10781"/>
                  <a:pt x="6557" y="10824"/>
                  <a:pt x="6573" y="10864"/>
                </a:cubicBezTo>
                <a:cubicBezTo>
                  <a:pt x="6586" y="10897"/>
                  <a:pt x="6586" y="10931"/>
                  <a:pt x="6598" y="10964"/>
                </a:cubicBezTo>
                <a:cubicBezTo>
                  <a:pt x="6613" y="11004"/>
                  <a:pt x="6631" y="11049"/>
                  <a:pt x="6648" y="11088"/>
                </a:cubicBezTo>
                <a:cubicBezTo>
                  <a:pt x="6662" y="11122"/>
                  <a:pt x="6683" y="11153"/>
                  <a:pt x="6697" y="11187"/>
                </a:cubicBezTo>
                <a:cubicBezTo>
                  <a:pt x="6710" y="11218"/>
                  <a:pt x="6708" y="11255"/>
                  <a:pt x="6722" y="11286"/>
                </a:cubicBezTo>
                <a:cubicBezTo>
                  <a:pt x="6738" y="11320"/>
                  <a:pt x="6757" y="11352"/>
                  <a:pt x="6772" y="11385"/>
                </a:cubicBezTo>
                <a:cubicBezTo>
                  <a:pt x="6793" y="11429"/>
                  <a:pt x="6824" y="11460"/>
                  <a:pt x="6846" y="11509"/>
                </a:cubicBezTo>
                <a:cubicBezTo>
                  <a:pt x="6856" y="11531"/>
                  <a:pt x="6895" y="11581"/>
                  <a:pt x="6896" y="11584"/>
                </a:cubicBezTo>
                <a:cubicBezTo>
                  <a:pt x="6909" y="11617"/>
                  <a:pt x="6907" y="11651"/>
                  <a:pt x="6921" y="11683"/>
                </a:cubicBezTo>
                <a:cubicBezTo>
                  <a:pt x="6940" y="11725"/>
                  <a:pt x="6954" y="11764"/>
                  <a:pt x="6970" y="11807"/>
                </a:cubicBezTo>
                <a:cubicBezTo>
                  <a:pt x="6985" y="11848"/>
                  <a:pt x="6984" y="11850"/>
                  <a:pt x="6995" y="11881"/>
                </a:cubicBezTo>
                <a:cubicBezTo>
                  <a:pt x="7010" y="11924"/>
                  <a:pt x="7008" y="11922"/>
                  <a:pt x="7020" y="11956"/>
                </a:cubicBezTo>
                <a:cubicBezTo>
                  <a:pt x="7042" y="12018"/>
                  <a:pt x="7049" y="12071"/>
                  <a:pt x="7069" y="12129"/>
                </a:cubicBezTo>
                <a:cubicBezTo>
                  <a:pt x="7081" y="12165"/>
                  <a:pt x="7107" y="12194"/>
                  <a:pt x="7119" y="12229"/>
                </a:cubicBezTo>
                <a:cubicBezTo>
                  <a:pt x="7153" y="12325"/>
                  <a:pt x="7183" y="12413"/>
                  <a:pt x="7218" y="12502"/>
                </a:cubicBezTo>
                <a:cubicBezTo>
                  <a:pt x="7232" y="12536"/>
                  <a:pt x="7254" y="12567"/>
                  <a:pt x="7268" y="12601"/>
                </a:cubicBezTo>
                <a:cubicBezTo>
                  <a:pt x="7280" y="12632"/>
                  <a:pt x="7280" y="12669"/>
                  <a:pt x="7293" y="12700"/>
                </a:cubicBezTo>
                <a:cubicBezTo>
                  <a:pt x="7309" y="12738"/>
                  <a:pt x="7326" y="12784"/>
                  <a:pt x="7342" y="12824"/>
                </a:cubicBezTo>
                <a:cubicBezTo>
                  <a:pt x="7354" y="12854"/>
                  <a:pt x="7354" y="12893"/>
                  <a:pt x="7367" y="12923"/>
                </a:cubicBezTo>
                <a:cubicBezTo>
                  <a:pt x="7372" y="12935"/>
                  <a:pt x="7403" y="12991"/>
                  <a:pt x="7417" y="13022"/>
                </a:cubicBezTo>
                <a:cubicBezTo>
                  <a:pt x="7435" y="13062"/>
                  <a:pt x="7482" y="13126"/>
                  <a:pt x="7491" y="13146"/>
                </a:cubicBezTo>
                <a:cubicBezTo>
                  <a:pt x="7510" y="13190"/>
                  <a:pt x="7520" y="13227"/>
                  <a:pt x="7541" y="13271"/>
                </a:cubicBezTo>
                <a:cubicBezTo>
                  <a:pt x="7558" y="13307"/>
                  <a:pt x="7550" y="13316"/>
                  <a:pt x="7565" y="13345"/>
                </a:cubicBezTo>
                <a:cubicBezTo>
                  <a:pt x="7583" y="13379"/>
                  <a:pt x="7599" y="13411"/>
                  <a:pt x="7615" y="13444"/>
                </a:cubicBezTo>
                <a:cubicBezTo>
                  <a:pt x="7631" y="13476"/>
                  <a:pt x="7649" y="13514"/>
                  <a:pt x="7665" y="13543"/>
                </a:cubicBezTo>
                <a:cubicBezTo>
                  <a:pt x="7686" y="13582"/>
                  <a:pt x="7719" y="13605"/>
                  <a:pt x="7739" y="13643"/>
                </a:cubicBezTo>
                <a:cubicBezTo>
                  <a:pt x="7757" y="13677"/>
                  <a:pt x="7748" y="13689"/>
                  <a:pt x="7764" y="13717"/>
                </a:cubicBezTo>
                <a:cubicBezTo>
                  <a:pt x="7783" y="13752"/>
                  <a:pt x="7820" y="13779"/>
                  <a:pt x="7838" y="13816"/>
                </a:cubicBezTo>
                <a:cubicBezTo>
                  <a:pt x="7854" y="13850"/>
                  <a:pt x="7879" y="13899"/>
                  <a:pt x="7888" y="13915"/>
                </a:cubicBezTo>
                <a:cubicBezTo>
                  <a:pt x="7905" y="13947"/>
                  <a:pt x="7919" y="13982"/>
                  <a:pt x="7938" y="14015"/>
                </a:cubicBezTo>
                <a:cubicBezTo>
                  <a:pt x="7956" y="14047"/>
                  <a:pt x="7946" y="14062"/>
                  <a:pt x="7962" y="14089"/>
                </a:cubicBezTo>
                <a:cubicBezTo>
                  <a:pt x="7984" y="14126"/>
                  <a:pt x="8019" y="14166"/>
                  <a:pt x="8037" y="14188"/>
                </a:cubicBezTo>
                <a:cubicBezTo>
                  <a:pt x="8070" y="14227"/>
                  <a:pt x="8098" y="14290"/>
                  <a:pt x="8136" y="14312"/>
                </a:cubicBezTo>
                <a:cubicBezTo>
                  <a:pt x="8161" y="14327"/>
                  <a:pt x="8172" y="14347"/>
                  <a:pt x="8210" y="14362"/>
                </a:cubicBezTo>
                <a:cubicBezTo>
                  <a:pt x="8237" y="14373"/>
                  <a:pt x="8282" y="14383"/>
                  <a:pt x="8310" y="14387"/>
                </a:cubicBezTo>
                <a:cubicBezTo>
                  <a:pt x="8481" y="14414"/>
                  <a:pt x="8558" y="14352"/>
                  <a:pt x="8682" y="14288"/>
                </a:cubicBezTo>
                <a:cubicBezTo>
                  <a:pt x="8713" y="14272"/>
                  <a:pt x="8716" y="14264"/>
                  <a:pt x="8756" y="14238"/>
                </a:cubicBezTo>
                <a:cubicBezTo>
                  <a:pt x="8768" y="14230"/>
                  <a:pt x="8803" y="14185"/>
                  <a:pt x="8830" y="14163"/>
                </a:cubicBezTo>
                <a:cubicBezTo>
                  <a:pt x="8884" y="14119"/>
                  <a:pt x="8912" y="14084"/>
                  <a:pt x="8954" y="14039"/>
                </a:cubicBezTo>
                <a:cubicBezTo>
                  <a:pt x="8991" y="13999"/>
                  <a:pt x="8995" y="14010"/>
                  <a:pt x="9029" y="13965"/>
                </a:cubicBezTo>
                <a:cubicBezTo>
                  <a:pt x="9113" y="13854"/>
                  <a:pt x="9155" y="13762"/>
                  <a:pt x="9227" y="13643"/>
                </a:cubicBezTo>
                <a:cubicBezTo>
                  <a:pt x="9254" y="13598"/>
                  <a:pt x="9274" y="13565"/>
                  <a:pt x="9302" y="13519"/>
                </a:cubicBezTo>
                <a:cubicBezTo>
                  <a:pt x="9324" y="13483"/>
                  <a:pt x="9354" y="13457"/>
                  <a:pt x="9376" y="13419"/>
                </a:cubicBezTo>
                <a:cubicBezTo>
                  <a:pt x="9403" y="13373"/>
                  <a:pt x="9427" y="13325"/>
                  <a:pt x="9451" y="13271"/>
                </a:cubicBezTo>
                <a:cubicBezTo>
                  <a:pt x="9466" y="13237"/>
                  <a:pt x="9485" y="13204"/>
                  <a:pt x="9500" y="13171"/>
                </a:cubicBezTo>
                <a:cubicBezTo>
                  <a:pt x="9522" y="13122"/>
                  <a:pt x="9531" y="13072"/>
                  <a:pt x="9550" y="13022"/>
                </a:cubicBezTo>
                <a:cubicBezTo>
                  <a:pt x="9575" y="12958"/>
                  <a:pt x="9603" y="12905"/>
                  <a:pt x="9624" y="12849"/>
                </a:cubicBezTo>
                <a:cubicBezTo>
                  <a:pt x="9639" y="12810"/>
                  <a:pt x="9632" y="12764"/>
                  <a:pt x="9649" y="12725"/>
                </a:cubicBezTo>
                <a:cubicBezTo>
                  <a:pt x="9668" y="12681"/>
                  <a:pt x="9705" y="12645"/>
                  <a:pt x="9723" y="12601"/>
                </a:cubicBezTo>
                <a:cubicBezTo>
                  <a:pt x="9751" y="12533"/>
                  <a:pt x="9775" y="12451"/>
                  <a:pt x="9798" y="12402"/>
                </a:cubicBezTo>
                <a:cubicBezTo>
                  <a:pt x="9816" y="12363"/>
                  <a:pt x="9826" y="12323"/>
                  <a:pt x="9847" y="12278"/>
                </a:cubicBezTo>
                <a:cubicBezTo>
                  <a:pt x="9863" y="12244"/>
                  <a:pt x="9882" y="12214"/>
                  <a:pt x="9897" y="12179"/>
                </a:cubicBezTo>
                <a:cubicBezTo>
                  <a:pt x="9912" y="12145"/>
                  <a:pt x="9932" y="12114"/>
                  <a:pt x="9947" y="12080"/>
                </a:cubicBezTo>
                <a:cubicBezTo>
                  <a:pt x="9959" y="12052"/>
                  <a:pt x="9993" y="11988"/>
                  <a:pt x="9996" y="11981"/>
                </a:cubicBezTo>
                <a:cubicBezTo>
                  <a:pt x="10015" y="11929"/>
                  <a:pt x="10009" y="11916"/>
                  <a:pt x="10021" y="11881"/>
                </a:cubicBezTo>
                <a:cubicBezTo>
                  <a:pt x="10034" y="11842"/>
                  <a:pt x="10061" y="11796"/>
                  <a:pt x="10071" y="11757"/>
                </a:cubicBezTo>
                <a:cubicBezTo>
                  <a:pt x="10091" y="11682"/>
                  <a:pt x="10081" y="11611"/>
                  <a:pt x="10096" y="11534"/>
                </a:cubicBezTo>
                <a:cubicBezTo>
                  <a:pt x="10107" y="11475"/>
                  <a:pt x="10134" y="11396"/>
                  <a:pt x="10145" y="11336"/>
                </a:cubicBezTo>
                <a:cubicBezTo>
                  <a:pt x="10158" y="11265"/>
                  <a:pt x="10152" y="11205"/>
                  <a:pt x="10170" y="11137"/>
                </a:cubicBezTo>
                <a:cubicBezTo>
                  <a:pt x="10182" y="11091"/>
                  <a:pt x="10205" y="11035"/>
                  <a:pt x="10220" y="10988"/>
                </a:cubicBezTo>
                <a:cubicBezTo>
                  <a:pt x="10233" y="10945"/>
                  <a:pt x="10255" y="10905"/>
                  <a:pt x="10269" y="10864"/>
                </a:cubicBezTo>
                <a:cubicBezTo>
                  <a:pt x="10283" y="10822"/>
                  <a:pt x="10307" y="10779"/>
                  <a:pt x="10319" y="10740"/>
                </a:cubicBezTo>
                <a:cubicBezTo>
                  <a:pt x="10334" y="10689"/>
                  <a:pt x="10354" y="10640"/>
                  <a:pt x="10368" y="10592"/>
                </a:cubicBezTo>
                <a:cubicBezTo>
                  <a:pt x="10381" y="10550"/>
                  <a:pt x="10382" y="10508"/>
                  <a:pt x="10393" y="10468"/>
                </a:cubicBezTo>
                <a:cubicBezTo>
                  <a:pt x="10405" y="10424"/>
                  <a:pt x="10404" y="10387"/>
                  <a:pt x="10418" y="10344"/>
                </a:cubicBezTo>
                <a:cubicBezTo>
                  <a:pt x="10429" y="10310"/>
                  <a:pt x="10429" y="10253"/>
                  <a:pt x="10443" y="10220"/>
                </a:cubicBezTo>
                <a:cubicBezTo>
                  <a:pt x="10465" y="10170"/>
                  <a:pt x="10495" y="10119"/>
                  <a:pt x="10517" y="10071"/>
                </a:cubicBezTo>
                <a:cubicBezTo>
                  <a:pt x="10535" y="10032"/>
                  <a:pt x="10571" y="10010"/>
                  <a:pt x="10592" y="9971"/>
                </a:cubicBezTo>
                <a:cubicBezTo>
                  <a:pt x="10620" y="9920"/>
                  <a:pt x="10634" y="9855"/>
                  <a:pt x="10666" y="9798"/>
                </a:cubicBezTo>
                <a:cubicBezTo>
                  <a:pt x="10707" y="9724"/>
                  <a:pt x="10755" y="9672"/>
                  <a:pt x="10790" y="9599"/>
                </a:cubicBezTo>
                <a:cubicBezTo>
                  <a:pt x="10815" y="9547"/>
                  <a:pt x="10817" y="9497"/>
                  <a:pt x="10840" y="9451"/>
                </a:cubicBezTo>
                <a:cubicBezTo>
                  <a:pt x="10864" y="9403"/>
                  <a:pt x="10886" y="9354"/>
                  <a:pt x="10914" y="9302"/>
                </a:cubicBezTo>
                <a:cubicBezTo>
                  <a:pt x="10931" y="9270"/>
                  <a:pt x="10947" y="9232"/>
                  <a:pt x="10964" y="9203"/>
                </a:cubicBezTo>
                <a:cubicBezTo>
                  <a:pt x="10983" y="9171"/>
                  <a:pt x="10995" y="9132"/>
                  <a:pt x="11013" y="9103"/>
                </a:cubicBezTo>
                <a:cubicBezTo>
                  <a:pt x="11041" y="9057"/>
                  <a:pt x="11062" y="9043"/>
                  <a:pt x="11088" y="9004"/>
                </a:cubicBezTo>
                <a:cubicBezTo>
                  <a:pt x="11111" y="8970"/>
                  <a:pt x="11136" y="8933"/>
                  <a:pt x="11162" y="8905"/>
                </a:cubicBezTo>
                <a:cubicBezTo>
                  <a:pt x="11181" y="8885"/>
                  <a:pt x="11177" y="8855"/>
                  <a:pt x="11212" y="8830"/>
                </a:cubicBezTo>
                <a:cubicBezTo>
                  <a:pt x="11231" y="8817"/>
                  <a:pt x="11247" y="8795"/>
                  <a:pt x="11286" y="8781"/>
                </a:cubicBezTo>
                <a:cubicBezTo>
                  <a:pt x="11324" y="8768"/>
                  <a:pt x="11309" y="8764"/>
                  <a:pt x="11361" y="8756"/>
                </a:cubicBezTo>
                <a:cubicBezTo>
                  <a:pt x="11479" y="8738"/>
                  <a:pt x="11560" y="8810"/>
                  <a:pt x="11658" y="8855"/>
                </a:cubicBezTo>
                <a:cubicBezTo>
                  <a:pt x="11701" y="8874"/>
                  <a:pt x="11744" y="8900"/>
                  <a:pt x="11782" y="8930"/>
                </a:cubicBezTo>
                <a:cubicBezTo>
                  <a:pt x="11854" y="8986"/>
                  <a:pt x="11909" y="9041"/>
                  <a:pt x="11956" y="9103"/>
                </a:cubicBezTo>
                <a:cubicBezTo>
                  <a:pt x="11980" y="9135"/>
                  <a:pt x="11985" y="9174"/>
                  <a:pt x="12005" y="9203"/>
                </a:cubicBezTo>
                <a:cubicBezTo>
                  <a:pt x="12033" y="9244"/>
                  <a:pt x="12060" y="9287"/>
                  <a:pt x="12080" y="9327"/>
                </a:cubicBezTo>
                <a:cubicBezTo>
                  <a:pt x="12097" y="9361"/>
                  <a:pt x="12114" y="9416"/>
                  <a:pt x="12129" y="9451"/>
                </a:cubicBezTo>
                <a:cubicBezTo>
                  <a:pt x="12154" y="9510"/>
                  <a:pt x="12177" y="9581"/>
                  <a:pt x="12204" y="9649"/>
                </a:cubicBezTo>
                <a:cubicBezTo>
                  <a:pt x="12220" y="9689"/>
                  <a:pt x="12240" y="9733"/>
                  <a:pt x="12254" y="9773"/>
                </a:cubicBezTo>
                <a:cubicBezTo>
                  <a:pt x="12272" y="9823"/>
                  <a:pt x="12284" y="9867"/>
                  <a:pt x="12303" y="9922"/>
                </a:cubicBezTo>
                <a:cubicBezTo>
                  <a:pt x="12323" y="9980"/>
                  <a:pt x="12336" y="10040"/>
                  <a:pt x="12353" y="10096"/>
                </a:cubicBezTo>
                <a:cubicBezTo>
                  <a:pt x="12367" y="10142"/>
                  <a:pt x="12388" y="10195"/>
                  <a:pt x="12402" y="10244"/>
                </a:cubicBezTo>
                <a:cubicBezTo>
                  <a:pt x="12414" y="10286"/>
                  <a:pt x="12415" y="10322"/>
                  <a:pt x="12427" y="10368"/>
                </a:cubicBezTo>
                <a:cubicBezTo>
                  <a:pt x="12443" y="10429"/>
                  <a:pt x="12464" y="10505"/>
                  <a:pt x="12477" y="10567"/>
                </a:cubicBezTo>
                <a:cubicBezTo>
                  <a:pt x="12493" y="10643"/>
                  <a:pt x="12485" y="10712"/>
                  <a:pt x="12502" y="10790"/>
                </a:cubicBezTo>
                <a:cubicBezTo>
                  <a:pt x="12512" y="10837"/>
                  <a:pt x="12540" y="10892"/>
                  <a:pt x="12551" y="10939"/>
                </a:cubicBezTo>
                <a:cubicBezTo>
                  <a:pt x="12559" y="10974"/>
                  <a:pt x="12567" y="11000"/>
                  <a:pt x="12576" y="11038"/>
                </a:cubicBezTo>
                <a:cubicBezTo>
                  <a:pt x="12590" y="11093"/>
                  <a:pt x="12583" y="11157"/>
                  <a:pt x="12601" y="11212"/>
                </a:cubicBezTo>
                <a:cubicBezTo>
                  <a:pt x="12614" y="11252"/>
                  <a:pt x="12635" y="11295"/>
                  <a:pt x="12650" y="11336"/>
                </a:cubicBezTo>
                <a:cubicBezTo>
                  <a:pt x="12662" y="11370"/>
                  <a:pt x="12689" y="11402"/>
                  <a:pt x="12700" y="11435"/>
                </a:cubicBezTo>
                <a:cubicBezTo>
                  <a:pt x="12724" y="11509"/>
                  <a:pt x="12752" y="11567"/>
                  <a:pt x="12774" y="11633"/>
                </a:cubicBezTo>
                <a:cubicBezTo>
                  <a:pt x="12790" y="11681"/>
                  <a:pt x="12809" y="11735"/>
                  <a:pt x="12824" y="11782"/>
                </a:cubicBezTo>
                <a:cubicBezTo>
                  <a:pt x="12850" y="11864"/>
                  <a:pt x="12852" y="11949"/>
                  <a:pt x="12874" y="12030"/>
                </a:cubicBezTo>
                <a:cubicBezTo>
                  <a:pt x="12888" y="12082"/>
                  <a:pt x="12911" y="12123"/>
                  <a:pt x="12923" y="12179"/>
                </a:cubicBezTo>
                <a:cubicBezTo>
                  <a:pt x="12937" y="12245"/>
                  <a:pt x="12960" y="12315"/>
                  <a:pt x="12973" y="12378"/>
                </a:cubicBezTo>
                <a:cubicBezTo>
                  <a:pt x="12986" y="12442"/>
                  <a:pt x="12984" y="12491"/>
                  <a:pt x="12998" y="12551"/>
                </a:cubicBezTo>
                <a:cubicBezTo>
                  <a:pt x="13007" y="12591"/>
                  <a:pt x="13010" y="12633"/>
                  <a:pt x="13022" y="12675"/>
                </a:cubicBezTo>
                <a:cubicBezTo>
                  <a:pt x="13034" y="12718"/>
                  <a:pt x="13058" y="12776"/>
                  <a:pt x="13072" y="12824"/>
                </a:cubicBezTo>
                <a:cubicBezTo>
                  <a:pt x="13088" y="12879"/>
                  <a:pt x="13104" y="12942"/>
                  <a:pt x="13122" y="12998"/>
                </a:cubicBezTo>
                <a:cubicBezTo>
                  <a:pt x="13136" y="13041"/>
                  <a:pt x="13152" y="13076"/>
                  <a:pt x="13171" y="13122"/>
                </a:cubicBezTo>
                <a:cubicBezTo>
                  <a:pt x="13190" y="13170"/>
                  <a:pt x="13200" y="13224"/>
                  <a:pt x="13221" y="13271"/>
                </a:cubicBezTo>
                <a:cubicBezTo>
                  <a:pt x="13224" y="13277"/>
                  <a:pt x="13260" y="13320"/>
                  <a:pt x="13271" y="13345"/>
                </a:cubicBezTo>
                <a:cubicBezTo>
                  <a:pt x="13283" y="13372"/>
                  <a:pt x="13342" y="13412"/>
                  <a:pt x="13345" y="13419"/>
                </a:cubicBezTo>
                <a:cubicBezTo>
                  <a:pt x="13370" y="13482"/>
                  <a:pt x="13370" y="13555"/>
                  <a:pt x="13395" y="13618"/>
                </a:cubicBezTo>
                <a:cubicBezTo>
                  <a:pt x="13411" y="13660"/>
                  <a:pt x="13428" y="13700"/>
                  <a:pt x="13444" y="13742"/>
                </a:cubicBezTo>
                <a:cubicBezTo>
                  <a:pt x="13459" y="13783"/>
                  <a:pt x="13478" y="13825"/>
                  <a:pt x="13494" y="13866"/>
                </a:cubicBezTo>
                <a:cubicBezTo>
                  <a:pt x="13506" y="13897"/>
                  <a:pt x="13506" y="13934"/>
                  <a:pt x="13519" y="13965"/>
                </a:cubicBezTo>
                <a:cubicBezTo>
                  <a:pt x="13538" y="14010"/>
                  <a:pt x="13553" y="14034"/>
                  <a:pt x="13568" y="14064"/>
                </a:cubicBezTo>
                <a:cubicBezTo>
                  <a:pt x="13586" y="14100"/>
                  <a:pt x="13575" y="14110"/>
                  <a:pt x="13593" y="14139"/>
                </a:cubicBezTo>
                <a:cubicBezTo>
                  <a:pt x="13610" y="14167"/>
                  <a:pt x="13625" y="14215"/>
                  <a:pt x="13643" y="14238"/>
                </a:cubicBezTo>
                <a:cubicBezTo>
                  <a:pt x="13711" y="14328"/>
                  <a:pt x="13839" y="14438"/>
                  <a:pt x="13891" y="14486"/>
                </a:cubicBezTo>
                <a:cubicBezTo>
                  <a:pt x="13903" y="14497"/>
                  <a:pt x="13929" y="14529"/>
                  <a:pt x="13940" y="14536"/>
                </a:cubicBezTo>
                <a:cubicBezTo>
                  <a:pt x="13955" y="14546"/>
                  <a:pt x="13981" y="14581"/>
                  <a:pt x="13990" y="14585"/>
                </a:cubicBezTo>
                <a:cubicBezTo>
                  <a:pt x="14021" y="14601"/>
                  <a:pt x="14038" y="14600"/>
                  <a:pt x="14064" y="14610"/>
                </a:cubicBezTo>
                <a:cubicBezTo>
                  <a:pt x="14107" y="14626"/>
                  <a:pt x="14141" y="14623"/>
                  <a:pt x="14188" y="14635"/>
                </a:cubicBezTo>
                <a:cubicBezTo>
                  <a:pt x="14305" y="14664"/>
                  <a:pt x="14445" y="14649"/>
                  <a:pt x="14536" y="14635"/>
                </a:cubicBezTo>
                <a:cubicBezTo>
                  <a:pt x="14594" y="14626"/>
                  <a:pt x="14633" y="14599"/>
                  <a:pt x="14684" y="14585"/>
                </a:cubicBezTo>
                <a:cubicBezTo>
                  <a:pt x="14738" y="14570"/>
                  <a:pt x="14786" y="14555"/>
                  <a:pt x="14833" y="14536"/>
                </a:cubicBezTo>
                <a:cubicBezTo>
                  <a:pt x="14913" y="14504"/>
                  <a:pt x="15000" y="14474"/>
                  <a:pt x="15056" y="14436"/>
                </a:cubicBezTo>
                <a:cubicBezTo>
                  <a:pt x="15093" y="14411"/>
                  <a:pt x="15118" y="14391"/>
                  <a:pt x="15156" y="14362"/>
                </a:cubicBezTo>
                <a:cubicBezTo>
                  <a:pt x="15187" y="14339"/>
                  <a:pt x="15215" y="14300"/>
                  <a:pt x="15230" y="14288"/>
                </a:cubicBezTo>
                <a:cubicBezTo>
                  <a:pt x="15347" y="14193"/>
                  <a:pt x="15417" y="14108"/>
                  <a:pt x="15528" y="14015"/>
                </a:cubicBezTo>
                <a:cubicBezTo>
                  <a:pt x="15567" y="13982"/>
                  <a:pt x="15638" y="13953"/>
                  <a:pt x="15677" y="13915"/>
                </a:cubicBezTo>
                <a:cubicBezTo>
                  <a:pt x="15779" y="13816"/>
                  <a:pt x="15858" y="13721"/>
                  <a:pt x="15949" y="13618"/>
                </a:cubicBezTo>
                <a:cubicBezTo>
                  <a:pt x="15978" y="13585"/>
                  <a:pt x="15992" y="13556"/>
                  <a:pt x="16024" y="13519"/>
                </a:cubicBezTo>
                <a:cubicBezTo>
                  <a:pt x="16053" y="13486"/>
                  <a:pt x="16066" y="13456"/>
                  <a:pt x="16098" y="13419"/>
                </a:cubicBezTo>
                <a:cubicBezTo>
                  <a:pt x="16168" y="13338"/>
                  <a:pt x="16231" y="13276"/>
                  <a:pt x="16297" y="13196"/>
                </a:cubicBezTo>
                <a:cubicBezTo>
                  <a:pt x="16342" y="13142"/>
                  <a:pt x="16382" y="13068"/>
                  <a:pt x="16421" y="13022"/>
                </a:cubicBezTo>
                <a:cubicBezTo>
                  <a:pt x="16497" y="12932"/>
                  <a:pt x="16586" y="12855"/>
                  <a:pt x="16644" y="12774"/>
                </a:cubicBezTo>
                <a:cubicBezTo>
                  <a:pt x="16687" y="12713"/>
                  <a:pt x="16707" y="12657"/>
                  <a:pt x="16743" y="12601"/>
                </a:cubicBezTo>
                <a:cubicBezTo>
                  <a:pt x="16766" y="12565"/>
                  <a:pt x="16794" y="12540"/>
                  <a:pt x="16818" y="12502"/>
                </a:cubicBezTo>
                <a:cubicBezTo>
                  <a:pt x="16843" y="12463"/>
                  <a:pt x="16844" y="12411"/>
                  <a:pt x="16867" y="12378"/>
                </a:cubicBezTo>
                <a:cubicBezTo>
                  <a:pt x="16902" y="12327"/>
                  <a:pt x="16944" y="12285"/>
                  <a:pt x="16966" y="12254"/>
                </a:cubicBezTo>
                <a:cubicBezTo>
                  <a:pt x="17047" y="12137"/>
                  <a:pt x="17135" y="12062"/>
                  <a:pt x="17214" y="11931"/>
                </a:cubicBezTo>
                <a:cubicBezTo>
                  <a:pt x="17239" y="11890"/>
                  <a:pt x="17241" y="11846"/>
                  <a:pt x="17264" y="11807"/>
                </a:cubicBezTo>
                <a:cubicBezTo>
                  <a:pt x="17289" y="11765"/>
                  <a:pt x="17317" y="11724"/>
                  <a:pt x="17338" y="11683"/>
                </a:cubicBezTo>
                <a:cubicBezTo>
                  <a:pt x="17360" y="11639"/>
                  <a:pt x="17370" y="11598"/>
                  <a:pt x="17388" y="11559"/>
                </a:cubicBezTo>
                <a:cubicBezTo>
                  <a:pt x="17413" y="11506"/>
                  <a:pt x="17438" y="11440"/>
                  <a:pt x="17462" y="11385"/>
                </a:cubicBezTo>
                <a:cubicBezTo>
                  <a:pt x="17479" y="11346"/>
                  <a:pt x="17509" y="11305"/>
                  <a:pt x="17512" y="11261"/>
                </a:cubicBezTo>
                <a:cubicBezTo>
                  <a:pt x="17515" y="11221"/>
                  <a:pt x="17624" y="11202"/>
                  <a:pt x="17587" y="11187"/>
                </a:cubicBezTo>
                <a:cubicBezTo>
                  <a:pt x="17547" y="11171"/>
                  <a:pt x="17489" y="11250"/>
                  <a:pt x="17462" y="11261"/>
                </a:cubicBezTo>
                <a:cubicBezTo>
                  <a:pt x="17386" y="11292"/>
                  <a:pt x="17307" y="11368"/>
                  <a:pt x="17239" y="11410"/>
                </a:cubicBezTo>
                <a:cubicBezTo>
                  <a:pt x="17231" y="11418"/>
                  <a:pt x="17222" y="11427"/>
                  <a:pt x="17214" y="11435"/>
                </a:cubicBezTo>
                <a:cubicBezTo>
                  <a:pt x="17231" y="11422"/>
                  <a:pt x="17267" y="11403"/>
                  <a:pt x="17289" y="11385"/>
                </a:cubicBezTo>
                <a:cubicBezTo>
                  <a:pt x="17333" y="11348"/>
                  <a:pt x="17405" y="11241"/>
                  <a:pt x="17462" y="11212"/>
                </a:cubicBezTo>
                <a:cubicBezTo>
                  <a:pt x="17503" y="11191"/>
                  <a:pt x="17588" y="11108"/>
                  <a:pt x="17636" y="11112"/>
                </a:cubicBezTo>
                <a:cubicBezTo>
                  <a:pt x="17680" y="11116"/>
                  <a:pt x="17698" y="11151"/>
                  <a:pt x="17735" y="11162"/>
                </a:cubicBezTo>
                <a:cubicBezTo>
                  <a:pt x="17794" y="11180"/>
                  <a:pt x="17834" y="11253"/>
                  <a:pt x="17884" y="11286"/>
                </a:cubicBezTo>
                <a:cubicBezTo>
                  <a:pt x="17957" y="11335"/>
                  <a:pt x="18013" y="11406"/>
                  <a:pt x="18083" y="11460"/>
                </a:cubicBezTo>
                <a:cubicBezTo>
                  <a:pt x="18097" y="11471"/>
                  <a:pt x="18116" y="11495"/>
                  <a:pt x="18132" y="11509"/>
                </a:cubicBezTo>
                <a:cubicBezTo>
                  <a:pt x="18124" y="11501"/>
                  <a:pt x="18115" y="11493"/>
                  <a:pt x="18107" y="11485"/>
                </a:cubicBezTo>
              </a:path>
              <a:path w="18604" h="8261">
                <a:moveTo>
                  <a:pt x="4564" y="11658"/>
                </a:moveTo>
                <a:cubicBezTo>
                  <a:pt x="4564" y="11604"/>
                  <a:pt x="4552" y="11622"/>
                  <a:pt x="4539" y="11584"/>
                </a:cubicBezTo>
              </a:path>
              <a:path w="18604" h="8261">
                <a:moveTo>
                  <a:pt x="4440" y="11485"/>
                </a:moveTo>
                <a:cubicBezTo>
                  <a:pt x="4440" y="11493"/>
                  <a:pt x="4440" y="11501"/>
                  <a:pt x="4440" y="11509"/>
                </a:cubicBezTo>
                <a:cubicBezTo>
                  <a:pt x="4422" y="11527"/>
                  <a:pt x="4410" y="11556"/>
                  <a:pt x="4390" y="11584"/>
                </a:cubicBezTo>
                <a:cubicBezTo>
                  <a:pt x="4364" y="11620"/>
                  <a:pt x="4344" y="11652"/>
                  <a:pt x="4316" y="11683"/>
                </a:cubicBezTo>
                <a:cubicBezTo>
                  <a:pt x="4280" y="11723"/>
                  <a:pt x="4244" y="11761"/>
                  <a:pt x="4217" y="11807"/>
                </a:cubicBezTo>
                <a:cubicBezTo>
                  <a:pt x="4174" y="11878"/>
                  <a:pt x="4115" y="11923"/>
                  <a:pt x="4068" y="11981"/>
                </a:cubicBezTo>
                <a:cubicBezTo>
                  <a:pt x="4028" y="12030"/>
                  <a:pt x="3990" y="12111"/>
                  <a:pt x="3944" y="12154"/>
                </a:cubicBezTo>
                <a:cubicBezTo>
                  <a:pt x="3893" y="12201"/>
                  <a:pt x="3848" y="12250"/>
                  <a:pt x="3795" y="12303"/>
                </a:cubicBezTo>
                <a:cubicBezTo>
                  <a:pt x="3751" y="12347"/>
                  <a:pt x="3715" y="12392"/>
                  <a:pt x="3671" y="12427"/>
                </a:cubicBezTo>
                <a:cubicBezTo>
                  <a:pt x="3634" y="12446"/>
                  <a:pt x="3688" y="12461"/>
                  <a:pt x="3621" y="12427"/>
                </a:cubicBezTo>
              </a:path>
              <a:path w="18604" h="8261">
                <a:moveTo>
                  <a:pt x="3473" y="12030"/>
                </a:moveTo>
                <a:cubicBezTo>
                  <a:pt x="3456" y="12038"/>
                  <a:pt x="3473" y="12119"/>
                  <a:pt x="3473" y="12179"/>
                </a:cubicBezTo>
                <a:cubicBezTo>
                  <a:pt x="3473" y="12238"/>
                  <a:pt x="3448" y="12265"/>
                  <a:pt x="3448" y="12328"/>
                </a:cubicBezTo>
                <a:cubicBezTo>
                  <a:pt x="3448" y="12367"/>
                  <a:pt x="3430" y="12455"/>
                  <a:pt x="3473" y="12477"/>
                </a:cubicBezTo>
                <a:cubicBezTo>
                  <a:pt x="3513" y="12497"/>
                  <a:pt x="3545" y="12461"/>
                  <a:pt x="3572" y="12452"/>
                </a:cubicBezTo>
                <a:cubicBezTo>
                  <a:pt x="3611" y="12439"/>
                  <a:pt x="3651" y="12410"/>
                  <a:pt x="3696" y="12402"/>
                </a:cubicBezTo>
                <a:cubicBezTo>
                  <a:pt x="3772" y="12389"/>
                  <a:pt x="3845" y="12370"/>
                  <a:pt x="3919" y="12353"/>
                </a:cubicBezTo>
                <a:cubicBezTo>
                  <a:pt x="3967" y="12342"/>
                  <a:pt x="4002" y="12342"/>
                  <a:pt x="4043" y="12328"/>
                </a:cubicBezTo>
                <a:cubicBezTo>
                  <a:pt x="4094" y="12311"/>
                  <a:pt x="4039" y="12328"/>
                  <a:pt x="4018" y="12328"/>
                </a:cubicBezTo>
              </a:path>
              <a:path w="18604" h="8261">
                <a:moveTo>
                  <a:pt x="5631" y="9351"/>
                </a:moveTo>
                <a:cubicBezTo>
                  <a:pt x="5639" y="9343"/>
                  <a:pt x="5647" y="9335"/>
                  <a:pt x="5655" y="9327"/>
                </a:cubicBezTo>
                <a:cubicBezTo>
                  <a:pt x="5617" y="9327"/>
                  <a:pt x="5586" y="9312"/>
                  <a:pt x="5581" y="9351"/>
                </a:cubicBezTo>
                <a:cubicBezTo>
                  <a:pt x="5574" y="9404"/>
                  <a:pt x="5617" y="9401"/>
                  <a:pt x="5655" y="9401"/>
                </a:cubicBezTo>
                <a:cubicBezTo>
                  <a:pt x="5693" y="9401"/>
                  <a:pt x="5736" y="9389"/>
                  <a:pt x="5705" y="9376"/>
                </a:cubicBezTo>
                <a:cubicBezTo>
                  <a:pt x="5688" y="9368"/>
                  <a:pt x="5672" y="9359"/>
                  <a:pt x="5655" y="93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31920" y="3044880"/>
            <a:ext cx="617400" cy="223920"/>
          </a:xfrm>
          <a:custGeom>
            <a:avLst/>
            <a:gdLst/>
            <a:ahLst/>
            <a:rect l="l" t="t" r="r" b="b"/>
            <a:pathLst>
              <a:path w="1713" h="622">
                <a:moveTo>
                  <a:pt x="4068" y="8830"/>
                </a:moveTo>
                <a:cubicBezTo>
                  <a:pt x="4212" y="8830"/>
                  <a:pt x="4350" y="8818"/>
                  <a:pt x="4490" y="8806"/>
                </a:cubicBezTo>
                <a:cubicBezTo>
                  <a:pt x="4669" y="8790"/>
                  <a:pt x="4865" y="8842"/>
                  <a:pt x="5035" y="8830"/>
                </a:cubicBezTo>
                <a:cubicBezTo>
                  <a:pt x="5069" y="8828"/>
                  <a:pt x="5197" y="8766"/>
                  <a:pt x="5085" y="8830"/>
                </a:cubicBezTo>
              </a:path>
              <a:path w="1713" h="622">
                <a:moveTo>
                  <a:pt x="3473" y="8508"/>
                </a:moveTo>
                <a:cubicBezTo>
                  <a:pt x="3550" y="8485"/>
                  <a:pt x="3586" y="8471"/>
                  <a:pt x="3646" y="8483"/>
                </a:cubicBezTo>
                <a:cubicBezTo>
                  <a:pt x="3697" y="8493"/>
                  <a:pt x="3696" y="8509"/>
                  <a:pt x="3696" y="8558"/>
                </a:cubicBezTo>
                <a:cubicBezTo>
                  <a:pt x="3696" y="8590"/>
                  <a:pt x="3633" y="8666"/>
                  <a:pt x="3597" y="8682"/>
                </a:cubicBezTo>
                <a:cubicBezTo>
                  <a:pt x="3559" y="8699"/>
                  <a:pt x="3564" y="8718"/>
                  <a:pt x="3597" y="8756"/>
                </a:cubicBezTo>
                <a:cubicBezTo>
                  <a:pt x="3637" y="8802"/>
                  <a:pt x="3699" y="8819"/>
                  <a:pt x="3746" y="8855"/>
                </a:cubicBezTo>
                <a:cubicBezTo>
                  <a:pt x="3768" y="8878"/>
                  <a:pt x="3776" y="8883"/>
                  <a:pt x="3770" y="8905"/>
                </a:cubicBezTo>
                <a:cubicBezTo>
                  <a:pt x="3727" y="8940"/>
                  <a:pt x="3675" y="8965"/>
                  <a:pt x="3621" y="8979"/>
                </a:cubicBezTo>
                <a:cubicBezTo>
                  <a:pt x="3564" y="8993"/>
                  <a:pt x="3491" y="9016"/>
                  <a:pt x="3448" y="9054"/>
                </a:cubicBezTo>
                <a:cubicBezTo>
                  <a:pt x="3440" y="9062"/>
                  <a:pt x="3431" y="9071"/>
                  <a:pt x="3423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268280" y="3490920"/>
            <a:ext cx="463680" cy="125280"/>
          </a:xfrm>
          <a:custGeom>
            <a:avLst/>
            <a:gdLst/>
            <a:ahLst/>
            <a:rect l="l" t="t" r="r" b="b"/>
            <a:pathLst>
              <a:path w="1291" h="348">
                <a:moveTo>
                  <a:pt x="4118" y="9823"/>
                </a:moveTo>
                <a:cubicBezTo>
                  <a:pt x="4183" y="9823"/>
                  <a:pt x="4232" y="9806"/>
                  <a:pt x="4291" y="9798"/>
                </a:cubicBezTo>
                <a:cubicBezTo>
                  <a:pt x="4442" y="9777"/>
                  <a:pt x="4592" y="9807"/>
                  <a:pt x="4738" y="9773"/>
                </a:cubicBezTo>
                <a:cubicBezTo>
                  <a:pt x="4771" y="9773"/>
                  <a:pt x="4787" y="9773"/>
                  <a:pt x="4812" y="9773"/>
                </a:cubicBezTo>
                <a:cubicBezTo>
                  <a:pt x="4800" y="9724"/>
                  <a:pt x="4788" y="9723"/>
                  <a:pt x="4738" y="9723"/>
                </a:cubicBezTo>
              </a:path>
              <a:path w="1291" h="348">
                <a:moveTo>
                  <a:pt x="3522" y="9773"/>
                </a:moveTo>
                <a:cubicBezTo>
                  <a:pt x="3551" y="9729"/>
                  <a:pt x="3566" y="9705"/>
                  <a:pt x="3621" y="9699"/>
                </a:cubicBezTo>
                <a:cubicBezTo>
                  <a:pt x="3657" y="9695"/>
                  <a:pt x="3750" y="9682"/>
                  <a:pt x="3770" y="9723"/>
                </a:cubicBezTo>
                <a:cubicBezTo>
                  <a:pt x="3788" y="9760"/>
                  <a:pt x="3812" y="9771"/>
                  <a:pt x="3770" y="9823"/>
                </a:cubicBezTo>
                <a:cubicBezTo>
                  <a:pt x="3729" y="9875"/>
                  <a:pt x="3669" y="9903"/>
                  <a:pt x="3621" y="9947"/>
                </a:cubicBezTo>
                <a:cubicBezTo>
                  <a:pt x="3588" y="9977"/>
                  <a:pt x="3557" y="9992"/>
                  <a:pt x="3547" y="10021"/>
                </a:cubicBezTo>
                <a:cubicBezTo>
                  <a:pt x="3605" y="10064"/>
                  <a:pt x="3603" y="10038"/>
                  <a:pt x="3671" y="10021"/>
                </a:cubicBezTo>
                <a:cubicBezTo>
                  <a:pt x="3714" y="10010"/>
                  <a:pt x="3750" y="10002"/>
                  <a:pt x="3795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285920" y="3821040"/>
            <a:ext cx="509400" cy="171360"/>
          </a:xfrm>
          <a:custGeom>
            <a:avLst/>
            <a:gdLst/>
            <a:ahLst/>
            <a:rect l="l" t="t" r="r" b="b"/>
            <a:pathLst>
              <a:path w="1415" h="473">
                <a:moveTo>
                  <a:pt x="4018" y="10790"/>
                </a:moveTo>
                <a:cubicBezTo>
                  <a:pt x="4035" y="10841"/>
                  <a:pt x="4067" y="10798"/>
                  <a:pt x="4118" y="10815"/>
                </a:cubicBezTo>
                <a:cubicBezTo>
                  <a:pt x="4195" y="10841"/>
                  <a:pt x="4284" y="10855"/>
                  <a:pt x="4366" y="10864"/>
                </a:cubicBezTo>
                <a:cubicBezTo>
                  <a:pt x="4482" y="10876"/>
                  <a:pt x="4597" y="10902"/>
                  <a:pt x="4713" y="10914"/>
                </a:cubicBezTo>
                <a:cubicBezTo>
                  <a:pt x="4798" y="10923"/>
                  <a:pt x="4875" y="10939"/>
                  <a:pt x="4961" y="10939"/>
                </a:cubicBezTo>
                <a:cubicBezTo>
                  <a:pt x="5044" y="10939"/>
                  <a:pt x="4921" y="10893"/>
                  <a:pt x="4911" y="10889"/>
                </a:cubicBezTo>
              </a:path>
              <a:path w="1415" h="473">
                <a:moveTo>
                  <a:pt x="3572" y="10616"/>
                </a:moveTo>
                <a:cubicBezTo>
                  <a:pt x="3572" y="10704"/>
                  <a:pt x="3585" y="10779"/>
                  <a:pt x="3597" y="10864"/>
                </a:cubicBezTo>
                <a:cubicBezTo>
                  <a:pt x="3606" y="10927"/>
                  <a:pt x="3599" y="11036"/>
                  <a:pt x="3572" y="11088"/>
                </a:cubicBezTo>
                <a:cubicBezTo>
                  <a:pt x="3553" y="11125"/>
                  <a:pt x="3572" y="11005"/>
                  <a:pt x="3572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09840" y="4187880"/>
            <a:ext cx="115920" cy="81000"/>
          </a:xfrm>
          <a:custGeom>
            <a:avLst/>
            <a:gdLst/>
            <a:ahLst/>
            <a:rect l="l" t="t" r="r" b="b"/>
            <a:pathLst>
              <a:path w="323" h="225">
                <a:moveTo>
                  <a:pt x="4366" y="11807"/>
                </a:moveTo>
                <a:cubicBezTo>
                  <a:pt x="4433" y="11859"/>
                  <a:pt x="4402" y="11807"/>
                  <a:pt x="4440" y="11782"/>
                </a:cubicBezTo>
                <a:cubicBezTo>
                  <a:pt x="4471" y="11761"/>
                  <a:pt x="4465" y="11759"/>
                  <a:pt x="4465" y="11708"/>
                </a:cubicBezTo>
                <a:cubicBezTo>
                  <a:pt x="4465" y="11667"/>
                  <a:pt x="4452" y="11695"/>
                  <a:pt x="4440" y="11658"/>
                </a:cubicBezTo>
                <a:cubicBezTo>
                  <a:pt x="4402" y="11639"/>
                  <a:pt x="4361" y="11647"/>
                  <a:pt x="4316" y="11683"/>
                </a:cubicBezTo>
                <a:cubicBezTo>
                  <a:pt x="4287" y="11706"/>
                  <a:pt x="4245" y="11732"/>
                  <a:pt x="4242" y="11757"/>
                </a:cubicBezTo>
                <a:cubicBezTo>
                  <a:pt x="4242" y="11765"/>
                  <a:pt x="4242" y="11774"/>
                  <a:pt x="4242" y="11782"/>
                </a:cubicBezTo>
                <a:cubicBezTo>
                  <a:pt x="4274" y="11815"/>
                  <a:pt x="4313" y="11859"/>
                  <a:pt x="4366" y="11832"/>
                </a:cubicBezTo>
                <a:cubicBezTo>
                  <a:pt x="4394" y="11818"/>
                  <a:pt x="4433" y="11790"/>
                  <a:pt x="4440" y="11757"/>
                </a:cubicBezTo>
                <a:cubicBezTo>
                  <a:pt x="4440" y="11716"/>
                  <a:pt x="4440" y="11708"/>
                  <a:pt x="4440" y="11683"/>
                </a:cubicBezTo>
                <a:cubicBezTo>
                  <a:pt x="4402" y="11654"/>
                  <a:pt x="4362" y="11660"/>
                  <a:pt x="4316" y="11683"/>
                </a:cubicBezTo>
                <a:cubicBezTo>
                  <a:pt x="4280" y="11701"/>
                  <a:pt x="4250" y="11748"/>
                  <a:pt x="4242" y="11782"/>
                </a:cubicBezTo>
                <a:cubicBezTo>
                  <a:pt x="4275" y="11828"/>
                  <a:pt x="4274" y="11840"/>
                  <a:pt x="4341" y="11857"/>
                </a:cubicBezTo>
                <a:cubicBezTo>
                  <a:pt x="4389" y="11869"/>
                  <a:pt x="4404" y="11844"/>
                  <a:pt x="4440" y="11832"/>
                </a:cubicBezTo>
                <a:cubicBezTo>
                  <a:pt x="4480" y="11819"/>
                  <a:pt x="4509" y="11806"/>
                  <a:pt x="4514" y="11757"/>
                </a:cubicBezTo>
                <a:cubicBezTo>
                  <a:pt x="4520" y="11700"/>
                  <a:pt x="4480" y="11687"/>
                  <a:pt x="4440" y="11683"/>
                </a:cubicBezTo>
                <a:cubicBezTo>
                  <a:pt x="4383" y="11678"/>
                  <a:pt x="4343" y="11685"/>
                  <a:pt x="4291" y="11708"/>
                </a:cubicBezTo>
                <a:cubicBezTo>
                  <a:pt x="4239" y="11731"/>
                  <a:pt x="4205" y="11755"/>
                  <a:pt x="4192" y="11807"/>
                </a:cubicBezTo>
                <a:cubicBezTo>
                  <a:pt x="4232" y="11867"/>
                  <a:pt x="4224" y="11857"/>
                  <a:pt x="4291" y="11857"/>
                </a:cubicBezTo>
                <a:cubicBezTo>
                  <a:pt x="4345" y="11857"/>
                  <a:pt x="4375" y="11867"/>
                  <a:pt x="4415" y="11832"/>
                </a:cubicBezTo>
                <a:cubicBezTo>
                  <a:pt x="4453" y="11798"/>
                  <a:pt x="4440" y="11756"/>
                  <a:pt x="4440" y="11708"/>
                </a:cubicBezTo>
                <a:cubicBezTo>
                  <a:pt x="4440" y="11700"/>
                  <a:pt x="4440" y="11691"/>
                  <a:pt x="4440" y="11683"/>
                </a:cubicBezTo>
                <a:cubicBezTo>
                  <a:pt x="4413" y="11674"/>
                  <a:pt x="4409" y="11642"/>
                  <a:pt x="4366" y="11658"/>
                </a:cubicBezTo>
                <a:cubicBezTo>
                  <a:pt x="4324" y="11673"/>
                  <a:pt x="4241" y="11690"/>
                  <a:pt x="4217" y="11733"/>
                </a:cubicBezTo>
                <a:cubicBezTo>
                  <a:pt x="4217" y="11761"/>
                  <a:pt x="4214" y="11771"/>
                  <a:pt x="4192" y="11782"/>
                </a:cubicBezTo>
                <a:cubicBezTo>
                  <a:pt x="4198" y="11800"/>
                  <a:pt x="4236" y="11843"/>
                  <a:pt x="4266" y="11857"/>
                </a:cubicBezTo>
                <a:cubicBezTo>
                  <a:pt x="4321" y="11882"/>
                  <a:pt x="4374" y="11846"/>
                  <a:pt x="4415" y="11832"/>
                </a:cubicBezTo>
                <a:cubicBezTo>
                  <a:pt x="4481" y="11810"/>
                  <a:pt x="4465" y="11777"/>
                  <a:pt x="4465" y="11708"/>
                </a:cubicBezTo>
                <a:cubicBezTo>
                  <a:pt x="4465" y="11671"/>
                  <a:pt x="4405" y="11662"/>
                  <a:pt x="4366" y="11658"/>
                </a:cubicBezTo>
                <a:cubicBezTo>
                  <a:pt x="4316" y="11653"/>
                  <a:pt x="4279" y="11644"/>
                  <a:pt x="4266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4545000"/>
            <a:ext cx="544680" cy="152280"/>
          </a:xfrm>
          <a:custGeom>
            <a:avLst/>
            <a:gdLst/>
            <a:ahLst/>
            <a:rect l="l" t="t" r="r" b="b"/>
            <a:pathLst>
              <a:path w="1514" h="422">
                <a:moveTo>
                  <a:pt x="4093" y="12849"/>
                </a:moveTo>
                <a:cubicBezTo>
                  <a:pt x="4188" y="12873"/>
                  <a:pt x="4267" y="12874"/>
                  <a:pt x="4366" y="12874"/>
                </a:cubicBezTo>
                <a:cubicBezTo>
                  <a:pt x="4446" y="12874"/>
                  <a:pt x="4513" y="12895"/>
                  <a:pt x="4589" y="12898"/>
                </a:cubicBezTo>
                <a:cubicBezTo>
                  <a:pt x="4622" y="12898"/>
                  <a:pt x="4655" y="12898"/>
                  <a:pt x="4688" y="12898"/>
                </a:cubicBezTo>
              </a:path>
              <a:path w="1514" h="422">
                <a:moveTo>
                  <a:pt x="3175" y="12824"/>
                </a:moveTo>
                <a:cubicBezTo>
                  <a:pt x="3253" y="12887"/>
                  <a:pt x="3278" y="12875"/>
                  <a:pt x="3373" y="12849"/>
                </a:cubicBezTo>
              </a:path>
              <a:path w="1514" h="422">
                <a:moveTo>
                  <a:pt x="3646" y="12626"/>
                </a:moveTo>
                <a:cubicBezTo>
                  <a:pt x="3659" y="12752"/>
                  <a:pt x="3646" y="12806"/>
                  <a:pt x="3646" y="12923"/>
                </a:cubicBezTo>
                <a:cubicBezTo>
                  <a:pt x="3646" y="12964"/>
                  <a:pt x="3646" y="13006"/>
                  <a:pt x="3646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108080" y="4911840"/>
            <a:ext cx="544680" cy="581040"/>
          </a:xfrm>
          <a:custGeom>
            <a:avLst/>
            <a:gdLst/>
            <a:ahLst/>
            <a:rect l="l" t="t" r="r" b="b"/>
            <a:pathLst>
              <a:path w="1514" h="1613">
                <a:moveTo>
                  <a:pt x="4142" y="13816"/>
                </a:moveTo>
                <a:cubicBezTo>
                  <a:pt x="4223" y="13838"/>
                  <a:pt x="4282" y="13841"/>
                  <a:pt x="4366" y="13841"/>
                </a:cubicBezTo>
                <a:cubicBezTo>
                  <a:pt x="4447" y="13841"/>
                  <a:pt x="4507" y="13866"/>
                  <a:pt x="4589" y="13866"/>
                </a:cubicBezTo>
              </a:path>
              <a:path w="1514" h="1613">
                <a:moveTo>
                  <a:pt x="3175" y="13643"/>
                </a:moveTo>
                <a:cubicBezTo>
                  <a:pt x="3219" y="13669"/>
                  <a:pt x="3295" y="13683"/>
                  <a:pt x="3349" y="13692"/>
                </a:cubicBezTo>
                <a:cubicBezTo>
                  <a:pt x="3365" y="13692"/>
                  <a:pt x="3382" y="13692"/>
                  <a:pt x="3398" y="13692"/>
                </a:cubicBezTo>
              </a:path>
              <a:path w="1514" h="1613">
                <a:moveTo>
                  <a:pt x="3696" y="13643"/>
                </a:moveTo>
                <a:cubicBezTo>
                  <a:pt x="3763" y="13661"/>
                  <a:pt x="3863" y="13676"/>
                  <a:pt x="3894" y="13742"/>
                </a:cubicBezTo>
                <a:cubicBezTo>
                  <a:pt x="3915" y="13786"/>
                  <a:pt x="3892" y="13885"/>
                  <a:pt x="3870" y="13915"/>
                </a:cubicBezTo>
                <a:cubicBezTo>
                  <a:pt x="3839" y="13957"/>
                  <a:pt x="3796" y="13976"/>
                  <a:pt x="3770" y="14015"/>
                </a:cubicBezTo>
                <a:cubicBezTo>
                  <a:pt x="3761" y="14028"/>
                  <a:pt x="3721" y="14093"/>
                  <a:pt x="3746" y="14114"/>
                </a:cubicBezTo>
                <a:cubicBezTo>
                  <a:pt x="3777" y="14140"/>
                  <a:pt x="3881" y="14171"/>
                  <a:pt x="3919" y="14188"/>
                </a:cubicBezTo>
                <a:cubicBezTo>
                  <a:pt x="3976" y="14216"/>
                  <a:pt x="3999" y="14227"/>
                  <a:pt x="4043" y="14238"/>
                </a:cubicBezTo>
              </a:path>
              <a:path w="1514" h="1613">
                <a:moveTo>
                  <a:pt x="3994" y="14734"/>
                </a:moveTo>
                <a:cubicBezTo>
                  <a:pt x="4102" y="14753"/>
                  <a:pt x="4207" y="14780"/>
                  <a:pt x="4316" y="14784"/>
                </a:cubicBezTo>
                <a:cubicBezTo>
                  <a:pt x="4424" y="14788"/>
                  <a:pt x="4489" y="14771"/>
                  <a:pt x="4589" y="14734"/>
                </a:cubicBezTo>
              </a:path>
              <a:path w="1514" h="1613">
                <a:moveTo>
                  <a:pt x="3076" y="14660"/>
                </a:moveTo>
                <a:cubicBezTo>
                  <a:pt x="3150" y="14697"/>
                  <a:pt x="3191" y="14709"/>
                  <a:pt x="3274" y="14709"/>
                </a:cubicBezTo>
                <a:cubicBezTo>
                  <a:pt x="3324" y="14709"/>
                  <a:pt x="3340" y="14709"/>
                  <a:pt x="3373" y="14709"/>
                </a:cubicBezTo>
              </a:path>
              <a:path w="1514" h="1613">
                <a:moveTo>
                  <a:pt x="3522" y="14560"/>
                </a:moveTo>
                <a:cubicBezTo>
                  <a:pt x="3592" y="14589"/>
                  <a:pt x="3722" y="14619"/>
                  <a:pt x="3746" y="14709"/>
                </a:cubicBezTo>
                <a:cubicBezTo>
                  <a:pt x="3754" y="14739"/>
                  <a:pt x="3726" y="14818"/>
                  <a:pt x="3696" y="14833"/>
                </a:cubicBezTo>
                <a:cubicBezTo>
                  <a:pt x="3664" y="14849"/>
                  <a:pt x="3637" y="14858"/>
                  <a:pt x="3597" y="14858"/>
                </a:cubicBezTo>
                <a:cubicBezTo>
                  <a:pt x="3589" y="14858"/>
                  <a:pt x="3580" y="14858"/>
                  <a:pt x="3572" y="14858"/>
                </a:cubicBezTo>
                <a:cubicBezTo>
                  <a:pt x="3587" y="14919"/>
                  <a:pt x="3622" y="14920"/>
                  <a:pt x="3671" y="14957"/>
                </a:cubicBezTo>
                <a:cubicBezTo>
                  <a:pt x="3710" y="14986"/>
                  <a:pt x="3767" y="15086"/>
                  <a:pt x="3770" y="15131"/>
                </a:cubicBezTo>
                <a:cubicBezTo>
                  <a:pt x="3775" y="15207"/>
                  <a:pt x="3769" y="15198"/>
                  <a:pt x="3721" y="15230"/>
                </a:cubicBezTo>
                <a:cubicBezTo>
                  <a:pt x="3664" y="15268"/>
                  <a:pt x="3628" y="15260"/>
                  <a:pt x="3572" y="15230"/>
                </a:cubicBezTo>
                <a:cubicBezTo>
                  <a:pt x="3509" y="15196"/>
                  <a:pt x="3461" y="15170"/>
                  <a:pt x="3398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ED762-4172-45DA-AC1A-FAF0390B5F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0920" y="955800"/>
            <a:ext cx="384120" cy="428400"/>
          </a:xfrm>
          <a:custGeom>
            <a:avLst/>
            <a:gdLst/>
            <a:ahLst/>
            <a:rect l="l" t="t" r="r" b="b"/>
            <a:pathLst>
              <a:path w="1067" h="1192">
                <a:moveTo>
                  <a:pt x="843" y="2877"/>
                </a:moveTo>
                <a:cubicBezTo>
                  <a:pt x="843" y="2965"/>
                  <a:pt x="832" y="3042"/>
                  <a:pt x="819" y="3125"/>
                </a:cubicBezTo>
                <a:cubicBezTo>
                  <a:pt x="809" y="3185"/>
                  <a:pt x="807" y="3252"/>
                  <a:pt x="769" y="3299"/>
                </a:cubicBezTo>
                <a:cubicBezTo>
                  <a:pt x="738" y="3337"/>
                  <a:pt x="706" y="3352"/>
                  <a:pt x="695" y="3398"/>
                </a:cubicBezTo>
                <a:cubicBezTo>
                  <a:pt x="742" y="3398"/>
                  <a:pt x="758" y="3381"/>
                  <a:pt x="794" y="3373"/>
                </a:cubicBezTo>
                <a:cubicBezTo>
                  <a:pt x="896" y="3351"/>
                  <a:pt x="1084" y="3421"/>
                  <a:pt x="1166" y="3349"/>
                </a:cubicBezTo>
                <a:cubicBezTo>
                  <a:pt x="1174" y="3341"/>
                  <a:pt x="1183" y="3332"/>
                  <a:pt x="1191" y="3324"/>
                </a:cubicBezTo>
              </a:path>
              <a:path w="1067" h="1192">
                <a:moveTo>
                  <a:pt x="1091" y="2753"/>
                </a:moveTo>
                <a:cubicBezTo>
                  <a:pt x="1114" y="2838"/>
                  <a:pt x="1133" y="2936"/>
                  <a:pt x="1116" y="3026"/>
                </a:cubicBezTo>
                <a:cubicBezTo>
                  <a:pt x="1096" y="3133"/>
                  <a:pt x="1109" y="3242"/>
                  <a:pt x="1091" y="3349"/>
                </a:cubicBezTo>
                <a:cubicBezTo>
                  <a:pt x="1074" y="3446"/>
                  <a:pt x="1085" y="3550"/>
                  <a:pt x="1067" y="3646"/>
                </a:cubicBezTo>
                <a:cubicBezTo>
                  <a:pt x="1055" y="3711"/>
                  <a:pt x="1042" y="3755"/>
                  <a:pt x="1042" y="3820"/>
                </a:cubicBezTo>
                <a:cubicBezTo>
                  <a:pt x="1042" y="3828"/>
                  <a:pt x="1042" y="3837"/>
                  <a:pt x="1042" y="3845"/>
                </a:cubicBezTo>
                <a:cubicBezTo>
                  <a:pt x="1004" y="3819"/>
                  <a:pt x="1017" y="3758"/>
                  <a:pt x="1017" y="3696"/>
                </a:cubicBezTo>
              </a:path>
              <a:path w="1067" h="1192">
                <a:moveTo>
                  <a:pt x="1315" y="2927"/>
                </a:moveTo>
                <a:cubicBezTo>
                  <a:pt x="1333" y="3000"/>
                  <a:pt x="1360" y="3098"/>
                  <a:pt x="1339" y="3175"/>
                </a:cubicBezTo>
                <a:cubicBezTo>
                  <a:pt x="1325" y="3229"/>
                  <a:pt x="1280" y="3278"/>
                  <a:pt x="1265" y="3324"/>
                </a:cubicBezTo>
                <a:cubicBezTo>
                  <a:pt x="1256" y="3352"/>
                  <a:pt x="1247" y="3369"/>
                  <a:pt x="1240" y="3398"/>
                </a:cubicBezTo>
                <a:cubicBezTo>
                  <a:pt x="1272" y="3422"/>
                  <a:pt x="1296" y="3432"/>
                  <a:pt x="1339" y="3423"/>
                </a:cubicBezTo>
                <a:cubicBezTo>
                  <a:pt x="1399" y="3411"/>
                  <a:pt x="1493" y="3385"/>
                  <a:pt x="1538" y="3349"/>
                </a:cubicBezTo>
                <a:cubicBezTo>
                  <a:pt x="1574" y="3321"/>
                  <a:pt x="1626" y="3270"/>
                  <a:pt x="1637" y="3225"/>
                </a:cubicBezTo>
                <a:cubicBezTo>
                  <a:pt x="1637" y="3175"/>
                  <a:pt x="1637" y="3158"/>
                  <a:pt x="1637" y="3125"/>
                </a:cubicBezTo>
              </a:path>
              <a:path w="1067" h="1192">
                <a:moveTo>
                  <a:pt x="1563" y="2654"/>
                </a:moveTo>
                <a:cubicBezTo>
                  <a:pt x="1563" y="2794"/>
                  <a:pt x="1550" y="2915"/>
                  <a:pt x="1538" y="3051"/>
                </a:cubicBezTo>
                <a:cubicBezTo>
                  <a:pt x="1528" y="3168"/>
                  <a:pt x="1527" y="3287"/>
                  <a:pt x="1513" y="3398"/>
                </a:cubicBezTo>
                <a:cubicBezTo>
                  <a:pt x="1504" y="3472"/>
                  <a:pt x="1494" y="3530"/>
                  <a:pt x="1488" y="3597"/>
                </a:cubicBezTo>
                <a:cubicBezTo>
                  <a:pt x="1484" y="3643"/>
                  <a:pt x="1486" y="3661"/>
                  <a:pt x="1513" y="3696"/>
                </a:cubicBezTo>
              </a:path>
              <a:path w="1067" h="1192">
                <a:moveTo>
                  <a:pt x="1736" y="3696"/>
                </a:moveTo>
                <a:cubicBezTo>
                  <a:pt x="1744" y="3696"/>
                  <a:pt x="1753" y="3696"/>
                  <a:pt x="1761" y="36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84160" y="857160"/>
            <a:ext cx="2517840" cy="758880"/>
          </a:xfrm>
          <a:custGeom>
            <a:avLst/>
            <a:gdLst/>
            <a:ahLst/>
            <a:rect l="l" t="t" r="r" b="b"/>
            <a:pathLst>
              <a:path w="6996" h="2110">
                <a:moveTo>
                  <a:pt x="2530" y="3249"/>
                </a:moveTo>
                <a:cubicBezTo>
                  <a:pt x="2553" y="3310"/>
                  <a:pt x="2558" y="3362"/>
                  <a:pt x="2580" y="3423"/>
                </a:cubicBezTo>
                <a:cubicBezTo>
                  <a:pt x="2604" y="3490"/>
                  <a:pt x="2639" y="3578"/>
                  <a:pt x="2654" y="3646"/>
                </a:cubicBezTo>
                <a:cubicBezTo>
                  <a:pt x="2670" y="3716"/>
                  <a:pt x="2704" y="3757"/>
                  <a:pt x="2729" y="3820"/>
                </a:cubicBezTo>
                <a:cubicBezTo>
                  <a:pt x="2745" y="3859"/>
                  <a:pt x="2748" y="3901"/>
                  <a:pt x="2753" y="3944"/>
                </a:cubicBezTo>
                <a:cubicBezTo>
                  <a:pt x="2753" y="3903"/>
                  <a:pt x="2753" y="3861"/>
                  <a:pt x="2753" y="3820"/>
                </a:cubicBezTo>
              </a:path>
              <a:path w="6996" h="2110">
                <a:moveTo>
                  <a:pt x="2902" y="3001"/>
                </a:moveTo>
                <a:cubicBezTo>
                  <a:pt x="2856" y="3040"/>
                  <a:pt x="2855" y="3053"/>
                  <a:pt x="2828" y="3125"/>
                </a:cubicBezTo>
                <a:cubicBezTo>
                  <a:pt x="2767" y="3288"/>
                  <a:pt x="2746" y="3430"/>
                  <a:pt x="2704" y="3597"/>
                </a:cubicBezTo>
                <a:cubicBezTo>
                  <a:pt x="2675" y="3714"/>
                  <a:pt x="2597" y="3828"/>
                  <a:pt x="2580" y="3944"/>
                </a:cubicBezTo>
                <a:cubicBezTo>
                  <a:pt x="2563" y="4055"/>
                  <a:pt x="2522" y="4158"/>
                  <a:pt x="2505" y="4266"/>
                </a:cubicBezTo>
                <a:cubicBezTo>
                  <a:pt x="2494" y="4340"/>
                  <a:pt x="2478" y="4391"/>
                  <a:pt x="2456" y="4465"/>
                </a:cubicBezTo>
                <a:cubicBezTo>
                  <a:pt x="2456" y="4490"/>
                  <a:pt x="2456" y="4498"/>
                  <a:pt x="2456" y="4465"/>
                </a:cubicBezTo>
              </a:path>
              <a:path w="6996" h="2110">
                <a:moveTo>
                  <a:pt x="3051" y="3299"/>
                </a:moveTo>
                <a:cubicBezTo>
                  <a:pt x="3179" y="3299"/>
                  <a:pt x="3362" y="3317"/>
                  <a:pt x="3448" y="3274"/>
                </a:cubicBezTo>
                <a:cubicBezTo>
                  <a:pt x="3481" y="3258"/>
                  <a:pt x="3479" y="3289"/>
                  <a:pt x="3448" y="3299"/>
                </a:cubicBezTo>
              </a:path>
              <a:path w="6996" h="2110">
                <a:moveTo>
                  <a:pt x="3076" y="3547"/>
                </a:moveTo>
                <a:cubicBezTo>
                  <a:pt x="3134" y="3572"/>
                  <a:pt x="3161" y="3572"/>
                  <a:pt x="3225" y="3572"/>
                </a:cubicBezTo>
                <a:cubicBezTo>
                  <a:pt x="3283" y="3572"/>
                  <a:pt x="3456" y="3547"/>
                  <a:pt x="3473" y="3597"/>
                </a:cubicBezTo>
              </a:path>
              <a:path w="6996" h="2110">
                <a:moveTo>
                  <a:pt x="3994" y="3249"/>
                </a:moveTo>
                <a:cubicBezTo>
                  <a:pt x="4039" y="3261"/>
                  <a:pt x="4064" y="3274"/>
                  <a:pt x="4118" y="3274"/>
                </a:cubicBezTo>
                <a:cubicBezTo>
                  <a:pt x="4214" y="3274"/>
                  <a:pt x="4294" y="3249"/>
                  <a:pt x="4390" y="3249"/>
                </a:cubicBezTo>
                <a:cubicBezTo>
                  <a:pt x="4423" y="3249"/>
                  <a:pt x="4457" y="3249"/>
                  <a:pt x="4490" y="3249"/>
                </a:cubicBezTo>
              </a:path>
              <a:path w="6996" h="2110">
                <a:moveTo>
                  <a:pt x="4837" y="2828"/>
                </a:moveTo>
                <a:cubicBezTo>
                  <a:pt x="4820" y="2982"/>
                  <a:pt x="4812" y="3120"/>
                  <a:pt x="4812" y="3274"/>
                </a:cubicBezTo>
                <a:cubicBezTo>
                  <a:pt x="4812" y="3403"/>
                  <a:pt x="4809" y="3524"/>
                  <a:pt x="4837" y="3646"/>
                </a:cubicBezTo>
                <a:cubicBezTo>
                  <a:pt x="4847" y="3691"/>
                  <a:pt x="4838" y="3706"/>
                  <a:pt x="4862" y="3746"/>
                </a:cubicBezTo>
                <a:cubicBezTo>
                  <a:pt x="4902" y="3733"/>
                  <a:pt x="4887" y="3727"/>
                  <a:pt x="4887" y="3671"/>
                </a:cubicBezTo>
              </a:path>
              <a:path w="6996" h="2110">
                <a:moveTo>
                  <a:pt x="5283" y="2853"/>
                </a:moveTo>
                <a:cubicBezTo>
                  <a:pt x="5257" y="2953"/>
                  <a:pt x="5239" y="3052"/>
                  <a:pt x="5209" y="3150"/>
                </a:cubicBezTo>
                <a:cubicBezTo>
                  <a:pt x="5179" y="3246"/>
                  <a:pt x="5164" y="3348"/>
                  <a:pt x="5159" y="3448"/>
                </a:cubicBezTo>
                <a:cubicBezTo>
                  <a:pt x="5156" y="3524"/>
                  <a:pt x="5184" y="3591"/>
                  <a:pt x="5234" y="3646"/>
                </a:cubicBezTo>
                <a:cubicBezTo>
                  <a:pt x="5283" y="3700"/>
                  <a:pt x="5352" y="3677"/>
                  <a:pt x="5407" y="3671"/>
                </a:cubicBezTo>
                <a:cubicBezTo>
                  <a:pt x="5487" y="3662"/>
                  <a:pt x="5562" y="3624"/>
                  <a:pt x="5606" y="3547"/>
                </a:cubicBezTo>
                <a:cubicBezTo>
                  <a:pt x="5656" y="3459"/>
                  <a:pt x="5693" y="3377"/>
                  <a:pt x="5705" y="3274"/>
                </a:cubicBezTo>
                <a:cubicBezTo>
                  <a:pt x="5716" y="3173"/>
                  <a:pt x="5709" y="3049"/>
                  <a:pt x="5680" y="2952"/>
                </a:cubicBezTo>
                <a:cubicBezTo>
                  <a:pt x="5652" y="2858"/>
                  <a:pt x="5593" y="2860"/>
                  <a:pt x="5531" y="2828"/>
                </a:cubicBezTo>
                <a:cubicBezTo>
                  <a:pt x="5481" y="2803"/>
                  <a:pt x="5442" y="2783"/>
                  <a:pt x="5383" y="2778"/>
                </a:cubicBezTo>
                <a:cubicBezTo>
                  <a:pt x="5358" y="2776"/>
                  <a:pt x="5336" y="2807"/>
                  <a:pt x="5308" y="2828"/>
                </a:cubicBezTo>
              </a:path>
              <a:path w="6996" h="2110">
                <a:moveTo>
                  <a:pt x="6524" y="3076"/>
                </a:moveTo>
                <a:cubicBezTo>
                  <a:pt x="6524" y="3128"/>
                  <a:pt x="6535" y="3257"/>
                  <a:pt x="6499" y="3150"/>
                </a:cubicBezTo>
                <a:cubicBezTo>
                  <a:pt x="6487" y="3113"/>
                  <a:pt x="6477" y="3082"/>
                  <a:pt x="6449" y="3051"/>
                </a:cubicBezTo>
                <a:cubicBezTo>
                  <a:pt x="6427" y="3026"/>
                  <a:pt x="6385" y="3014"/>
                  <a:pt x="6350" y="3026"/>
                </a:cubicBezTo>
                <a:cubicBezTo>
                  <a:pt x="6291" y="3047"/>
                  <a:pt x="6240" y="3138"/>
                  <a:pt x="6226" y="3200"/>
                </a:cubicBezTo>
                <a:cubicBezTo>
                  <a:pt x="6207" y="3283"/>
                  <a:pt x="6179" y="3363"/>
                  <a:pt x="6176" y="3448"/>
                </a:cubicBezTo>
                <a:cubicBezTo>
                  <a:pt x="6173" y="3523"/>
                  <a:pt x="6169" y="3585"/>
                  <a:pt x="6201" y="3646"/>
                </a:cubicBezTo>
                <a:cubicBezTo>
                  <a:pt x="6223" y="3687"/>
                  <a:pt x="6254" y="3736"/>
                  <a:pt x="6300" y="3746"/>
                </a:cubicBezTo>
                <a:cubicBezTo>
                  <a:pt x="6381" y="3763"/>
                  <a:pt x="6429" y="3724"/>
                  <a:pt x="6499" y="3696"/>
                </a:cubicBezTo>
                <a:cubicBezTo>
                  <a:pt x="6571" y="3672"/>
                  <a:pt x="6594" y="3665"/>
                  <a:pt x="6623" y="3621"/>
                </a:cubicBezTo>
              </a:path>
              <a:path w="6996" h="2110">
                <a:moveTo>
                  <a:pt x="6896" y="3200"/>
                </a:moveTo>
                <a:cubicBezTo>
                  <a:pt x="6889" y="3280"/>
                  <a:pt x="6870" y="3371"/>
                  <a:pt x="6846" y="3448"/>
                </a:cubicBezTo>
                <a:cubicBezTo>
                  <a:pt x="6821" y="3525"/>
                  <a:pt x="6804" y="3591"/>
                  <a:pt x="6896" y="3646"/>
                </a:cubicBezTo>
                <a:cubicBezTo>
                  <a:pt x="6938" y="3671"/>
                  <a:pt x="7013" y="3638"/>
                  <a:pt x="7045" y="3621"/>
                </a:cubicBezTo>
                <a:cubicBezTo>
                  <a:pt x="7105" y="3589"/>
                  <a:pt x="7174" y="3544"/>
                  <a:pt x="7193" y="3473"/>
                </a:cubicBezTo>
                <a:cubicBezTo>
                  <a:pt x="7210" y="3412"/>
                  <a:pt x="7202" y="3303"/>
                  <a:pt x="7169" y="3249"/>
                </a:cubicBezTo>
                <a:cubicBezTo>
                  <a:pt x="7135" y="3194"/>
                  <a:pt x="7067" y="3192"/>
                  <a:pt x="7020" y="3175"/>
                </a:cubicBezTo>
                <a:cubicBezTo>
                  <a:pt x="6941" y="3147"/>
                  <a:pt x="6943" y="3153"/>
                  <a:pt x="6871" y="3175"/>
                </a:cubicBezTo>
                <a:cubicBezTo>
                  <a:pt x="6826" y="3189"/>
                  <a:pt x="6844" y="3215"/>
                  <a:pt x="6871" y="3249"/>
                </a:cubicBezTo>
              </a:path>
              <a:path w="6996" h="2110">
                <a:moveTo>
                  <a:pt x="7491" y="3026"/>
                </a:moveTo>
                <a:cubicBezTo>
                  <a:pt x="7411" y="3034"/>
                  <a:pt x="7380" y="3045"/>
                  <a:pt x="7317" y="3101"/>
                </a:cubicBezTo>
                <a:cubicBezTo>
                  <a:pt x="7285" y="3130"/>
                  <a:pt x="7248" y="3158"/>
                  <a:pt x="7243" y="3200"/>
                </a:cubicBezTo>
                <a:cubicBezTo>
                  <a:pt x="7237" y="3256"/>
                  <a:pt x="7307" y="3295"/>
                  <a:pt x="7342" y="3324"/>
                </a:cubicBezTo>
                <a:cubicBezTo>
                  <a:pt x="7386" y="3361"/>
                  <a:pt x="7459" y="3403"/>
                  <a:pt x="7491" y="3448"/>
                </a:cubicBezTo>
                <a:cubicBezTo>
                  <a:pt x="7542" y="3518"/>
                  <a:pt x="7552" y="3553"/>
                  <a:pt x="7541" y="3621"/>
                </a:cubicBezTo>
                <a:cubicBezTo>
                  <a:pt x="7534" y="3662"/>
                  <a:pt x="7482" y="3710"/>
                  <a:pt x="7441" y="3721"/>
                </a:cubicBezTo>
                <a:cubicBezTo>
                  <a:pt x="7393" y="3734"/>
                  <a:pt x="7316" y="3741"/>
                  <a:pt x="7268" y="3746"/>
                </a:cubicBezTo>
                <a:cubicBezTo>
                  <a:pt x="7233" y="3750"/>
                  <a:pt x="7234" y="3710"/>
                  <a:pt x="7193" y="3696"/>
                </a:cubicBezTo>
                <a:cubicBezTo>
                  <a:pt x="7169" y="3696"/>
                  <a:pt x="7161" y="3696"/>
                  <a:pt x="7169" y="3671"/>
                </a:cubicBezTo>
              </a:path>
              <a:path w="6996" h="2110">
                <a:moveTo>
                  <a:pt x="7640" y="2456"/>
                </a:moveTo>
                <a:cubicBezTo>
                  <a:pt x="7691" y="2456"/>
                  <a:pt x="7716" y="2438"/>
                  <a:pt x="7764" y="2431"/>
                </a:cubicBezTo>
                <a:cubicBezTo>
                  <a:pt x="7959" y="2404"/>
                  <a:pt x="8705" y="2433"/>
                  <a:pt x="8632" y="2406"/>
                </a:cubicBezTo>
              </a:path>
              <a:path w="6996" h="2110">
                <a:moveTo>
                  <a:pt x="7987" y="2406"/>
                </a:moveTo>
                <a:cubicBezTo>
                  <a:pt x="7987" y="2505"/>
                  <a:pt x="8008" y="2582"/>
                  <a:pt x="8012" y="2679"/>
                </a:cubicBezTo>
                <a:cubicBezTo>
                  <a:pt x="8016" y="2798"/>
                  <a:pt x="8018" y="2922"/>
                  <a:pt x="7987" y="3026"/>
                </a:cubicBezTo>
                <a:cubicBezTo>
                  <a:pt x="7987" y="3034"/>
                  <a:pt x="7987" y="3043"/>
                  <a:pt x="7987" y="3051"/>
                </a:cubicBezTo>
                <a:cubicBezTo>
                  <a:pt x="8012" y="3043"/>
                  <a:pt x="8030" y="2992"/>
                  <a:pt x="8037" y="2952"/>
                </a:cubicBezTo>
                <a:cubicBezTo>
                  <a:pt x="8037" y="2935"/>
                  <a:pt x="8037" y="2919"/>
                  <a:pt x="8037" y="2902"/>
                </a:cubicBezTo>
              </a:path>
              <a:path w="6996" h="2110">
                <a:moveTo>
                  <a:pt x="8210" y="2381"/>
                </a:moveTo>
                <a:cubicBezTo>
                  <a:pt x="8244" y="2426"/>
                  <a:pt x="8257" y="2470"/>
                  <a:pt x="8260" y="2530"/>
                </a:cubicBezTo>
                <a:cubicBezTo>
                  <a:pt x="8265" y="2636"/>
                  <a:pt x="8249" y="2726"/>
                  <a:pt x="8235" y="2828"/>
                </a:cubicBezTo>
                <a:cubicBezTo>
                  <a:pt x="8225" y="2904"/>
                  <a:pt x="8240" y="2965"/>
                  <a:pt x="8260" y="3026"/>
                </a:cubicBezTo>
                <a:cubicBezTo>
                  <a:pt x="8260" y="3051"/>
                  <a:pt x="8260" y="3059"/>
                  <a:pt x="8260" y="3076"/>
                </a:cubicBezTo>
                <a:cubicBezTo>
                  <a:pt x="8304" y="3076"/>
                  <a:pt x="8299" y="3078"/>
                  <a:pt x="8334" y="3051"/>
                </a:cubicBezTo>
              </a:path>
              <a:path w="6996" h="2110">
                <a:moveTo>
                  <a:pt x="8855" y="2580"/>
                </a:moveTo>
                <a:cubicBezTo>
                  <a:pt x="8915" y="2658"/>
                  <a:pt x="8966" y="2783"/>
                  <a:pt x="9029" y="2853"/>
                </a:cubicBezTo>
                <a:cubicBezTo>
                  <a:pt x="9061" y="2888"/>
                  <a:pt x="9125" y="2971"/>
                  <a:pt x="9178" y="2977"/>
                </a:cubicBezTo>
                <a:cubicBezTo>
                  <a:pt x="9221" y="2982"/>
                  <a:pt x="9188" y="2988"/>
                  <a:pt x="9227" y="3001"/>
                </a:cubicBezTo>
                <a:cubicBezTo>
                  <a:pt x="9227" y="2976"/>
                  <a:pt x="9227" y="2952"/>
                  <a:pt x="9227" y="2927"/>
                </a:cubicBezTo>
              </a:path>
              <a:path w="6996" h="2110">
                <a:moveTo>
                  <a:pt x="9203" y="2505"/>
                </a:moveTo>
                <a:cubicBezTo>
                  <a:pt x="9153" y="2604"/>
                  <a:pt x="9114" y="2739"/>
                  <a:pt x="9054" y="2828"/>
                </a:cubicBezTo>
                <a:cubicBezTo>
                  <a:pt x="9017" y="2883"/>
                  <a:pt x="8954" y="2928"/>
                  <a:pt x="8930" y="2977"/>
                </a:cubicBezTo>
                <a:cubicBezTo>
                  <a:pt x="8904" y="3029"/>
                  <a:pt x="8883" y="3063"/>
                  <a:pt x="8830" y="3076"/>
                </a:cubicBezTo>
              </a:path>
              <a:path w="6996" h="2110">
                <a:moveTo>
                  <a:pt x="7962" y="3225"/>
                </a:moveTo>
                <a:cubicBezTo>
                  <a:pt x="8038" y="3256"/>
                  <a:pt x="8102" y="3249"/>
                  <a:pt x="8186" y="3249"/>
                </a:cubicBezTo>
                <a:cubicBezTo>
                  <a:pt x="8328" y="3249"/>
                  <a:pt x="8463" y="3225"/>
                  <a:pt x="8607" y="3225"/>
                </a:cubicBezTo>
                <a:cubicBezTo>
                  <a:pt x="8888" y="3225"/>
                  <a:pt x="9170" y="3225"/>
                  <a:pt x="9451" y="3225"/>
                </a:cubicBezTo>
                <a:cubicBezTo>
                  <a:pt x="9443" y="3249"/>
                  <a:pt x="9390" y="3267"/>
                  <a:pt x="9351" y="3274"/>
                </a:cubicBezTo>
                <a:cubicBezTo>
                  <a:pt x="9335" y="3274"/>
                  <a:pt x="9318" y="3274"/>
                  <a:pt x="9302" y="3274"/>
                </a:cubicBezTo>
              </a:path>
              <a:path w="6996" h="2110">
                <a:moveTo>
                  <a:pt x="8706" y="3398"/>
                </a:moveTo>
                <a:cubicBezTo>
                  <a:pt x="8706" y="3435"/>
                  <a:pt x="8697" y="3493"/>
                  <a:pt x="8682" y="3522"/>
                </a:cubicBezTo>
                <a:cubicBezTo>
                  <a:pt x="8659" y="3568"/>
                  <a:pt x="8617" y="3663"/>
                  <a:pt x="8607" y="3721"/>
                </a:cubicBezTo>
                <a:cubicBezTo>
                  <a:pt x="8592" y="3807"/>
                  <a:pt x="8562" y="3929"/>
                  <a:pt x="8582" y="4018"/>
                </a:cubicBezTo>
                <a:cubicBezTo>
                  <a:pt x="8593" y="4068"/>
                  <a:pt x="8637" y="4138"/>
                  <a:pt x="8682" y="4167"/>
                </a:cubicBezTo>
                <a:cubicBezTo>
                  <a:pt x="8762" y="4219"/>
                  <a:pt x="8869" y="4190"/>
                  <a:pt x="8954" y="4167"/>
                </a:cubicBezTo>
                <a:cubicBezTo>
                  <a:pt x="9045" y="4142"/>
                  <a:pt x="9088" y="4108"/>
                  <a:pt x="9153" y="4043"/>
                </a:cubicBezTo>
                <a:cubicBezTo>
                  <a:pt x="9224" y="3973"/>
                  <a:pt x="9227" y="3943"/>
                  <a:pt x="9227" y="3845"/>
                </a:cubicBezTo>
                <a:cubicBezTo>
                  <a:pt x="9227" y="3817"/>
                  <a:pt x="9191" y="3753"/>
                  <a:pt x="9153" y="3770"/>
                </a:cubicBezTo>
                <a:cubicBezTo>
                  <a:pt x="9108" y="3790"/>
                  <a:pt x="9032" y="3859"/>
                  <a:pt x="9004" y="3894"/>
                </a:cubicBezTo>
                <a:cubicBezTo>
                  <a:pt x="8951" y="3960"/>
                  <a:pt x="8930" y="4037"/>
                  <a:pt x="8930" y="4118"/>
                </a:cubicBezTo>
                <a:cubicBezTo>
                  <a:pt x="8930" y="4170"/>
                  <a:pt x="8942" y="4179"/>
                  <a:pt x="8979" y="4217"/>
                </a:cubicBezTo>
                <a:cubicBezTo>
                  <a:pt x="8992" y="4230"/>
                  <a:pt x="9052" y="4299"/>
                  <a:pt x="9079" y="4266"/>
                </a:cubicBezTo>
                <a:cubicBezTo>
                  <a:pt x="9123" y="4213"/>
                  <a:pt x="9049" y="4237"/>
                  <a:pt x="9029" y="42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000680" y="1017720"/>
            <a:ext cx="955440" cy="376200"/>
          </a:xfrm>
          <a:custGeom>
            <a:avLst/>
            <a:gdLst/>
            <a:ahLst/>
            <a:rect l="l" t="t" r="r" b="b"/>
            <a:pathLst>
              <a:path w="2656" h="1043">
                <a:moveTo>
                  <a:pt x="11584" y="3324"/>
                </a:moveTo>
                <a:cubicBezTo>
                  <a:pt x="11597" y="3363"/>
                  <a:pt x="11596" y="3334"/>
                  <a:pt x="11609" y="3373"/>
                </a:cubicBezTo>
                <a:cubicBezTo>
                  <a:pt x="11645" y="3361"/>
                  <a:pt x="11633" y="3343"/>
                  <a:pt x="11633" y="3299"/>
                </a:cubicBezTo>
                <a:cubicBezTo>
                  <a:pt x="11633" y="3222"/>
                  <a:pt x="11596" y="3232"/>
                  <a:pt x="11559" y="3175"/>
                </a:cubicBezTo>
                <a:cubicBezTo>
                  <a:pt x="11513" y="3103"/>
                  <a:pt x="11501" y="3116"/>
                  <a:pt x="11435" y="3076"/>
                </a:cubicBezTo>
                <a:cubicBezTo>
                  <a:pt x="11367" y="3035"/>
                  <a:pt x="11309" y="3099"/>
                  <a:pt x="11261" y="3150"/>
                </a:cubicBezTo>
                <a:cubicBezTo>
                  <a:pt x="11184" y="3232"/>
                  <a:pt x="11186" y="3271"/>
                  <a:pt x="11162" y="3373"/>
                </a:cubicBezTo>
                <a:cubicBezTo>
                  <a:pt x="11139" y="3473"/>
                  <a:pt x="11087" y="3563"/>
                  <a:pt x="11112" y="3671"/>
                </a:cubicBezTo>
                <a:cubicBezTo>
                  <a:pt x="11126" y="3733"/>
                  <a:pt x="11143" y="3796"/>
                  <a:pt x="11187" y="3845"/>
                </a:cubicBezTo>
                <a:cubicBezTo>
                  <a:pt x="11222" y="3884"/>
                  <a:pt x="11251" y="3877"/>
                  <a:pt x="11286" y="3845"/>
                </a:cubicBezTo>
                <a:cubicBezTo>
                  <a:pt x="11342" y="3795"/>
                  <a:pt x="11392" y="3761"/>
                  <a:pt x="11435" y="3696"/>
                </a:cubicBezTo>
                <a:cubicBezTo>
                  <a:pt x="11464" y="3653"/>
                  <a:pt x="11498" y="3542"/>
                  <a:pt x="11509" y="3497"/>
                </a:cubicBezTo>
                <a:cubicBezTo>
                  <a:pt x="11509" y="3446"/>
                  <a:pt x="11510" y="3427"/>
                  <a:pt x="11534" y="3398"/>
                </a:cubicBezTo>
                <a:cubicBezTo>
                  <a:pt x="11534" y="3331"/>
                  <a:pt x="11534" y="3482"/>
                  <a:pt x="11534" y="3497"/>
                </a:cubicBezTo>
                <a:cubicBezTo>
                  <a:pt x="11534" y="3566"/>
                  <a:pt x="11521" y="3635"/>
                  <a:pt x="11559" y="3696"/>
                </a:cubicBezTo>
                <a:cubicBezTo>
                  <a:pt x="11582" y="3734"/>
                  <a:pt x="11599" y="3761"/>
                  <a:pt x="11633" y="3795"/>
                </a:cubicBezTo>
                <a:cubicBezTo>
                  <a:pt x="11687" y="3849"/>
                  <a:pt x="11675" y="3836"/>
                  <a:pt x="11708" y="3820"/>
                </a:cubicBezTo>
                <a:cubicBezTo>
                  <a:pt x="11743" y="3820"/>
                  <a:pt x="11756" y="3811"/>
                  <a:pt x="11757" y="3770"/>
                </a:cubicBezTo>
              </a:path>
              <a:path w="2656" h="1043">
                <a:moveTo>
                  <a:pt x="12005" y="3249"/>
                </a:moveTo>
                <a:cubicBezTo>
                  <a:pt x="12132" y="3249"/>
                  <a:pt x="12265" y="3258"/>
                  <a:pt x="12378" y="3225"/>
                </a:cubicBezTo>
                <a:cubicBezTo>
                  <a:pt x="12386" y="3225"/>
                  <a:pt x="12394" y="3225"/>
                  <a:pt x="12402" y="3225"/>
                </a:cubicBezTo>
                <a:cubicBezTo>
                  <a:pt x="12391" y="3259"/>
                  <a:pt x="12365" y="3247"/>
                  <a:pt x="12328" y="3274"/>
                </a:cubicBezTo>
              </a:path>
              <a:path w="2656" h="1043">
                <a:moveTo>
                  <a:pt x="12055" y="3497"/>
                </a:moveTo>
                <a:cubicBezTo>
                  <a:pt x="12154" y="3497"/>
                  <a:pt x="12235" y="3494"/>
                  <a:pt x="12328" y="3473"/>
                </a:cubicBezTo>
                <a:cubicBezTo>
                  <a:pt x="12357" y="3466"/>
                  <a:pt x="12397" y="3473"/>
                  <a:pt x="12427" y="3473"/>
                </a:cubicBezTo>
              </a:path>
              <a:path w="2656" h="1043">
                <a:moveTo>
                  <a:pt x="12898" y="2828"/>
                </a:moveTo>
                <a:cubicBezTo>
                  <a:pt x="12890" y="2898"/>
                  <a:pt x="12874" y="2953"/>
                  <a:pt x="12874" y="3026"/>
                </a:cubicBezTo>
                <a:cubicBezTo>
                  <a:pt x="12874" y="3218"/>
                  <a:pt x="12847" y="3447"/>
                  <a:pt x="12898" y="3621"/>
                </a:cubicBezTo>
                <a:cubicBezTo>
                  <a:pt x="12909" y="3658"/>
                  <a:pt x="12902" y="3750"/>
                  <a:pt x="12923" y="3646"/>
                </a:cubicBezTo>
              </a:path>
              <a:path w="2656" h="1043">
                <a:moveTo>
                  <a:pt x="13295" y="2902"/>
                </a:moveTo>
                <a:cubicBezTo>
                  <a:pt x="13295" y="2972"/>
                  <a:pt x="13293" y="3007"/>
                  <a:pt x="13271" y="3076"/>
                </a:cubicBezTo>
                <a:cubicBezTo>
                  <a:pt x="13240" y="3172"/>
                  <a:pt x="13225" y="3272"/>
                  <a:pt x="13221" y="3373"/>
                </a:cubicBezTo>
                <a:cubicBezTo>
                  <a:pt x="13217" y="3465"/>
                  <a:pt x="13209" y="3562"/>
                  <a:pt x="13246" y="3646"/>
                </a:cubicBezTo>
                <a:cubicBezTo>
                  <a:pt x="13265" y="3688"/>
                  <a:pt x="13313" y="3753"/>
                  <a:pt x="13370" y="3746"/>
                </a:cubicBezTo>
                <a:cubicBezTo>
                  <a:pt x="13423" y="3740"/>
                  <a:pt x="13525" y="3708"/>
                  <a:pt x="13568" y="3671"/>
                </a:cubicBezTo>
                <a:cubicBezTo>
                  <a:pt x="13621" y="3625"/>
                  <a:pt x="13746" y="3500"/>
                  <a:pt x="13767" y="3423"/>
                </a:cubicBezTo>
                <a:cubicBezTo>
                  <a:pt x="13786" y="3354"/>
                  <a:pt x="13770" y="3262"/>
                  <a:pt x="13742" y="3200"/>
                </a:cubicBezTo>
                <a:cubicBezTo>
                  <a:pt x="13715" y="3139"/>
                  <a:pt x="13673" y="3109"/>
                  <a:pt x="13618" y="3076"/>
                </a:cubicBezTo>
                <a:cubicBezTo>
                  <a:pt x="13570" y="3047"/>
                  <a:pt x="13525" y="3007"/>
                  <a:pt x="13469" y="3001"/>
                </a:cubicBezTo>
                <a:cubicBezTo>
                  <a:pt x="13425" y="2997"/>
                  <a:pt x="13406" y="2991"/>
                  <a:pt x="13395" y="30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95960" y="946080"/>
            <a:ext cx="1106280" cy="536760"/>
          </a:xfrm>
          <a:custGeom>
            <a:avLst/>
            <a:gdLst/>
            <a:ahLst/>
            <a:rect l="l" t="t" r="r" b="b"/>
            <a:pathLst>
              <a:path w="3077" h="1490">
                <a:moveTo>
                  <a:pt x="14957" y="3200"/>
                </a:moveTo>
                <a:cubicBezTo>
                  <a:pt x="14957" y="3318"/>
                  <a:pt x="14947" y="3410"/>
                  <a:pt x="14932" y="3522"/>
                </a:cubicBezTo>
                <a:cubicBezTo>
                  <a:pt x="14916" y="3636"/>
                  <a:pt x="14922" y="3760"/>
                  <a:pt x="14908" y="3870"/>
                </a:cubicBezTo>
                <a:cubicBezTo>
                  <a:pt x="14900" y="3930"/>
                  <a:pt x="14938" y="4129"/>
                  <a:pt x="14883" y="4093"/>
                </a:cubicBezTo>
              </a:path>
              <a:path w="3077" h="1490">
                <a:moveTo>
                  <a:pt x="14709" y="3175"/>
                </a:moveTo>
                <a:cubicBezTo>
                  <a:pt x="14794" y="3121"/>
                  <a:pt x="14881" y="3069"/>
                  <a:pt x="14982" y="3051"/>
                </a:cubicBezTo>
                <a:cubicBezTo>
                  <a:pt x="15065" y="3036"/>
                  <a:pt x="15216" y="3106"/>
                  <a:pt x="15280" y="3150"/>
                </a:cubicBezTo>
                <a:cubicBezTo>
                  <a:pt x="15317" y="3175"/>
                  <a:pt x="15413" y="3269"/>
                  <a:pt x="15404" y="3324"/>
                </a:cubicBezTo>
                <a:cubicBezTo>
                  <a:pt x="15398" y="3360"/>
                  <a:pt x="15368" y="3423"/>
                  <a:pt x="15329" y="3448"/>
                </a:cubicBezTo>
                <a:cubicBezTo>
                  <a:pt x="15289" y="3474"/>
                  <a:pt x="15197" y="3536"/>
                  <a:pt x="15156" y="3547"/>
                </a:cubicBezTo>
                <a:cubicBezTo>
                  <a:pt x="15142" y="3551"/>
                  <a:pt x="14995" y="3561"/>
                  <a:pt x="15081" y="3547"/>
                </a:cubicBezTo>
                <a:cubicBezTo>
                  <a:pt x="15098" y="3547"/>
                  <a:pt x="15114" y="3547"/>
                  <a:pt x="15131" y="3547"/>
                </a:cubicBezTo>
              </a:path>
              <a:path w="3077" h="1490">
                <a:moveTo>
                  <a:pt x="15602" y="3249"/>
                </a:moveTo>
                <a:cubicBezTo>
                  <a:pt x="15690" y="3249"/>
                  <a:pt x="15768" y="3238"/>
                  <a:pt x="15850" y="3225"/>
                </a:cubicBezTo>
                <a:cubicBezTo>
                  <a:pt x="15951" y="3209"/>
                  <a:pt x="16069" y="3225"/>
                  <a:pt x="16173" y="3225"/>
                </a:cubicBezTo>
                <a:cubicBezTo>
                  <a:pt x="16159" y="3264"/>
                  <a:pt x="16123" y="3249"/>
                  <a:pt x="16073" y="3249"/>
                </a:cubicBezTo>
              </a:path>
              <a:path w="3077" h="1490">
                <a:moveTo>
                  <a:pt x="15577" y="3448"/>
                </a:moveTo>
                <a:cubicBezTo>
                  <a:pt x="15602" y="3524"/>
                  <a:pt x="15744" y="3505"/>
                  <a:pt x="15825" y="3497"/>
                </a:cubicBezTo>
                <a:cubicBezTo>
                  <a:pt x="15909" y="3489"/>
                  <a:pt x="15986" y="3473"/>
                  <a:pt x="16073" y="3473"/>
                </a:cubicBezTo>
                <a:cubicBezTo>
                  <a:pt x="16140" y="3473"/>
                  <a:pt x="16183" y="3497"/>
                  <a:pt x="16247" y="3497"/>
                </a:cubicBezTo>
                <a:cubicBezTo>
                  <a:pt x="16272" y="3497"/>
                  <a:pt x="16280" y="3497"/>
                  <a:pt x="16272" y="3473"/>
                </a:cubicBezTo>
              </a:path>
              <a:path w="3077" h="1490">
                <a:moveTo>
                  <a:pt x="16793" y="2679"/>
                </a:moveTo>
                <a:cubicBezTo>
                  <a:pt x="16793" y="2890"/>
                  <a:pt x="16821" y="3120"/>
                  <a:pt x="16768" y="3324"/>
                </a:cubicBezTo>
                <a:cubicBezTo>
                  <a:pt x="16743" y="3421"/>
                  <a:pt x="16725" y="3522"/>
                  <a:pt x="16718" y="3621"/>
                </a:cubicBezTo>
                <a:cubicBezTo>
                  <a:pt x="16718" y="3626"/>
                  <a:pt x="16688" y="3747"/>
                  <a:pt x="16694" y="3746"/>
                </a:cubicBezTo>
                <a:cubicBezTo>
                  <a:pt x="16716" y="3723"/>
                  <a:pt x="16724" y="3718"/>
                  <a:pt x="16718" y="3696"/>
                </a:cubicBezTo>
              </a:path>
              <a:path w="3077" h="1490">
                <a:moveTo>
                  <a:pt x="17016" y="2828"/>
                </a:moveTo>
                <a:cubicBezTo>
                  <a:pt x="17071" y="2773"/>
                  <a:pt x="17124" y="2719"/>
                  <a:pt x="17190" y="2679"/>
                </a:cubicBezTo>
                <a:cubicBezTo>
                  <a:pt x="17244" y="2646"/>
                  <a:pt x="17326" y="2632"/>
                  <a:pt x="17388" y="2629"/>
                </a:cubicBezTo>
                <a:cubicBezTo>
                  <a:pt x="17427" y="2627"/>
                  <a:pt x="17488" y="2645"/>
                  <a:pt x="17512" y="2679"/>
                </a:cubicBezTo>
                <a:cubicBezTo>
                  <a:pt x="17549" y="2732"/>
                  <a:pt x="17537" y="2792"/>
                  <a:pt x="17537" y="2853"/>
                </a:cubicBezTo>
                <a:cubicBezTo>
                  <a:pt x="17537" y="2958"/>
                  <a:pt x="17491" y="2997"/>
                  <a:pt x="17438" y="3076"/>
                </a:cubicBezTo>
                <a:cubicBezTo>
                  <a:pt x="17388" y="3151"/>
                  <a:pt x="17355" y="3208"/>
                  <a:pt x="17289" y="3274"/>
                </a:cubicBezTo>
                <a:cubicBezTo>
                  <a:pt x="17227" y="3336"/>
                  <a:pt x="17178" y="3423"/>
                  <a:pt x="17115" y="3473"/>
                </a:cubicBezTo>
                <a:cubicBezTo>
                  <a:pt x="17066" y="3512"/>
                  <a:pt x="17038" y="3551"/>
                  <a:pt x="16991" y="3597"/>
                </a:cubicBezTo>
                <a:cubicBezTo>
                  <a:pt x="16958" y="3629"/>
                  <a:pt x="16961" y="3646"/>
                  <a:pt x="16942" y="3671"/>
                </a:cubicBezTo>
                <a:cubicBezTo>
                  <a:pt x="17016" y="3671"/>
                  <a:pt x="17069" y="3656"/>
                  <a:pt x="17140" y="3646"/>
                </a:cubicBezTo>
                <a:cubicBezTo>
                  <a:pt x="17217" y="3635"/>
                  <a:pt x="17282" y="3621"/>
                  <a:pt x="17363" y="3621"/>
                </a:cubicBezTo>
                <a:cubicBezTo>
                  <a:pt x="17437" y="3621"/>
                  <a:pt x="17491" y="3643"/>
                  <a:pt x="17562" y="3646"/>
                </a:cubicBezTo>
                <a:cubicBezTo>
                  <a:pt x="17615" y="3648"/>
                  <a:pt x="17641" y="3663"/>
                  <a:pt x="17686" y="3671"/>
                </a:cubicBezTo>
                <a:cubicBezTo>
                  <a:pt x="17730" y="3678"/>
                  <a:pt x="17740" y="3671"/>
                  <a:pt x="17785" y="36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03160" y="2098800"/>
            <a:ext cx="6465960" cy="4232160"/>
          </a:xfrm>
          <a:custGeom>
            <a:avLst/>
            <a:gdLst/>
            <a:ahLst/>
            <a:rect l="l" t="t" r="r" b="b"/>
            <a:pathLst>
              <a:path w="17960" h="11759">
                <a:moveTo>
                  <a:pt x="3994" y="5854"/>
                </a:moveTo>
                <a:cubicBezTo>
                  <a:pt x="3995" y="5887"/>
                  <a:pt x="3990" y="5871"/>
                  <a:pt x="3994" y="5904"/>
                </a:cubicBezTo>
                <a:cubicBezTo>
                  <a:pt x="4001" y="5959"/>
                  <a:pt x="4011" y="6004"/>
                  <a:pt x="4018" y="6052"/>
                </a:cubicBezTo>
                <a:cubicBezTo>
                  <a:pt x="4032" y="6149"/>
                  <a:pt x="4030" y="6231"/>
                  <a:pt x="4043" y="6325"/>
                </a:cubicBezTo>
                <a:cubicBezTo>
                  <a:pt x="4049" y="6369"/>
                  <a:pt x="4065" y="6397"/>
                  <a:pt x="4068" y="6449"/>
                </a:cubicBezTo>
                <a:cubicBezTo>
                  <a:pt x="4075" y="6580"/>
                  <a:pt x="4096" y="6753"/>
                  <a:pt x="4093" y="6846"/>
                </a:cubicBezTo>
                <a:cubicBezTo>
                  <a:pt x="4091" y="6909"/>
                  <a:pt x="4070" y="6950"/>
                  <a:pt x="4068" y="7020"/>
                </a:cubicBezTo>
                <a:cubicBezTo>
                  <a:pt x="4060" y="7296"/>
                  <a:pt x="4054" y="7568"/>
                  <a:pt x="4043" y="7838"/>
                </a:cubicBezTo>
                <a:cubicBezTo>
                  <a:pt x="4040" y="7911"/>
                  <a:pt x="4020" y="8005"/>
                  <a:pt x="4018" y="8062"/>
                </a:cubicBezTo>
                <a:cubicBezTo>
                  <a:pt x="4006" y="8364"/>
                  <a:pt x="4039" y="8659"/>
                  <a:pt x="4043" y="8954"/>
                </a:cubicBezTo>
                <a:cubicBezTo>
                  <a:pt x="4053" y="9720"/>
                  <a:pt x="4022" y="10487"/>
                  <a:pt x="3994" y="11237"/>
                </a:cubicBezTo>
                <a:cubicBezTo>
                  <a:pt x="3986" y="11441"/>
                  <a:pt x="3989" y="11634"/>
                  <a:pt x="3969" y="11832"/>
                </a:cubicBezTo>
                <a:cubicBezTo>
                  <a:pt x="3950" y="12014"/>
                  <a:pt x="3946" y="12194"/>
                  <a:pt x="3944" y="12378"/>
                </a:cubicBezTo>
                <a:cubicBezTo>
                  <a:pt x="3943" y="12496"/>
                  <a:pt x="3964" y="12616"/>
                  <a:pt x="3969" y="12725"/>
                </a:cubicBezTo>
                <a:cubicBezTo>
                  <a:pt x="3990" y="13201"/>
                  <a:pt x="3984" y="13694"/>
                  <a:pt x="3944" y="14163"/>
                </a:cubicBezTo>
                <a:cubicBezTo>
                  <a:pt x="3934" y="14278"/>
                  <a:pt x="3921" y="14391"/>
                  <a:pt x="3919" y="14511"/>
                </a:cubicBezTo>
                <a:cubicBezTo>
                  <a:pt x="3912" y="15013"/>
                  <a:pt x="3878" y="15533"/>
                  <a:pt x="3919" y="16024"/>
                </a:cubicBezTo>
                <a:cubicBezTo>
                  <a:pt x="3930" y="16159"/>
                  <a:pt x="3943" y="16290"/>
                  <a:pt x="3969" y="16421"/>
                </a:cubicBezTo>
                <a:cubicBezTo>
                  <a:pt x="3994" y="16546"/>
                  <a:pt x="4036" y="16666"/>
                  <a:pt x="4043" y="16793"/>
                </a:cubicBezTo>
                <a:cubicBezTo>
                  <a:pt x="4057" y="17030"/>
                  <a:pt x="4055" y="17284"/>
                  <a:pt x="4018" y="17512"/>
                </a:cubicBezTo>
                <a:cubicBezTo>
                  <a:pt x="4013" y="17545"/>
                  <a:pt x="3999" y="17554"/>
                  <a:pt x="3994" y="17587"/>
                </a:cubicBezTo>
              </a:path>
              <a:path w="17960" h="11759">
                <a:moveTo>
                  <a:pt x="2232" y="11857"/>
                </a:moveTo>
                <a:cubicBezTo>
                  <a:pt x="2635" y="11857"/>
                  <a:pt x="3033" y="11864"/>
                  <a:pt x="3423" y="11832"/>
                </a:cubicBezTo>
                <a:cubicBezTo>
                  <a:pt x="3503" y="11825"/>
                  <a:pt x="3562" y="11810"/>
                  <a:pt x="3646" y="11807"/>
                </a:cubicBezTo>
                <a:cubicBezTo>
                  <a:pt x="4045" y="11791"/>
                  <a:pt x="4445" y="11808"/>
                  <a:pt x="4837" y="11832"/>
                </a:cubicBezTo>
                <a:cubicBezTo>
                  <a:pt x="4902" y="11836"/>
                  <a:pt x="4948" y="11858"/>
                  <a:pt x="5011" y="11857"/>
                </a:cubicBezTo>
                <a:cubicBezTo>
                  <a:pt x="5118" y="11856"/>
                  <a:pt x="5211" y="11834"/>
                  <a:pt x="5308" y="11832"/>
                </a:cubicBezTo>
                <a:cubicBezTo>
                  <a:pt x="5467" y="11829"/>
                  <a:pt x="5607" y="11820"/>
                  <a:pt x="5755" y="11807"/>
                </a:cubicBezTo>
                <a:cubicBezTo>
                  <a:pt x="5860" y="11798"/>
                  <a:pt x="5954" y="11786"/>
                  <a:pt x="6052" y="11782"/>
                </a:cubicBezTo>
                <a:cubicBezTo>
                  <a:pt x="6194" y="11776"/>
                  <a:pt x="6317" y="11804"/>
                  <a:pt x="6449" y="11807"/>
                </a:cubicBezTo>
                <a:cubicBezTo>
                  <a:pt x="6710" y="11812"/>
                  <a:pt x="7010" y="11807"/>
                  <a:pt x="7243" y="11807"/>
                </a:cubicBezTo>
                <a:cubicBezTo>
                  <a:pt x="7868" y="11764"/>
                  <a:pt x="8617" y="11755"/>
                  <a:pt x="9203" y="11782"/>
                </a:cubicBezTo>
                <a:cubicBezTo>
                  <a:pt x="9272" y="11754"/>
                  <a:pt x="9208" y="11762"/>
                  <a:pt x="9277" y="11782"/>
                </a:cubicBezTo>
                <a:cubicBezTo>
                  <a:pt x="9506" y="11766"/>
                  <a:pt x="9761" y="11775"/>
                  <a:pt x="9996" y="11782"/>
                </a:cubicBezTo>
                <a:cubicBezTo>
                  <a:pt x="10657" y="11801"/>
                  <a:pt x="11340" y="11805"/>
                  <a:pt x="11981" y="11733"/>
                </a:cubicBezTo>
                <a:cubicBezTo>
                  <a:pt x="12056" y="11725"/>
                  <a:pt x="12168" y="11688"/>
                  <a:pt x="12254" y="11683"/>
                </a:cubicBezTo>
                <a:cubicBezTo>
                  <a:pt x="12461" y="11671"/>
                  <a:pt x="12673" y="11683"/>
                  <a:pt x="12874" y="11708"/>
                </a:cubicBezTo>
                <a:cubicBezTo>
                  <a:pt x="12935" y="11716"/>
                  <a:pt x="12982" y="11724"/>
                  <a:pt x="13047" y="11733"/>
                </a:cubicBezTo>
                <a:cubicBezTo>
                  <a:pt x="13119" y="11743"/>
                  <a:pt x="13192" y="11777"/>
                  <a:pt x="13271" y="11782"/>
                </a:cubicBezTo>
                <a:cubicBezTo>
                  <a:pt x="13633" y="11806"/>
                  <a:pt x="14005" y="11804"/>
                  <a:pt x="14362" y="11807"/>
                </a:cubicBezTo>
                <a:cubicBezTo>
                  <a:pt x="14542" y="11809"/>
                  <a:pt x="14707" y="11787"/>
                  <a:pt x="14883" y="11782"/>
                </a:cubicBezTo>
                <a:cubicBezTo>
                  <a:pt x="15471" y="11765"/>
                  <a:pt x="16063" y="11774"/>
                  <a:pt x="16644" y="11807"/>
                </a:cubicBezTo>
                <a:cubicBezTo>
                  <a:pt x="16795" y="11815"/>
                  <a:pt x="16962" y="11851"/>
                  <a:pt x="17115" y="11857"/>
                </a:cubicBezTo>
                <a:cubicBezTo>
                  <a:pt x="17283" y="11863"/>
                  <a:pt x="17448" y="11876"/>
                  <a:pt x="17611" y="11881"/>
                </a:cubicBezTo>
                <a:cubicBezTo>
                  <a:pt x="17875" y="11889"/>
                  <a:pt x="18141" y="11872"/>
                  <a:pt x="18405" y="11857"/>
                </a:cubicBezTo>
                <a:cubicBezTo>
                  <a:pt x="18542" y="11849"/>
                  <a:pt x="18666" y="11836"/>
                  <a:pt x="18802" y="11832"/>
                </a:cubicBezTo>
                <a:cubicBezTo>
                  <a:pt x="19096" y="11824"/>
                  <a:pt x="19379" y="11842"/>
                  <a:pt x="19670" y="11857"/>
                </a:cubicBezTo>
                <a:cubicBezTo>
                  <a:pt x="19742" y="11861"/>
                  <a:pt x="19799" y="11875"/>
                  <a:pt x="19869" y="11881"/>
                </a:cubicBezTo>
                <a:cubicBezTo>
                  <a:pt x="19977" y="11891"/>
                  <a:pt x="20062" y="11897"/>
                  <a:pt x="20166" y="11906"/>
                </a:cubicBezTo>
                <a:cubicBezTo>
                  <a:pt x="20191" y="11906"/>
                  <a:pt x="20199" y="11906"/>
                  <a:pt x="20166" y="11906"/>
                </a:cubicBezTo>
              </a:path>
              <a:path w="17960" h="11759">
                <a:moveTo>
                  <a:pt x="7268" y="6871"/>
                </a:moveTo>
                <a:cubicBezTo>
                  <a:pt x="7282" y="6912"/>
                  <a:pt x="7292" y="6890"/>
                  <a:pt x="7317" y="6871"/>
                </a:cubicBezTo>
                <a:cubicBezTo>
                  <a:pt x="7350" y="6846"/>
                  <a:pt x="7342" y="6832"/>
                  <a:pt x="7342" y="6796"/>
                </a:cubicBezTo>
                <a:cubicBezTo>
                  <a:pt x="7321" y="6789"/>
                  <a:pt x="7304" y="6753"/>
                  <a:pt x="7268" y="6772"/>
                </a:cubicBezTo>
                <a:cubicBezTo>
                  <a:pt x="7244" y="6785"/>
                  <a:pt x="7220" y="6830"/>
                  <a:pt x="7218" y="6846"/>
                </a:cubicBezTo>
                <a:cubicBezTo>
                  <a:pt x="7218" y="6871"/>
                  <a:pt x="7218" y="6879"/>
                  <a:pt x="7218" y="6896"/>
                </a:cubicBezTo>
                <a:cubicBezTo>
                  <a:pt x="7264" y="6896"/>
                  <a:pt x="7282" y="6902"/>
                  <a:pt x="7317" y="6871"/>
                </a:cubicBezTo>
                <a:cubicBezTo>
                  <a:pt x="7351" y="6840"/>
                  <a:pt x="7342" y="6815"/>
                  <a:pt x="7342" y="6772"/>
                </a:cubicBezTo>
                <a:cubicBezTo>
                  <a:pt x="7297" y="6772"/>
                  <a:pt x="7278" y="6766"/>
                  <a:pt x="7243" y="6796"/>
                </a:cubicBezTo>
                <a:cubicBezTo>
                  <a:pt x="7201" y="6833"/>
                  <a:pt x="7193" y="6812"/>
                  <a:pt x="7193" y="6871"/>
                </a:cubicBezTo>
                <a:cubicBezTo>
                  <a:pt x="7193" y="6914"/>
                  <a:pt x="7198" y="6931"/>
                  <a:pt x="7243" y="6945"/>
                </a:cubicBezTo>
                <a:cubicBezTo>
                  <a:pt x="7279" y="6956"/>
                  <a:pt x="7301" y="6933"/>
                  <a:pt x="7317" y="6921"/>
                </a:cubicBezTo>
                <a:cubicBezTo>
                  <a:pt x="7359" y="6890"/>
                  <a:pt x="7367" y="6870"/>
                  <a:pt x="7367" y="6821"/>
                </a:cubicBezTo>
                <a:cubicBezTo>
                  <a:pt x="7367" y="6796"/>
                  <a:pt x="7367" y="6788"/>
                  <a:pt x="7367" y="6772"/>
                </a:cubicBezTo>
                <a:cubicBezTo>
                  <a:pt x="7314" y="6772"/>
                  <a:pt x="7287" y="6791"/>
                  <a:pt x="7243" y="6796"/>
                </a:cubicBezTo>
                <a:cubicBezTo>
                  <a:pt x="7193" y="6801"/>
                  <a:pt x="7195" y="6835"/>
                  <a:pt x="7169" y="6871"/>
                </a:cubicBezTo>
              </a:path>
              <a:path w="17960" h="11759">
                <a:moveTo>
                  <a:pt x="5358" y="11807"/>
                </a:moveTo>
                <a:cubicBezTo>
                  <a:pt x="5358" y="11799"/>
                  <a:pt x="5358" y="11790"/>
                  <a:pt x="5358" y="11782"/>
                </a:cubicBezTo>
                <a:cubicBezTo>
                  <a:pt x="5306" y="11782"/>
                  <a:pt x="5305" y="11796"/>
                  <a:pt x="5283" y="11807"/>
                </a:cubicBezTo>
                <a:cubicBezTo>
                  <a:pt x="5265" y="11816"/>
                  <a:pt x="5239" y="11844"/>
                  <a:pt x="5259" y="11881"/>
                </a:cubicBezTo>
                <a:cubicBezTo>
                  <a:pt x="5279" y="11919"/>
                  <a:pt x="5322" y="11906"/>
                  <a:pt x="5358" y="11906"/>
                </a:cubicBezTo>
                <a:cubicBezTo>
                  <a:pt x="5358" y="11856"/>
                  <a:pt x="5347" y="11848"/>
                  <a:pt x="5333" y="11807"/>
                </a:cubicBezTo>
                <a:cubicBezTo>
                  <a:pt x="5329" y="11795"/>
                  <a:pt x="5282" y="11752"/>
                  <a:pt x="5259" y="11782"/>
                </a:cubicBezTo>
                <a:cubicBezTo>
                  <a:pt x="5230" y="11819"/>
                  <a:pt x="5216" y="11847"/>
                  <a:pt x="5234" y="11881"/>
                </a:cubicBezTo>
                <a:cubicBezTo>
                  <a:pt x="5256" y="11898"/>
                  <a:pt x="5329" y="11935"/>
                  <a:pt x="5358" y="11906"/>
                </a:cubicBezTo>
                <a:cubicBezTo>
                  <a:pt x="5377" y="11887"/>
                  <a:pt x="5383" y="11871"/>
                  <a:pt x="5383" y="11832"/>
                </a:cubicBezTo>
                <a:cubicBezTo>
                  <a:pt x="5383" y="11798"/>
                  <a:pt x="5396" y="11752"/>
                  <a:pt x="5358" y="11733"/>
                </a:cubicBezTo>
                <a:cubicBezTo>
                  <a:pt x="5325" y="11717"/>
                  <a:pt x="5281" y="11738"/>
                  <a:pt x="5259" y="11757"/>
                </a:cubicBezTo>
                <a:cubicBezTo>
                  <a:pt x="5217" y="11794"/>
                  <a:pt x="5209" y="11773"/>
                  <a:pt x="5209" y="11832"/>
                </a:cubicBezTo>
                <a:cubicBezTo>
                  <a:pt x="5247" y="11845"/>
                  <a:pt x="5230" y="11857"/>
                  <a:pt x="5283" y="11857"/>
                </a:cubicBezTo>
                <a:cubicBezTo>
                  <a:pt x="5335" y="11857"/>
                  <a:pt x="5336" y="11862"/>
                  <a:pt x="5358" y="11832"/>
                </a:cubicBezTo>
                <a:cubicBezTo>
                  <a:pt x="5374" y="11810"/>
                  <a:pt x="5415" y="11763"/>
                  <a:pt x="5407" y="11733"/>
                </a:cubicBezTo>
                <a:cubicBezTo>
                  <a:pt x="5399" y="11716"/>
                  <a:pt x="5391" y="11700"/>
                  <a:pt x="5383" y="11683"/>
                </a:cubicBezTo>
                <a:cubicBezTo>
                  <a:pt x="5357" y="11683"/>
                  <a:pt x="5295" y="11690"/>
                  <a:pt x="5283" y="11708"/>
                </a:cubicBezTo>
                <a:cubicBezTo>
                  <a:pt x="5265" y="11734"/>
                  <a:pt x="5259" y="11738"/>
                  <a:pt x="5259" y="11782"/>
                </a:cubicBezTo>
                <a:cubicBezTo>
                  <a:pt x="5259" y="11790"/>
                  <a:pt x="5259" y="11799"/>
                  <a:pt x="5259" y="11807"/>
                </a:cubicBezTo>
              </a:path>
              <a:path w="17960" h="11759">
                <a:moveTo>
                  <a:pt x="8880" y="11757"/>
                </a:moveTo>
                <a:cubicBezTo>
                  <a:pt x="8907" y="11793"/>
                  <a:pt x="8897" y="11796"/>
                  <a:pt x="8930" y="11807"/>
                </a:cubicBezTo>
                <a:cubicBezTo>
                  <a:pt x="8972" y="11775"/>
                  <a:pt x="8979" y="11788"/>
                  <a:pt x="8979" y="11733"/>
                </a:cubicBezTo>
                <a:cubicBezTo>
                  <a:pt x="8979" y="11698"/>
                  <a:pt x="8992" y="11653"/>
                  <a:pt x="8954" y="11633"/>
                </a:cubicBezTo>
                <a:cubicBezTo>
                  <a:pt x="8913" y="11612"/>
                  <a:pt x="8835" y="11632"/>
                  <a:pt x="8806" y="11658"/>
                </a:cubicBezTo>
                <a:cubicBezTo>
                  <a:pt x="8775" y="11686"/>
                  <a:pt x="8781" y="11695"/>
                  <a:pt x="8781" y="11733"/>
                </a:cubicBezTo>
                <a:cubicBezTo>
                  <a:pt x="8804" y="11750"/>
                  <a:pt x="8847" y="11775"/>
                  <a:pt x="8880" y="11757"/>
                </a:cubicBezTo>
                <a:cubicBezTo>
                  <a:pt x="8924" y="11734"/>
                  <a:pt x="8930" y="11702"/>
                  <a:pt x="8930" y="11658"/>
                </a:cubicBezTo>
                <a:cubicBezTo>
                  <a:pt x="8930" y="11650"/>
                  <a:pt x="8930" y="11641"/>
                  <a:pt x="8930" y="11633"/>
                </a:cubicBezTo>
                <a:cubicBezTo>
                  <a:pt x="8891" y="11617"/>
                  <a:pt x="8815" y="11592"/>
                  <a:pt x="8781" y="11633"/>
                </a:cubicBezTo>
                <a:cubicBezTo>
                  <a:pt x="8762" y="11656"/>
                  <a:pt x="8756" y="11666"/>
                  <a:pt x="8756" y="11708"/>
                </a:cubicBezTo>
                <a:cubicBezTo>
                  <a:pt x="8756" y="11746"/>
                  <a:pt x="8785" y="11741"/>
                  <a:pt x="8806" y="11757"/>
                </a:cubicBezTo>
                <a:cubicBezTo>
                  <a:pt x="8861" y="11799"/>
                  <a:pt x="8851" y="11775"/>
                  <a:pt x="8905" y="11757"/>
                </a:cubicBezTo>
                <a:cubicBezTo>
                  <a:pt x="8944" y="11744"/>
                  <a:pt x="8944" y="11750"/>
                  <a:pt x="8954" y="11708"/>
                </a:cubicBezTo>
                <a:cubicBezTo>
                  <a:pt x="8917" y="11679"/>
                  <a:pt x="8903" y="11683"/>
                  <a:pt x="8855" y="11683"/>
                </a:cubicBezTo>
                <a:cubicBezTo>
                  <a:pt x="8810" y="11683"/>
                  <a:pt x="8791" y="11720"/>
                  <a:pt x="8781" y="11757"/>
                </a:cubicBezTo>
              </a:path>
              <a:path w="17960" h="11759">
                <a:moveTo>
                  <a:pt x="13122" y="11757"/>
                </a:moveTo>
                <a:cubicBezTo>
                  <a:pt x="13122" y="11734"/>
                  <a:pt x="13101" y="11682"/>
                  <a:pt x="13097" y="11683"/>
                </a:cubicBezTo>
                <a:cubicBezTo>
                  <a:pt x="13076" y="11690"/>
                  <a:pt x="13048" y="11747"/>
                  <a:pt x="13047" y="11757"/>
                </a:cubicBezTo>
                <a:cubicBezTo>
                  <a:pt x="13047" y="11765"/>
                  <a:pt x="13047" y="11774"/>
                  <a:pt x="13047" y="11782"/>
                </a:cubicBezTo>
                <a:cubicBezTo>
                  <a:pt x="13084" y="11770"/>
                  <a:pt x="13076" y="11760"/>
                  <a:pt x="13097" y="11733"/>
                </a:cubicBezTo>
                <a:cubicBezTo>
                  <a:pt x="13105" y="11725"/>
                  <a:pt x="13114" y="11716"/>
                  <a:pt x="13122" y="11708"/>
                </a:cubicBezTo>
                <a:cubicBezTo>
                  <a:pt x="13083" y="11679"/>
                  <a:pt x="13062" y="11681"/>
                  <a:pt x="13022" y="11708"/>
                </a:cubicBezTo>
                <a:cubicBezTo>
                  <a:pt x="13000" y="11730"/>
                  <a:pt x="12992" y="11735"/>
                  <a:pt x="12998" y="11757"/>
                </a:cubicBezTo>
                <a:cubicBezTo>
                  <a:pt x="13010" y="11795"/>
                  <a:pt x="13027" y="11782"/>
                  <a:pt x="13072" y="11782"/>
                </a:cubicBezTo>
                <a:cubicBezTo>
                  <a:pt x="13125" y="11782"/>
                  <a:pt x="13109" y="11770"/>
                  <a:pt x="13146" y="11757"/>
                </a:cubicBezTo>
                <a:cubicBezTo>
                  <a:pt x="13146" y="11732"/>
                  <a:pt x="13139" y="11669"/>
                  <a:pt x="13122" y="11658"/>
                </a:cubicBezTo>
                <a:cubicBezTo>
                  <a:pt x="13092" y="11638"/>
                  <a:pt x="13041" y="11666"/>
                  <a:pt x="13022" y="11683"/>
                </a:cubicBezTo>
                <a:cubicBezTo>
                  <a:pt x="13000" y="11703"/>
                  <a:pt x="12954" y="11721"/>
                  <a:pt x="12948" y="11733"/>
                </a:cubicBezTo>
                <a:cubicBezTo>
                  <a:pt x="12924" y="11778"/>
                  <a:pt x="12967" y="11821"/>
                  <a:pt x="12973" y="11832"/>
                </a:cubicBezTo>
                <a:cubicBezTo>
                  <a:pt x="12973" y="11840"/>
                  <a:pt x="12973" y="11849"/>
                  <a:pt x="12973" y="11857"/>
                </a:cubicBezTo>
                <a:cubicBezTo>
                  <a:pt x="13023" y="11857"/>
                  <a:pt x="13031" y="11846"/>
                  <a:pt x="13072" y="11832"/>
                </a:cubicBezTo>
                <a:cubicBezTo>
                  <a:pt x="13110" y="11819"/>
                  <a:pt x="13097" y="11802"/>
                  <a:pt x="13097" y="11757"/>
                </a:cubicBezTo>
                <a:cubicBezTo>
                  <a:pt x="13097" y="11726"/>
                  <a:pt x="13089" y="11691"/>
                  <a:pt x="13072" y="11683"/>
                </a:cubicBezTo>
                <a:cubicBezTo>
                  <a:pt x="13050" y="11672"/>
                  <a:pt x="13019" y="11703"/>
                  <a:pt x="12998" y="11708"/>
                </a:cubicBezTo>
              </a:path>
              <a:path w="17960" h="11759">
                <a:moveTo>
                  <a:pt x="17140" y="11857"/>
                </a:moveTo>
                <a:cubicBezTo>
                  <a:pt x="17166" y="11822"/>
                  <a:pt x="17165" y="11826"/>
                  <a:pt x="17165" y="11782"/>
                </a:cubicBezTo>
                <a:cubicBezTo>
                  <a:pt x="17124" y="11782"/>
                  <a:pt x="17085" y="11787"/>
                  <a:pt x="17066" y="11832"/>
                </a:cubicBezTo>
                <a:cubicBezTo>
                  <a:pt x="17051" y="11867"/>
                  <a:pt x="17041" y="11855"/>
                  <a:pt x="17041" y="11906"/>
                </a:cubicBezTo>
                <a:cubicBezTo>
                  <a:pt x="17079" y="11935"/>
                  <a:pt x="17092" y="11931"/>
                  <a:pt x="17140" y="11931"/>
                </a:cubicBezTo>
                <a:cubicBezTo>
                  <a:pt x="17172" y="11931"/>
                  <a:pt x="17206" y="11923"/>
                  <a:pt x="17214" y="11906"/>
                </a:cubicBezTo>
                <a:cubicBezTo>
                  <a:pt x="17232" y="11868"/>
                  <a:pt x="17209" y="11809"/>
                  <a:pt x="17190" y="11782"/>
                </a:cubicBezTo>
                <a:cubicBezTo>
                  <a:pt x="17150" y="11792"/>
                  <a:pt x="17127" y="11819"/>
                  <a:pt x="17090" y="11832"/>
                </a:cubicBezTo>
                <a:cubicBezTo>
                  <a:pt x="17052" y="11845"/>
                  <a:pt x="17051" y="11840"/>
                  <a:pt x="17041" y="11881"/>
                </a:cubicBezTo>
                <a:cubicBezTo>
                  <a:pt x="17054" y="11919"/>
                  <a:pt x="17070" y="11906"/>
                  <a:pt x="17115" y="11906"/>
                </a:cubicBezTo>
                <a:cubicBezTo>
                  <a:pt x="17165" y="11906"/>
                  <a:pt x="17174" y="11895"/>
                  <a:pt x="17214" y="11881"/>
                </a:cubicBezTo>
                <a:cubicBezTo>
                  <a:pt x="17241" y="11872"/>
                  <a:pt x="17260" y="11864"/>
                  <a:pt x="17264" y="11832"/>
                </a:cubicBezTo>
                <a:cubicBezTo>
                  <a:pt x="17270" y="11782"/>
                  <a:pt x="17265" y="11776"/>
                  <a:pt x="17239" y="11757"/>
                </a:cubicBezTo>
                <a:cubicBezTo>
                  <a:pt x="17190" y="11721"/>
                  <a:pt x="17167" y="11743"/>
                  <a:pt x="17115" y="11782"/>
                </a:cubicBezTo>
                <a:cubicBezTo>
                  <a:pt x="17051" y="11830"/>
                  <a:pt x="17056" y="11842"/>
                  <a:pt x="17115" y="11881"/>
                </a:cubicBezTo>
              </a:path>
              <a:path w="17960" h="11759">
                <a:moveTo>
                  <a:pt x="3150" y="16024"/>
                </a:moveTo>
                <a:cubicBezTo>
                  <a:pt x="3165" y="16059"/>
                  <a:pt x="3185" y="16088"/>
                  <a:pt x="3200" y="16123"/>
                </a:cubicBezTo>
                <a:cubicBezTo>
                  <a:pt x="3239" y="16211"/>
                  <a:pt x="3259" y="16308"/>
                  <a:pt x="3299" y="16396"/>
                </a:cubicBezTo>
                <a:cubicBezTo>
                  <a:pt x="3326" y="16455"/>
                  <a:pt x="3363" y="16542"/>
                  <a:pt x="3398" y="16594"/>
                </a:cubicBezTo>
                <a:cubicBezTo>
                  <a:pt x="3491" y="16730"/>
                  <a:pt x="3498" y="16808"/>
                  <a:pt x="3646" y="16867"/>
                </a:cubicBezTo>
                <a:cubicBezTo>
                  <a:pt x="3745" y="16906"/>
                  <a:pt x="3912" y="16906"/>
                  <a:pt x="3994" y="16867"/>
                </a:cubicBezTo>
                <a:cubicBezTo>
                  <a:pt x="4027" y="16851"/>
                  <a:pt x="4039" y="16839"/>
                  <a:pt x="4068" y="16818"/>
                </a:cubicBezTo>
                <a:cubicBezTo>
                  <a:pt x="4075" y="16813"/>
                  <a:pt x="4113" y="16748"/>
                  <a:pt x="4118" y="16743"/>
                </a:cubicBezTo>
                <a:cubicBezTo>
                  <a:pt x="4146" y="16714"/>
                  <a:pt x="4166" y="16679"/>
                  <a:pt x="4192" y="16644"/>
                </a:cubicBezTo>
                <a:cubicBezTo>
                  <a:pt x="4298" y="16505"/>
                  <a:pt x="4362" y="16235"/>
                  <a:pt x="4415" y="16073"/>
                </a:cubicBezTo>
                <a:cubicBezTo>
                  <a:pt x="4436" y="16010"/>
                  <a:pt x="4446" y="15944"/>
                  <a:pt x="4465" y="15875"/>
                </a:cubicBezTo>
                <a:cubicBezTo>
                  <a:pt x="4613" y="15339"/>
                  <a:pt x="4708" y="14761"/>
                  <a:pt x="4787" y="14213"/>
                </a:cubicBezTo>
                <a:cubicBezTo>
                  <a:pt x="4799" y="14129"/>
                  <a:pt x="4800" y="14050"/>
                  <a:pt x="4812" y="13965"/>
                </a:cubicBezTo>
                <a:cubicBezTo>
                  <a:pt x="4824" y="13880"/>
                  <a:pt x="4826" y="13804"/>
                  <a:pt x="4837" y="13717"/>
                </a:cubicBezTo>
                <a:cubicBezTo>
                  <a:pt x="4847" y="13636"/>
                  <a:pt x="4849" y="13552"/>
                  <a:pt x="4862" y="13469"/>
                </a:cubicBezTo>
                <a:cubicBezTo>
                  <a:pt x="4880" y="13355"/>
                  <a:pt x="4893" y="13239"/>
                  <a:pt x="4911" y="13122"/>
                </a:cubicBezTo>
                <a:cubicBezTo>
                  <a:pt x="4932" y="12984"/>
                  <a:pt x="4962" y="12844"/>
                  <a:pt x="4986" y="12700"/>
                </a:cubicBezTo>
                <a:cubicBezTo>
                  <a:pt x="4999" y="12626"/>
                  <a:pt x="5023" y="12543"/>
                  <a:pt x="5035" y="12477"/>
                </a:cubicBezTo>
                <a:cubicBezTo>
                  <a:pt x="5050" y="12393"/>
                  <a:pt x="5064" y="12312"/>
                  <a:pt x="5085" y="12229"/>
                </a:cubicBezTo>
                <a:cubicBezTo>
                  <a:pt x="5104" y="12154"/>
                  <a:pt x="5115" y="12080"/>
                  <a:pt x="5135" y="12005"/>
                </a:cubicBezTo>
                <a:cubicBezTo>
                  <a:pt x="5209" y="11736"/>
                  <a:pt x="5290" y="11465"/>
                  <a:pt x="5358" y="11187"/>
                </a:cubicBezTo>
                <a:cubicBezTo>
                  <a:pt x="5374" y="11122"/>
                  <a:pt x="5393" y="11056"/>
                  <a:pt x="5407" y="10988"/>
                </a:cubicBezTo>
                <a:cubicBezTo>
                  <a:pt x="5423" y="10913"/>
                  <a:pt x="5441" y="10842"/>
                  <a:pt x="5457" y="10765"/>
                </a:cubicBezTo>
                <a:cubicBezTo>
                  <a:pt x="5479" y="10660"/>
                  <a:pt x="5486" y="10553"/>
                  <a:pt x="5507" y="10443"/>
                </a:cubicBezTo>
                <a:cubicBezTo>
                  <a:pt x="5525" y="10352"/>
                  <a:pt x="5534" y="10257"/>
                  <a:pt x="5556" y="10170"/>
                </a:cubicBezTo>
                <a:cubicBezTo>
                  <a:pt x="5577" y="10086"/>
                  <a:pt x="5609" y="10009"/>
                  <a:pt x="5631" y="9922"/>
                </a:cubicBezTo>
                <a:cubicBezTo>
                  <a:pt x="5655" y="9829"/>
                  <a:pt x="5679" y="9738"/>
                  <a:pt x="5705" y="9649"/>
                </a:cubicBezTo>
                <a:cubicBezTo>
                  <a:pt x="5732" y="9556"/>
                  <a:pt x="5751" y="9465"/>
                  <a:pt x="5779" y="9376"/>
                </a:cubicBezTo>
                <a:cubicBezTo>
                  <a:pt x="5850" y="9151"/>
                  <a:pt x="5922" y="8926"/>
                  <a:pt x="6003" y="8706"/>
                </a:cubicBezTo>
                <a:cubicBezTo>
                  <a:pt x="6140" y="8334"/>
                  <a:pt x="6288" y="7990"/>
                  <a:pt x="6474" y="7640"/>
                </a:cubicBezTo>
                <a:cubicBezTo>
                  <a:pt x="6535" y="7524"/>
                  <a:pt x="6581" y="7424"/>
                  <a:pt x="6648" y="7317"/>
                </a:cubicBezTo>
                <a:cubicBezTo>
                  <a:pt x="6693" y="7245"/>
                  <a:pt x="6744" y="7184"/>
                  <a:pt x="6796" y="7119"/>
                </a:cubicBezTo>
                <a:cubicBezTo>
                  <a:pt x="6832" y="7074"/>
                  <a:pt x="6881" y="7006"/>
                  <a:pt x="6921" y="6970"/>
                </a:cubicBezTo>
                <a:cubicBezTo>
                  <a:pt x="7036" y="6865"/>
                  <a:pt x="7167" y="6744"/>
                  <a:pt x="7317" y="6747"/>
                </a:cubicBezTo>
                <a:cubicBezTo>
                  <a:pt x="7377" y="6748"/>
                  <a:pt x="7458" y="6805"/>
                  <a:pt x="7516" y="6821"/>
                </a:cubicBezTo>
                <a:cubicBezTo>
                  <a:pt x="7555" y="6832"/>
                  <a:pt x="7578" y="6880"/>
                  <a:pt x="7615" y="6896"/>
                </a:cubicBezTo>
                <a:cubicBezTo>
                  <a:pt x="7651" y="6912"/>
                  <a:pt x="7679" y="6925"/>
                  <a:pt x="7714" y="6945"/>
                </a:cubicBezTo>
                <a:cubicBezTo>
                  <a:pt x="7742" y="6961"/>
                  <a:pt x="7775" y="6986"/>
                  <a:pt x="7789" y="6995"/>
                </a:cubicBezTo>
                <a:cubicBezTo>
                  <a:pt x="7836" y="7027"/>
                  <a:pt x="7865" y="7049"/>
                  <a:pt x="7913" y="7094"/>
                </a:cubicBezTo>
                <a:cubicBezTo>
                  <a:pt x="7955" y="7133"/>
                  <a:pt x="7974" y="7149"/>
                  <a:pt x="8012" y="7193"/>
                </a:cubicBezTo>
                <a:cubicBezTo>
                  <a:pt x="8098" y="7294"/>
                  <a:pt x="8129" y="7383"/>
                  <a:pt x="8186" y="7491"/>
                </a:cubicBezTo>
                <a:cubicBezTo>
                  <a:pt x="8227" y="7568"/>
                  <a:pt x="8255" y="7640"/>
                  <a:pt x="8285" y="7714"/>
                </a:cubicBezTo>
                <a:cubicBezTo>
                  <a:pt x="8305" y="7764"/>
                  <a:pt x="8315" y="7812"/>
                  <a:pt x="8334" y="7863"/>
                </a:cubicBezTo>
                <a:cubicBezTo>
                  <a:pt x="8353" y="7914"/>
                  <a:pt x="8368" y="7958"/>
                  <a:pt x="8384" y="8012"/>
                </a:cubicBezTo>
                <a:cubicBezTo>
                  <a:pt x="8400" y="8066"/>
                  <a:pt x="8421" y="8130"/>
                  <a:pt x="8434" y="8186"/>
                </a:cubicBezTo>
                <a:cubicBezTo>
                  <a:pt x="8452" y="8261"/>
                  <a:pt x="8470" y="8315"/>
                  <a:pt x="8483" y="8384"/>
                </a:cubicBezTo>
                <a:cubicBezTo>
                  <a:pt x="8507" y="8507"/>
                  <a:pt x="8520" y="8630"/>
                  <a:pt x="8533" y="8756"/>
                </a:cubicBezTo>
                <a:cubicBezTo>
                  <a:pt x="8553" y="8951"/>
                  <a:pt x="8563" y="9157"/>
                  <a:pt x="8582" y="9351"/>
                </a:cubicBezTo>
                <a:cubicBezTo>
                  <a:pt x="8594" y="9474"/>
                  <a:pt x="8621" y="9587"/>
                  <a:pt x="8632" y="9699"/>
                </a:cubicBezTo>
                <a:cubicBezTo>
                  <a:pt x="8654" y="9936"/>
                  <a:pt x="8658" y="10180"/>
                  <a:pt x="8682" y="10418"/>
                </a:cubicBezTo>
                <a:cubicBezTo>
                  <a:pt x="8688" y="10474"/>
                  <a:pt x="8699" y="10508"/>
                  <a:pt x="8706" y="10567"/>
                </a:cubicBezTo>
                <a:cubicBezTo>
                  <a:pt x="8719" y="10675"/>
                  <a:pt x="8742" y="10776"/>
                  <a:pt x="8756" y="10889"/>
                </a:cubicBezTo>
                <a:cubicBezTo>
                  <a:pt x="8767" y="10978"/>
                  <a:pt x="8771" y="11053"/>
                  <a:pt x="8781" y="11137"/>
                </a:cubicBezTo>
                <a:cubicBezTo>
                  <a:pt x="8792" y="11226"/>
                  <a:pt x="8818" y="11329"/>
                  <a:pt x="8830" y="11410"/>
                </a:cubicBezTo>
                <a:cubicBezTo>
                  <a:pt x="8844" y="11508"/>
                  <a:pt x="8839" y="11586"/>
                  <a:pt x="8855" y="11683"/>
                </a:cubicBezTo>
                <a:cubicBezTo>
                  <a:pt x="8866" y="11748"/>
                  <a:pt x="8892" y="11833"/>
                  <a:pt x="8905" y="11906"/>
                </a:cubicBezTo>
                <a:cubicBezTo>
                  <a:pt x="8920" y="11988"/>
                  <a:pt x="8940" y="12079"/>
                  <a:pt x="8954" y="12154"/>
                </a:cubicBezTo>
                <a:cubicBezTo>
                  <a:pt x="8968" y="12229"/>
                  <a:pt x="8992" y="12304"/>
                  <a:pt x="9004" y="12378"/>
                </a:cubicBezTo>
                <a:cubicBezTo>
                  <a:pt x="9033" y="12552"/>
                  <a:pt x="9055" y="12721"/>
                  <a:pt x="9079" y="12898"/>
                </a:cubicBezTo>
                <a:cubicBezTo>
                  <a:pt x="9093" y="13002"/>
                  <a:pt x="9091" y="13096"/>
                  <a:pt x="9103" y="13196"/>
                </a:cubicBezTo>
                <a:cubicBezTo>
                  <a:pt x="9115" y="13290"/>
                  <a:pt x="9110" y="13394"/>
                  <a:pt x="9128" y="13494"/>
                </a:cubicBezTo>
                <a:cubicBezTo>
                  <a:pt x="9141" y="13564"/>
                  <a:pt x="9165" y="13645"/>
                  <a:pt x="9178" y="13717"/>
                </a:cubicBezTo>
                <a:cubicBezTo>
                  <a:pt x="9190" y="13784"/>
                  <a:pt x="9237" y="13866"/>
                  <a:pt x="9252" y="13940"/>
                </a:cubicBezTo>
                <a:cubicBezTo>
                  <a:pt x="9268" y="14024"/>
                  <a:pt x="9282" y="14105"/>
                  <a:pt x="9302" y="14188"/>
                </a:cubicBezTo>
                <a:cubicBezTo>
                  <a:pt x="9328" y="14294"/>
                  <a:pt x="9351" y="14388"/>
                  <a:pt x="9376" y="14486"/>
                </a:cubicBezTo>
                <a:cubicBezTo>
                  <a:pt x="9395" y="14561"/>
                  <a:pt x="9408" y="14634"/>
                  <a:pt x="9426" y="14709"/>
                </a:cubicBezTo>
                <a:cubicBezTo>
                  <a:pt x="9446" y="14792"/>
                  <a:pt x="9454" y="14878"/>
                  <a:pt x="9475" y="14957"/>
                </a:cubicBezTo>
                <a:cubicBezTo>
                  <a:pt x="9491" y="15016"/>
                  <a:pt x="9511" y="15072"/>
                  <a:pt x="9525" y="15131"/>
                </a:cubicBezTo>
                <a:cubicBezTo>
                  <a:pt x="9543" y="15207"/>
                  <a:pt x="9579" y="15277"/>
                  <a:pt x="9599" y="15354"/>
                </a:cubicBezTo>
                <a:cubicBezTo>
                  <a:pt x="9618" y="15429"/>
                  <a:pt x="9625" y="15502"/>
                  <a:pt x="9649" y="15577"/>
                </a:cubicBezTo>
                <a:cubicBezTo>
                  <a:pt x="9668" y="15637"/>
                  <a:pt x="9677" y="15721"/>
                  <a:pt x="9699" y="15776"/>
                </a:cubicBezTo>
                <a:cubicBezTo>
                  <a:pt x="9734" y="15863"/>
                  <a:pt x="9782" y="15972"/>
                  <a:pt x="9823" y="16049"/>
                </a:cubicBezTo>
                <a:cubicBezTo>
                  <a:pt x="9868" y="16135"/>
                  <a:pt x="9942" y="16191"/>
                  <a:pt x="9996" y="16272"/>
                </a:cubicBezTo>
                <a:cubicBezTo>
                  <a:pt x="10065" y="16375"/>
                  <a:pt x="10149" y="16481"/>
                  <a:pt x="10220" y="16570"/>
                </a:cubicBezTo>
                <a:cubicBezTo>
                  <a:pt x="10291" y="16660"/>
                  <a:pt x="10385" y="16788"/>
                  <a:pt x="10468" y="16842"/>
                </a:cubicBezTo>
                <a:cubicBezTo>
                  <a:pt x="10505" y="16866"/>
                  <a:pt x="10531" y="16923"/>
                  <a:pt x="10592" y="16942"/>
                </a:cubicBezTo>
                <a:cubicBezTo>
                  <a:pt x="10629" y="16953"/>
                  <a:pt x="10648" y="16988"/>
                  <a:pt x="10691" y="16991"/>
                </a:cubicBezTo>
                <a:cubicBezTo>
                  <a:pt x="10802" y="16998"/>
                  <a:pt x="10813" y="16935"/>
                  <a:pt x="10889" y="16917"/>
                </a:cubicBezTo>
                <a:cubicBezTo>
                  <a:pt x="10928" y="16908"/>
                  <a:pt x="10952" y="16858"/>
                  <a:pt x="10988" y="16842"/>
                </a:cubicBezTo>
                <a:cubicBezTo>
                  <a:pt x="11042" y="16818"/>
                  <a:pt x="11118" y="16784"/>
                  <a:pt x="11162" y="16743"/>
                </a:cubicBezTo>
                <a:cubicBezTo>
                  <a:pt x="11191" y="16715"/>
                  <a:pt x="11221" y="16713"/>
                  <a:pt x="11237" y="16694"/>
                </a:cubicBezTo>
                <a:cubicBezTo>
                  <a:pt x="11276" y="16647"/>
                  <a:pt x="11278" y="16619"/>
                  <a:pt x="11311" y="16570"/>
                </a:cubicBezTo>
                <a:cubicBezTo>
                  <a:pt x="11352" y="16510"/>
                  <a:pt x="11349" y="16471"/>
                  <a:pt x="11385" y="16396"/>
                </a:cubicBezTo>
                <a:cubicBezTo>
                  <a:pt x="11410" y="16344"/>
                  <a:pt x="11417" y="16296"/>
                  <a:pt x="11435" y="16247"/>
                </a:cubicBezTo>
                <a:cubicBezTo>
                  <a:pt x="11460" y="16181"/>
                  <a:pt x="11464" y="16113"/>
                  <a:pt x="11485" y="16049"/>
                </a:cubicBezTo>
                <a:cubicBezTo>
                  <a:pt x="11507" y="15982"/>
                  <a:pt x="11516" y="15917"/>
                  <a:pt x="11534" y="15850"/>
                </a:cubicBezTo>
                <a:cubicBezTo>
                  <a:pt x="11555" y="15771"/>
                  <a:pt x="11588" y="15704"/>
                  <a:pt x="11609" y="15627"/>
                </a:cubicBezTo>
                <a:cubicBezTo>
                  <a:pt x="11637" y="15522"/>
                  <a:pt x="11654" y="15432"/>
                  <a:pt x="11683" y="15329"/>
                </a:cubicBezTo>
                <a:cubicBezTo>
                  <a:pt x="11701" y="15265"/>
                  <a:pt x="11715" y="15196"/>
                  <a:pt x="11733" y="15131"/>
                </a:cubicBezTo>
                <a:cubicBezTo>
                  <a:pt x="11836" y="14748"/>
                  <a:pt x="11954" y="14369"/>
                  <a:pt x="12080" y="13990"/>
                </a:cubicBezTo>
                <a:cubicBezTo>
                  <a:pt x="12115" y="13886"/>
                  <a:pt x="12145" y="13791"/>
                  <a:pt x="12179" y="13692"/>
                </a:cubicBezTo>
                <a:cubicBezTo>
                  <a:pt x="12303" y="13338"/>
                  <a:pt x="12449" y="12997"/>
                  <a:pt x="12576" y="12650"/>
                </a:cubicBezTo>
                <a:cubicBezTo>
                  <a:pt x="12621" y="12527"/>
                  <a:pt x="12653" y="12402"/>
                  <a:pt x="12700" y="12278"/>
                </a:cubicBezTo>
                <a:cubicBezTo>
                  <a:pt x="12732" y="12193"/>
                  <a:pt x="12766" y="12112"/>
                  <a:pt x="12799" y="12030"/>
                </a:cubicBezTo>
                <a:cubicBezTo>
                  <a:pt x="12857" y="11885"/>
                  <a:pt x="12940" y="11749"/>
                  <a:pt x="12998" y="11609"/>
                </a:cubicBezTo>
                <a:cubicBezTo>
                  <a:pt x="13124" y="11305"/>
                  <a:pt x="13237" y="11003"/>
                  <a:pt x="13320" y="10691"/>
                </a:cubicBezTo>
                <a:cubicBezTo>
                  <a:pt x="13343" y="10603"/>
                  <a:pt x="13348" y="10508"/>
                  <a:pt x="13370" y="10418"/>
                </a:cubicBezTo>
                <a:cubicBezTo>
                  <a:pt x="13388" y="10344"/>
                  <a:pt x="13402" y="10270"/>
                  <a:pt x="13419" y="10195"/>
                </a:cubicBezTo>
                <a:cubicBezTo>
                  <a:pt x="13447" y="10072"/>
                  <a:pt x="13467" y="9945"/>
                  <a:pt x="13494" y="9823"/>
                </a:cubicBezTo>
                <a:cubicBezTo>
                  <a:pt x="13514" y="9731"/>
                  <a:pt x="13522" y="9640"/>
                  <a:pt x="13543" y="9550"/>
                </a:cubicBezTo>
                <a:cubicBezTo>
                  <a:pt x="13591" y="9339"/>
                  <a:pt x="13664" y="9140"/>
                  <a:pt x="13717" y="8930"/>
                </a:cubicBezTo>
                <a:cubicBezTo>
                  <a:pt x="13765" y="8738"/>
                  <a:pt x="13834" y="8570"/>
                  <a:pt x="13891" y="8384"/>
                </a:cubicBezTo>
                <a:cubicBezTo>
                  <a:pt x="14010" y="7992"/>
                  <a:pt x="14135" y="7637"/>
                  <a:pt x="14362" y="7293"/>
                </a:cubicBezTo>
                <a:cubicBezTo>
                  <a:pt x="14403" y="7231"/>
                  <a:pt x="14438" y="7178"/>
                  <a:pt x="14486" y="7119"/>
                </a:cubicBezTo>
                <a:cubicBezTo>
                  <a:pt x="14579" y="7004"/>
                  <a:pt x="14698" y="6843"/>
                  <a:pt x="14833" y="6796"/>
                </a:cubicBezTo>
                <a:cubicBezTo>
                  <a:pt x="15006" y="6736"/>
                  <a:pt x="15142" y="6801"/>
                  <a:pt x="15280" y="6846"/>
                </a:cubicBezTo>
                <a:cubicBezTo>
                  <a:pt x="15310" y="6856"/>
                  <a:pt x="15350" y="6883"/>
                  <a:pt x="15379" y="6896"/>
                </a:cubicBezTo>
                <a:cubicBezTo>
                  <a:pt x="15591" y="6990"/>
                  <a:pt x="15715" y="7157"/>
                  <a:pt x="15850" y="7342"/>
                </a:cubicBezTo>
                <a:cubicBezTo>
                  <a:pt x="15926" y="7446"/>
                  <a:pt x="15995" y="7575"/>
                  <a:pt x="16049" y="7689"/>
                </a:cubicBezTo>
                <a:cubicBezTo>
                  <a:pt x="16115" y="7827"/>
                  <a:pt x="16143" y="7950"/>
                  <a:pt x="16197" y="8086"/>
                </a:cubicBezTo>
                <a:cubicBezTo>
                  <a:pt x="16225" y="8156"/>
                  <a:pt x="16274" y="8241"/>
                  <a:pt x="16297" y="8310"/>
                </a:cubicBezTo>
                <a:cubicBezTo>
                  <a:pt x="16329" y="8403"/>
                  <a:pt x="16346" y="8492"/>
                  <a:pt x="16371" y="8582"/>
                </a:cubicBezTo>
                <a:cubicBezTo>
                  <a:pt x="16390" y="8650"/>
                  <a:pt x="16406" y="8712"/>
                  <a:pt x="16421" y="8781"/>
                </a:cubicBezTo>
                <a:cubicBezTo>
                  <a:pt x="16462" y="8968"/>
                  <a:pt x="16485" y="9139"/>
                  <a:pt x="16520" y="9327"/>
                </a:cubicBezTo>
                <a:cubicBezTo>
                  <a:pt x="16537" y="9418"/>
                  <a:pt x="16550" y="9511"/>
                  <a:pt x="16570" y="9599"/>
                </a:cubicBezTo>
                <a:cubicBezTo>
                  <a:pt x="16584" y="9662"/>
                  <a:pt x="16579" y="9714"/>
                  <a:pt x="16594" y="9773"/>
                </a:cubicBezTo>
                <a:cubicBezTo>
                  <a:pt x="16609" y="9833"/>
                  <a:pt x="16656" y="9894"/>
                  <a:pt x="16669" y="9947"/>
                </a:cubicBezTo>
                <a:cubicBezTo>
                  <a:pt x="16683" y="10004"/>
                  <a:pt x="16704" y="10069"/>
                  <a:pt x="16718" y="10120"/>
                </a:cubicBezTo>
                <a:cubicBezTo>
                  <a:pt x="16737" y="10192"/>
                  <a:pt x="16751" y="10280"/>
                  <a:pt x="16768" y="10344"/>
                </a:cubicBezTo>
                <a:cubicBezTo>
                  <a:pt x="16802" y="10477"/>
                  <a:pt x="16834" y="10613"/>
                  <a:pt x="16867" y="10740"/>
                </a:cubicBezTo>
                <a:cubicBezTo>
                  <a:pt x="16882" y="10797"/>
                  <a:pt x="16904" y="10863"/>
                  <a:pt x="16917" y="10914"/>
                </a:cubicBezTo>
                <a:cubicBezTo>
                  <a:pt x="16929" y="10960"/>
                  <a:pt x="16929" y="10992"/>
                  <a:pt x="16942" y="11038"/>
                </a:cubicBezTo>
                <a:cubicBezTo>
                  <a:pt x="16958" y="11094"/>
                  <a:pt x="16974" y="11148"/>
                  <a:pt x="16991" y="11212"/>
                </a:cubicBezTo>
                <a:cubicBezTo>
                  <a:pt x="17005" y="11265"/>
                  <a:pt x="17028" y="11305"/>
                  <a:pt x="17041" y="11361"/>
                </a:cubicBezTo>
                <a:cubicBezTo>
                  <a:pt x="17099" y="11607"/>
                  <a:pt x="17125" y="11855"/>
                  <a:pt x="17190" y="12105"/>
                </a:cubicBezTo>
                <a:cubicBezTo>
                  <a:pt x="17200" y="12144"/>
                  <a:pt x="17226" y="12186"/>
                  <a:pt x="17239" y="12229"/>
                </a:cubicBezTo>
                <a:cubicBezTo>
                  <a:pt x="17265" y="12319"/>
                  <a:pt x="17286" y="12414"/>
                  <a:pt x="17314" y="12502"/>
                </a:cubicBezTo>
                <a:cubicBezTo>
                  <a:pt x="17327" y="12542"/>
                  <a:pt x="17349" y="12584"/>
                  <a:pt x="17363" y="12626"/>
                </a:cubicBezTo>
                <a:cubicBezTo>
                  <a:pt x="17385" y="12692"/>
                  <a:pt x="17398" y="12746"/>
                  <a:pt x="17413" y="12799"/>
                </a:cubicBezTo>
                <a:cubicBezTo>
                  <a:pt x="17423" y="12834"/>
                  <a:pt x="17454" y="12865"/>
                  <a:pt x="17462" y="12898"/>
                </a:cubicBezTo>
                <a:cubicBezTo>
                  <a:pt x="17479" y="12964"/>
                  <a:pt x="17497" y="13027"/>
                  <a:pt x="17512" y="13097"/>
                </a:cubicBezTo>
                <a:cubicBezTo>
                  <a:pt x="17536" y="13209"/>
                  <a:pt x="17544" y="13332"/>
                  <a:pt x="17562" y="13444"/>
                </a:cubicBezTo>
                <a:cubicBezTo>
                  <a:pt x="17591" y="13625"/>
                  <a:pt x="17612" y="13810"/>
                  <a:pt x="17636" y="13990"/>
                </a:cubicBezTo>
                <a:cubicBezTo>
                  <a:pt x="17651" y="14107"/>
                  <a:pt x="17668" y="14221"/>
                  <a:pt x="17686" y="14337"/>
                </a:cubicBezTo>
                <a:cubicBezTo>
                  <a:pt x="17701" y="14429"/>
                  <a:pt x="17719" y="14519"/>
                  <a:pt x="17735" y="14610"/>
                </a:cubicBezTo>
                <a:cubicBezTo>
                  <a:pt x="17750" y="14695"/>
                  <a:pt x="17765" y="14776"/>
                  <a:pt x="17785" y="14858"/>
                </a:cubicBezTo>
                <a:cubicBezTo>
                  <a:pt x="17817" y="14989"/>
                  <a:pt x="17874" y="15105"/>
                  <a:pt x="17909" y="15230"/>
                </a:cubicBezTo>
                <a:cubicBezTo>
                  <a:pt x="17945" y="15361"/>
                  <a:pt x="17971" y="15496"/>
                  <a:pt x="18008" y="15627"/>
                </a:cubicBezTo>
                <a:cubicBezTo>
                  <a:pt x="18029" y="15700"/>
                  <a:pt x="18034" y="15778"/>
                  <a:pt x="18058" y="15850"/>
                </a:cubicBezTo>
                <a:cubicBezTo>
                  <a:pt x="18086" y="15936"/>
                  <a:pt x="18123" y="16012"/>
                  <a:pt x="18157" y="16098"/>
                </a:cubicBezTo>
                <a:cubicBezTo>
                  <a:pt x="18239" y="16304"/>
                  <a:pt x="18316" y="16528"/>
                  <a:pt x="18504" y="16669"/>
                </a:cubicBezTo>
                <a:cubicBezTo>
                  <a:pt x="18533" y="16691"/>
                  <a:pt x="18546" y="16702"/>
                  <a:pt x="18579" y="16718"/>
                </a:cubicBezTo>
                <a:cubicBezTo>
                  <a:pt x="18623" y="16740"/>
                  <a:pt x="18679" y="16782"/>
                  <a:pt x="18728" y="16793"/>
                </a:cubicBezTo>
                <a:cubicBezTo>
                  <a:pt x="18895" y="16829"/>
                  <a:pt x="19012" y="16760"/>
                  <a:pt x="19124" y="16694"/>
                </a:cubicBezTo>
                <a:cubicBezTo>
                  <a:pt x="19233" y="16630"/>
                  <a:pt x="19263" y="16527"/>
                  <a:pt x="19348" y="16446"/>
                </a:cubicBezTo>
                <a:cubicBezTo>
                  <a:pt x="19429" y="16368"/>
                  <a:pt x="19492" y="16261"/>
                  <a:pt x="19571" y="16173"/>
                </a:cubicBezTo>
                <a:cubicBezTo>
                  <a:pt x="19671" y="16060"/>
                  <a:pt x="19820" y="15948"/>
                  <a:pt x="19893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43000" y="2295360"/>
            <a:ext cx="465120" cy="231840"/>
          </a:xfrm>
          <a:custGeom>
            <a:avLst/>
            <a:gdLst/>
            <a:ahLst/>
            <a:rect l="l" t="t" r="r" b="b"/>
            <a:pathLst>
              <a:path w="1291" h="646">
                <a:moveTo>
                  <a:pt x="3820" y="6871"/>
                </a:moveTo>
                <a:cubicBezTo>
                  <a:pt x="3890" y="6871"/>
                  <a:pt x="3948" y="6849"/>
                  <a:pt x="4018" y="6846"/>
                </a:cubicBezTo>
                <a:cubicBezTo>
                  <a:pt x="4113" y="6842"/>
                  <a:pt x="4199" y="6826"/>
                  <a:pt x="4291" y="6821"/>
                </a:cubicBezTo>
                <a:cubicBezTo>
                  <a:pt x="4354" y="6818"/>
                  <a:pt x="4483" y="6861"/>
                  <a:pt x="4440" y="6796"/>
                </a:cubicBezTo>
              </a:path>
              <a:path w="1291" h="646">
                <a:moveTo>
                  <a:pt x="3200" y="6499"/>
                </a:moveTo>
                <a:cubicBezTo>
                  <a:pt x="3165" y="6546"/>
                  <a:pt x="3175" y="6586"/>
                  <a:pt x="3175" y="6648"/>
                </a:cubicBezTo>
                <a:cubicBezTo>
                  <a:pt x="3175" y="6712"/>
                  <a:pt x="3183" y="7034"/>
                  <a:pt x="3200" y="6995"/>
                </a:cubicBezTo>
                <a:cubicBezTo>
                  <a:pt x="3200" y="6987"/>
                  <a:pt x="3200" y="6978"/>
                  <a:pt x="3200" y="6970"/>
                </a:cubicBezTo>
              </a:path>
              <a:path w="1291" h="646">
                <a:moveTo>
                  <a:pt x="3473" y="6524"/>
                </a:moveTo>
                <a:cubicBezTo>
                  <a:pt x="3452" y="6660"/>
                  <a:pt x="3440" y="6675"/>
                  <a:pt x="3473" y="6772"/>
                </a:cubicBezTo>
                <a:cubicBezTo>
                  <a:pt x="3480" y="6792"/>
                  <a:pt x="3478" y="6856"/>
                  <a:pt x="3522" y="6846"/>
                </a:cubicBezTo>
                <a:cubicBezTo>
                  <a:pt x="3575" y="6834"/>
                  <a:pt x="3613" y="6787"/>
                  <a:pt x="3646" y="6747"/>
                </a:cubicBezTo>
                <a:cubicBezTo>
                  <a:pt x="3692" y="6692"/>
                  <a:pt x="3716" y="6644"/>
                  <a:pt x="3721" y="6573"/>
                </a:cubicBezTo>
                <a:cubicBezTo>
                  <a:pt x="3725" y="6518"/>
                  <a:pt x="3732" y="6464"/>
                  <a:pt x="3696" y="6424"/>
                </a:cubicBezTo>
                <a:cubicBezTo>
                  <a:pt x="3672" y="6398"/>
                  <a:pt x="3609" y="6363"/>
                  <a:pt x="3572" y="6375"/>
                </a:cubicBezTo>
                <a:cubicBezTo>
                  <a:pt x="3534" y="6413"/>
                  <a:pt x="3511" y="6431"/>
                  <a:pt x="3473" y="64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108080" y="2687760"/>
            <a:ext cx="436680" cy="223560"/>
          </a:xfrm>
          <a:custGeom>
            <a:avLst/>
            <a:gdLst/>
            <a:ahLst/>
            <a:rect l="l" t="t" r="r" b="b"/>
            <a:pathLst>
              <a:path w="1216" h="621">
                <a:moveTo>
                  <a:pt x="3820" y="7813"/>
                </a:moveTo>
                <a:cubicBezTo>
                  <a:pt x="3913" y="7813"/>
                  <a:pt x="3981" y="7794"/>
                  <a:pt x="4068" y="7789"/>
                </a:cubicBezTo>
                <a:cubicBezTo>
                  <a:pt x="4133" y="7786"/>
                  <a:pt x="4189" y="7775"/>
                  <a:pt x="4242" y="7764"/>
                </a:cubicBezTo>
                <a:cubicBezTo>
                  <a:pt x="4334" y="7745"/>
                  <a:pt x="4275" y="7764"/>
                  <a:pt x="4242" y="7764"/>
                </a:cubicBezTo>
              </a:path>
              <a:path w="1216" h="621">
                <a:moveTo>
                  <a:pt x="3398" y="7565"/>
                </a:moveTo>
                <a:cubicBezTo>
                  <a:pt x="3379" y="7509"/>
                  <a:pt x="3324" y="7554"/>
                  <a:pt x="3274" y="7565"/>
                </a:cubicBezTo>
                <a:cubicBezTo>
                  <a:pt x="3218" y="7577"/>
                  <a:pt x="3169" y="7600"/>
                  <a:pt x="3125" y="7640"/>
                </a:cubicBezTo>
                <a:cubicBezTo>
                  <a:pt x="3090" y="7672"/>
                  <a:pt x="3088" y="7654"/>
                  <a:pt x="3076" y="7689"/>
                </a:cubicBezTo>
                <a:cubicBezTo>
                  <a:pt x="3090" y="7732"/>
                  <a:pt x="3155" y="7729"/>
                  <a:pt x="3200" y="7764"/>
                </a:cubicBezTo>
                <a:cubicBezTo>
                  <a:pt x="3265" y="7815"/>
                  <a:pt x="3333" y="7862"/>
                  <a:pt x="3398" y="7913"/>
                </a:cubicBezTo>
                <a:cubicBezTo>
                  <a:pt x="3426" y="7935"/>
                  <a:pt x="3470" y="7998"/>
                  <a:pt x="3448" y="8037"/>
                </a:cubicBezTo>
                <a:cubicBezTo>
                  <a:pt x="3431" y="8068"/>
                  <a:pt x="3360" y="8105"/>
                  <a:pt x="3324" y="8086"/>
                </a:cubicBezTo>
                <a:cubicBezTo>
                  <a:pt x="3281" y="8063"/>
                  <a:pt x="3267" y="8055"/>
                  <a:pt x="3249" y="8012"/>
                </a:cubicBezTo>
                <a:cubicBezTo>
                  <a:pt x="3224" y="7951"/>
                  <a:pt x="3244" y="7905"/>
                  <a:pt x="3274" y="7838"/>
                </a:cubicBezTo>
                <a:cubicBezTo>
                  <a:pt x="3312" y="7753"/>
                  <a:pt x="3352" y="7691"/>
                  <a:pt x="3398" y="7615"/>
                </a:cubicBezTo>
                <a:cubicBezTo>
                  <a:pt x="3442" y="7528"/>
                  <a:pt x="3449" y="7505"/>
                  <a:pt x="3497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25360" y="3089160"/>
            <a:ext cx="463680" cy="536760"/>
          </a:xfrm>
          <a:custGeom>
            <a:avLst/>
            <a:gdLst/>
            <a:ahLst/>
            <a:rect l="l" t="t" r="r" b="b"/>
            <a:pathLst>
              <a:path w="1291" h="1490">
                <a:moveTo>
                  <a:pt x="3845" y="9823"/>
                </a:moveTo>
                <a:cubicBezTo>
                  <a:pt x="3895" y="9810"/>
                  <a:pt x="3908" y="9798"/>
                  <a:pt x="3969" y="9798"/>
                </a:cubicBezTo>
                <a:cubicBezTo>
                  <a:pt x="4054" y="9798"/>
                  <a:pt x="4175" y="9823"/>
                  <a:pt x="4242" y="9773"/>
                </a:cubicBezTo>
              </a:path>
              <a:path w="1291" h="1490">
                <a:moveTo>
                  <a:pt x="3324" y="9575"/>
                </a:moveTo>
                <a:cubicBezTo>
                  <a:pt x="3306" y="9633"/>
                  <a:pt x="3288" y="9691"/>
                  <a:pt x="3274" y="9748"/>
                </a:cubicBezTo>
                <a:cubicBezTo>
                  <a:pt x="3264" y="9787"/>
                  <a:pt x="3249" y="9803"/>
                  <a:pt x="3249" y="9847"/>
                </a:cubicBezTo>
                <a:cubicBezTo>
                  <a:pt x="3249" y="9918"/>
                  <a:pt x="3322" y="9897"/>
                  <a:pt x="3373" y="9897"/>
                </a:cubicBezTo>
                <a:cubicBezTo>
                  <a:pt x="3420" y="9897"/>
                  <a:pt x="3453" y="9881"/>
                  <a:pt x="3497" y="9872"/>
                </a:cubicBezTo>
              </a:path>
              <a:path w="1291" h="1490">
                <a:moveTo>
                  <a:pt x="3621" y="9475"/>
                </a:moveTo>
                <a:cubicBezTo>
                  <a:pt x="3621" y="9560"/>
                  <a:pt x="3610" y="9621"/>
                  <a:pt x="3597" y="9699"/>
                </a:cubicBezTo>
                <a:cubicBezTo>
                  <a:pt x="3585" y="9774"/>
                  <a:pt x="3585" y="9857"/>
                  <a:pt x="3572" y="9922"/>
                </a:cubicBezTo>
                <a:cubicBezTo>
                  <a:pt x="3563" y="9966"/>
                  <a:pt x="3572" y="10025"/>
                  <a:pt x="3572" y="10071"/>
                </a:cubicBezTo>
              </a:path>
              <a:path w="1291" h="1490">
                <a:moveTo>
                  <a:pt x="3770" y="8781"/>
                </a:moveTo>
                <a:cubicBezTo>
                  <a:pt x="3881" y="8781"/>
                  <a:pt x="3984" y="8766"/>
                  <a:pt x="4093" y="8756"/>
                </a:cubicBezTo>
                <a:cubicBezTo>
                  <a:pt x="4129" y="8753"/>
                  <a:pt x="4432" y="8748"/>
                  <a:pt x="4415" y="8731"/>
                </a:cubicBezTo>
                <a:cubicBezTo>
                  <a:pt x="4390" y="8731"/>
                  <a:pt x="4382" y="8731"/>
                  <a:pt x="4366" y="8731"/>
                </a:cubicBezTo>
              </a:path>
              <a:path w="1291" h="1490">
                <a:moveTo>
                  <a:pt x="3225" y="8582"/>
                </a:moveTo>
                <a:cubicBezTo>
                  <a:pt x="3206" y="8626"/>
                  <a:pt x="3183" y="8692"/>
                  <a:pt x="3175" y="8731"/>
                </a:cubicBezTo>
                <a:cubicBezTo>
                  <a:pt x="3164" y="8785"/>
                  <a:pt x="3166" y="8853"/>
                  <a:pt x="3150" y="8905"/>
                </a:cubicBezTo>
                <a:cubicBezTo>
                  <a:pt x="3137" y="8950"/>
                  <a:pt x="3116" y="9049"/>
                  <a:pt x="3175" y="9079"/>
                </a:cubicBezTo>
                <a:cubicBezTo>
                  <a:pt x="3214" y="9098"/>
                  <a:pt x="3257" y="9104"/>
                  <a:pt x="3299" y="9079"/>
                </a:cubicBezTo>
                <a:cubicBezTo>
                  <a:pt x="3344" y="9052"/>
                  <a:pt x="3385" y="9017"/>
                  <a:pt x="3423" y="8979"/>
                </a:cubicBezTo>
                <a:cubicBezTo>
                  <a:pt x="3468" y="8934"/>
                  <a:pt x="3492" y="8890"/>
                  <a:pt x="3497" y="8830"/>
                </a:cubicBezTo>
                <a:cubicBezTo>
                  <a:pt x="3499" y="8806"/>
                  <a:pt x="3497" y="8780"/>
                  <a:pt x="3497" y="8756"/>
                </a:cubicBezTo>
                <a:cubicBezTo>
                  <a:pt x="3442" y="8756"/>
                  <a:pt x="3397" y="8748"/>
                  <a:pt x="3349" y="8781"/>
                </a:cubicBezTo>
                <a:cubicBezTo>
                  <a:pt x="3309" y="8808"/>
                  <a:pt x="3264" y="8860"/>
                  <a:pt x="3249" y="8905"/>
                </a:cubicBezTo>
                <a:cubicBezTo>
                  <a:pt x="3232" y="8956"/>
                  <a:pt x="3260" y="8954"/>
                  <a:pt x="3299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33640" y="3830760"/>
            <a:ext cx="447480" cy="161640"/>
          </a:xfrm>
          <a:custGeom>
            <a:avLst/>
            <a:gdLst/>
            <a:ahLst/>
            <a:rect l="l" t="t" r="r" b="b"/>
            <a:pathLst>
              <a:path w="1241" h="448">
                <a:moveTo>
                  <a:pt x="3671" y="10815"/>
                </a:moveTo>
                <a:cubicBezTo>
                  <a:pt x="3768" y="10815"/>
                  <a:pt x="3853" y="10828"/>
                  <a:pt x="3944" y="10840"/>
                </a:cubicBezTo>
                <a:cubicBezTo>
                  <a:pt x="4087" y="10859"/>
                  <a:pt x="4245" y="10840"/>
                  <a:pt x="4390" y="10840"/>
                </a:cubicBezTo>
              </a:path>
              <a:path w="1241" h="448">
                <a:moveTo>
                  <a:pt x="3150" y="10716"/>
                </a:moveTo>
                <a:cubicBezTo>
                  <a:pt x="3192" y="10660"/>
                  <a:pt x="3176" y="10694"/>
                  <a:pt x="3225" y="10666"/>
                </a:cubicBezTo>
                <a:cubicBezTo>
                  <a:pt x="3275" y="10638"/>
                  <a:pt x="3311" y="10641"/>
                  <a:pt x="3373" y="10641"/>
                </a:cubicBezTo>
                <a:cubicBezTo>
                  <a:pt x="3440" y="10641"/>
                  <a:pt x="3470" y="10644"/>
                  <a:pt x="3522" y="10691"/>
                </a:cubicBezTo>
                <a:cubicBezTo>
                  <a:pt x="3571" y="10736"/>
                  <a:pt x="3534" y="10752"/>
                  <a:pt x="3497" y="10790"/>
                </a:cubicBezTo>
                <a:cubicBezTo>
                  <a:pt x="3432" y="10857"/>
                  <a:pt x="3365" y="10922"/>
                  <a:pt x="3299" y="10988"/>
                </a:cubicBezTo>
                <a:cubicBezTo>
                  <a:pt x="3276" y="11010"/>
                  <a:pt x="3232" y="11024"/>
                  <a:pt x="3225" y="11038"/>
                </a:cubicBezTo>
                <a:cubicBezTo>
                  <a:pt x="3225" y="11046"/>
                  <a:pt x="3225" y="11055"/>
                  <a:pt x="3225" y="11063"/>
                </a:cubicBezTo>
                <a:cubicBezTo>
                  <a:pt x="3264" y="11073"/>
                  <a:pt x="3279" y="11088"/>
                  <a:pt x="3324" y="11088"/>
                </a:cubicBezTo>
                <a:cubicBezTo>
                  <a:pt x="3407" y="11088"/>
                  <a:pt x="3504" y="11104"/>
                  <a:pt x="3572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30160" y="4518000"/>
            <a:ext cx="733680" cy="849240"/>
          </a:xfrm>
          <a:custGeom>
            <a:avLst/>
            <a:gdLst/>
            <a:ahLst/>
            <a:rect l="l" t="t" r="r" b="b"/>
            <a:pathLst>
              <a:path w="2035" h="2358">
                <a:moveTo>
                  <a:pt x="3721" y="12824"/>
                </a:moveTo>
                <a:cubicBezTo>
                  <a:pt x="3811" y="12843"/>
                  <a:pt x="3878" y="12849"/>
                  <a:pt x="3969" y="12849"/>
                </a:cubicBezTo>
                <a:cubicBezTo>
                  <a:pt x="4070" y="12849"/>
                  <a:pt x="4149" y="12850"/>
                  <a:pt x="4242" y="12874"/>
                </a:cubicBezTo>
                <a:cubicBezTo>
                  <a:pt x="4278" y="12883"/>
                  <a:pt x="4324" y="12856"/>
                  <a:pt x="4266" y="12849"/>
                </a:cubicBezTo>
                <a:cubicBezTo>
                  <a:pt x="4258" y="12849"/>
                  <a:pt x="4250" y="12849"/>
                  <a:pt x="4242" y="12849"/>
                </a:cubicBezTo>
              </a:path>
              <a:path w="2035" h="2358">
                <a:moveTo>
                  <a:pt x="2927" y="12551"/>
                </a:moveTo>
                <a:cubicBezTo>
                  <a:pt x="3002" y="12551"/>
                  <a:pt x="3054" y="12547"/>
                  <a:pt x="3125" y="12576"/>
                </a:cubicBezTo>
                <a:cubicBezTo>
                  <a:pt x="3155" y="12588"/>
                  <a:pt x="3239" y="12638"/>
                  <a:pt x="3249" y="12675"/>
                </a:cubicBezTo>
                <a:cubicBezTo>
                  <a:pt x="3264" y="12728"/>
                  <a:pt x="3208" y="12788"/>
                  <a:pt x="3175" y="12824"/>
                </a:cubicBezTo>
                <a:cubicBezTo>
                  <a:pt x="3141" y="12862"/>
                  <a:pt x="3074" y="12882"/>
                  <a:pt x="3051" y="12923"/>
                </a:cubicBezTo>
                <a:cubicBezTo>
                  <a:pt x="3051" y="12951"/>
                  <a:pt x="3049" y="12962"/>
                  <a:pt x="3026" y="12973"/>
                </a:cubicBezTo>
                <a:cubicBezTo>
                  <a:pt x="3061" y="13000"/>
                  <a:pt x="3102" y="13019"/>
                  <a:pt x="3150" y="13022"/>
                </a:cubicBezTo>
                <a:cubicBezTo>
                  <a:pt x="3231" y="13027"/>
                  <a:pt x="3322" y="13043"/>
                  <a:pt x="3398" y="13072"/>
                </a:cubicBezTo>
                <a:cubicBezTo>
                  <a:pt x="3455" y="13100"/>
                  <a:pt x="3478" y="13111"/>
                  <a:pt x="3522" y="13122"/>
                </a:cubicBezTo>
              </a:path>
              <a:path w="2035" h="2358">
                <a:moveTo>
                  <a:pt x="3572" y="13965"/>
                </a:moveTo>
                <a:cubicBezTo>
                  <a:pt x="3655" y="13937"/>
                  <a:pt x="3730" y="13940"/>
                  <a:pt x="3820" y="13940"/>
                </a:cubicBezTo>
                <a:cubicBezTo>
                  <a:pt x="3909" y="13940"/>
                  <a:pt x="3986" y="13955"/>
                  <a:pt x="4068" y="13965"/>
                </a:cubicBezTo>
                <a:cubicBezTo>
                  <a:pt x="4141" y="13974"/>
                  <a:pt x="4177" y="13953"/>
                  <a:pt x="4242" y="13940"/>
                </a:cubicBezTo>
              </a:path>
              <a:path w="2035" h="2358">
                <a:moveTo>
                  <a:pt x="3076" y="13593"/>
                </a:moveTo>
                <a:cubicBezTo>
                  <a:pt x="3052" y="13634"/>
                  <a:pt x="3023" y="13683"/>
                  <a:pt x="3001" y="13717"/>
                </a:cubicBezTo>
                <a:cubicBezTo>
                  <a:pt x="2964" y="13775"/>
                  <a:pt x="2983" y="13760"/>
                  <a:pt x="3001" y="13816"/>
                </a:cubicBezTo>
                <a:cubicBezTo>
                  <a:pt x="3001" y="13824"/>
                  <a:pt x="3001" y="13833"/>
                  <a:pt x="3001" y="13841"/>
                </a:cubicBezTo>
                <a:cubicBezTo>
                  <a:pt x="3056" y="13852"/>
                  <a:pt x="3091" y="13866"/>
                  <a:pt x="3150" y="13866"/>
                </a:cubicBezTo>
                <a:cubicBezTo>
                  <a:pt x="3183" y="13866"/>
                  <a:pt x="3216" y="13866"/>
                  <a:pt x="3249" y="13866"/>
                </a:cubicBezTo>
              </a:path>
              <a:path w="2035" h="2358">
                <a:moveTo>
                  <a:pt x="3299" y="13543"/>
                </a:moveTo>
                <a:cubicBezTo>
                  <a:pt x="3299" y="13683"/>
                  <a:pt x="3273" y="13769"/>
                  <a:pt x="3249" y="13915"/>
                </a:cubicBezTo>
                <a:cubicBezTo>
                  <a:pt x="3235" y="14001"/>
                  <a:pt x="3204" y="14076"/>
                  <a:pt x="3200" y="14163"/>
                </a:cubicBezTo>
                <a:cubicBezTo>
                  <a:pt x="3197" y="14226"/>
                  <a:pt x="3212" y="14264"/>
                  <a:pt x="3175" y="14312"/>
                </a:cubicBezTo>
              </a:path>
              <a:path w="2035" h="2358">
                <a:moveTo>
                  <a:pt x="3696" y="14808"/>
                </a:moveTo>
                <a:cubicBezTo>
                  <a:pt x="3892" y="14808"/>
                  <a:pt x="4135" y="14836"/>
                  <a:pt x="4316" y="14784"/>
                </a:cubicBezTo>
                <a:cubicBezTo>
                  <a:pt x="4344" y="14784"/>
                  <a:pt x="4350" y="14782"/>
                  <a:pt x="4316" y="14759"/>
                </a:cubicBezTo>
              </a:path>
              <a:path w="2035" h="2358">
                <a:moveTo>
                  <a:pt x="2803" y="14486"/>
                </a:moveTo>
                <a:cubicBezTo>
                  <a:pt x="2782" y="14561"/>
                  <a:pt x="2798" y="14638"/>
                  <a:pt x="2778" y="14709"/>
                </a:cubicBezTo>
                <a:cubicBezTo>
                  <a:pt x="2755" y="14791"/>
                  <a:pt x="2780" y="14790"/>
                  <a:pt x="2803" y="14858"/>
                </a:cubicBezTo>
                <a:cubicBezTo>
                  <a:pt x="2810" y="14879"/>
                  <a:pt x="2887" y="14922"/>
                  <a:pt x="2927" y="14908"/>
                </a:cubicBezTo>
                <a:cubicBezTo>
                  <a:pt x="2965" y="14895"/>
                  <a:pt x="3079" y="14859"/>
                  <a:pt x="3101" y="14833"/>
                </a:cubicBezTo>
                <a:cubicBezTo>
                  <a:pt x="3112" y="14821"/>
                  <a:pt x="3138" y="14757"/>
                  <a:pt x="3125" y="14734"/>
                </a:cubicBezTo>
                <a:cubicBezTo>
                  <a:pt x="3089" y="14667"/>
                  <a:pt x="3070" y="14694"/>
                  <a:pt x="3026" y="14709"/>
                </a:cubicBezTo>
                <a:cubicBezTo>
                  <a:pt x="2978" y="14725"/>
                  <a:pt x="2933" y="14736"/>
                  <a:pt x="2902" y="14784"/>
                </a:cubicBezTo>
                <a:cubicBezTo>
                  <a:pt x="2879" y="14820"/>
                  <a:pt x="2862" y="14870"/>
                  <a:pt x="2853" y="14908"/>
                </a:cubicBezTo>
              </a:path>
              <a:path w="2035" h="2358">
                <a:moveTo>
                  <a:pt x="2307" y="14635"/>
                </a:moveTo>
                <a:cubicBezTo>
                  <a:pt x="2399" y="14635"/>
                  <a:pt x="2425" y="14637"/>
                  <a:pt x="2480" y="14610"/>
                </a:cubicBezTo>
              </a:path>
              <a:path w="2035" h="2358">
                <a:moveTo>
                  <a:pt x="2530" y="13667"/>
                </a:moveTo>
                <a:cubicBezTo>
                  <a:pt x="2594" y="13667"/>
                  <a:pt x="2603" y="13659"/>
                  <a:pt x="2654" y="13643"/>
                </a:cubicBezTo>
                <a:cubicBezTo>
                  <a:pt x="2682" y="13634"/>
                  <a:pt x="2700" y="13625"/>
                  <a:pt x="2729" y="13618"/>
                </a:cubicBezTo>
              </a:path>
              <a:path w="2035" h="2358">
                <a:moveTo>
                  <a:pt x="2381" y="12700"/>
                </a:moveTo>
                <a:cubicBezTo>
                  <a:pt x="2450" y="12677"/>
                  <a:pt x="2509" y="12658"/>
                  <a:pt x="2580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74800" y="5527800"/>
            <a:ext cx="679320" cy="598320"/>
          </a:xfrm>
          <a:custGeom>
            <a:avLst/>
            <a:gdLst/>
            <a:ahLst/>
            <a:rect l="l" t="t" r="r" b="b"/>
            <a:pathLst>
              <a:path w="1886" h="1663">
                <a:moveTo>
                  <a:pt x="3547" y="15801"/>
                </a:moveTo>
                <a:cubicBezTo>
                  <a:pt x="3728" y="15801"/>
                  <a:pt x="3977" y="15848"/>
                  <a:pt x="4142" y="15776"/>
                </a:cubicBezTo>
              </a:path>
              <a:path w="1886" h="1663">
                <a:moveTo>
                  <a:pt x="3249" y="15528"/>
                </a:moveTo>
                <a:cubicBezTo>
                  <a:pt x="3163" y="15467"/>
                  <a:pt x="3152" y="15453"/>
                  <a:pt x="3051" y="15453"/>
                </a:cubicBezTo>
                <a:cubicBezTo>
                  <a:pt x="2981" y="15453"/>
                  <a:pt x="2907" y="15436"/>
                  <a:pt x="2853" y="15478"/>
                </a:cubicBezTo>
                <a:cubicBezTo>
                  <a:pt x="2864" y="15561"/>
                  <a:pt x="2904" y="15582"/>
                  <a:pt x="2952" y="15652"/>
                </a:cubicBezTo>
                <a:cubicBezTo>
                  <a:pt x="2998" y="15720"/>
                  <a:pt x="3092" y="15805"/>
                  <a:pt x="3125" y="15875"/>
                </a:cubicBezTo>
                <a:cubicBezTo>
                  <a:pt x="3133" y="15891"/>
                  <a:pt x="3125" y="15952"/>
                  <a:pt x="3125" y="15974"/>
                </a:cubicBezTo>
                <a:cubicBezTo>
                  <a:pt x="3081" y="15974"/>
                  <a:pt x="3076" y="15967"/>
                  <a:pt x="3051" y="15949"/>
                </a:cubicBezTo>
                <a:cubicBezTo>
                  <a:pt x="3017" y="15924"/>
                  <a:pt x="2981" y="15890"/>
                  <a:pt x="2977" y="15850"/>
                </a:cubicBezTo>
                <a:cubicBezTo>
                  <a:pt x="2972" y="15799"/>
                  <a:pt x="2991" y="15786"/>
                  <a:pt x="3026" y="15751"/>
                </a:cubicBezTo>
                <a:cubicBezTo>
                  <a:pt x="3071" y="15706"/>
                  <a:pt x="3102" y="15670"/>
                  <a:pt x="3150" y="15627"/>
                </a:cubicBezTo>
                <a:cubicBezTo>
                  <a:pt x="3183" y="15597"/>
                  <a:pt x="3207" y="15586"/>
                  <a:pt x="3249" y="15577"/>
                </a:cubicBezTo>
              </a:path>
              <a:path w="1886" h="1663">
                <a:moveTo>
                  <a:pt x="3820" y="16768"/>
                </a:moveTo>
                <a:cubicBezTo>
                  <a:pt x="3919" y="16768"/>
                  <a:pt x="4002" y="16781"/>
                  <a:pt x="4093" y="16793"/>
                </a:cubicBezTo>
                <a:cubicBezTo>
                  <a:pt x="4171" y="16803"/>
                  <a:pt x="4229" y="16787"/>
                  <a:pt x="4291" y="16768"/>
                </a:cubicBezTo>
                <a:cubicBezTo>
                  <a:pt x="4299" y="16768"/>
                  <a:pt x="4308" y="16768"/>
                  <a:pt x="4316" y="16768"/>
                </a:cubicBezTo>
              </a:path>
              <a:path w="1886" h="1663">
                <a:moveTo>
                  <a:pt x="2555" y="16619"/>
                </a:moveTo>
                <a:cubicBezTo>
                  <a:pt x="2593" y="16648"/>
                  <a:pt x="2606" y="16644"/>
                  <a:pt x="2654" y="16644"/>
                </a:cubicBezTo>
                <a:cubicBezTo>
                  <a:pt x="2712" y="16644"/>
                  <a:pt x="2770" y="16644"/>
                  <a:pt x="2828" y="16644"/>
                </a:cubicBezTo>
              </a:path>
              <a:path w="1886" h="1663">
                <a:moveTo>
                  <a:pt x="3101" y="16520"/>
                </a:moveTo>
                <a:cubicBezTo>
                  <a:pt x="3071" y="16600"/>
                  <a:pt x="3072" y="16667"/>
                  <a:pt x="3051" y="16743"/>
                </a:cubicBezTo>
                <a:cubicBezTo>
                  <a:pt x="3033" y="16807"/>
                  <a:pt x="3026" y="16848"/>
                  <a:pt x="3026" y="16917"/>
                </a:cubicBezTo>
                <a:cubicBezTo>
                  <a:pt x="3026" y="16957"/>
                  <a:pt x="3005" y="16995"/>
                  <a:pt x="3026" y="16966"/>
                </a:cubicBezTo>
                <a:cubicBezTo>
                  <a:pt x="3034" y="16958"/>
                  <a:pt x="3043" y="16950"/>
                  <a:pt x="3051" y="16942"/>
                </a:cubicBezTo>
              </a:path>
              <a:path w="1886" h="1663">
                <a:moveTo>
                  <a:pt x="3200" y="16594"/>
                </a:moveTo>
                <a:cubicBezTo>
                  <a:pt x="3200" y="16681"/>
                  <a:pt x="3194" y="16738"/>
                  <a:pt x="3175" y="16818"/>
                </a:cubicBezTo>
                <a:cubicBezTo>
                  <a:pt x="3166" y="16856"/>
                  <a:pt x="3204" y="16939"/>
                  <a:pt x="3225" y="16966"/>
                </a:cubicBezTo>
                <a:cubicBezTo>
                  <a:pt x="3257" y="17007"/>
                  <a:pt x="3293" y="17033"/>
                  <a:pt x="3349" y="17016"/>
                </a:cubicBezTo>
                <a:cubicBezTo>
                  <a:pt x="3428" y="16993"/>
                  <a:pt x="3454" y="16932"/>
                  <a:pt x="3473" y="16867"/>
                </a:cubicBezTo>
                <a:cubicBezTo>
                  <a:pt x="3492" y="16803"/>
                  <a:pt x="3515" y="16712"/>
                  <a:pt x="3497" y="16644"/>
                </a:cubicBezTo>
                <a:cubicBezTo>
                  <a:pt x="3475" y="16560"/>
                  <a:pt x="3408" y="16505"/>
                  <a:pt x="3349" y="16446"/>
                </a:cubicBezTo>
                <a:cubicBezTo>
                  <a:pt x="3316" y="16413"/>
                  <a:pt x="3282" y="16379"/>
                  <a:pt x="3249" y="16346"/>
                </a:cubicBezTo>
              </a:path>
              <a:path w="1886" h="1663">
                <a:moveTo>
                  <a:pt x="2431" y="15429"/>
                </a:moveTo>
                <a:cubicBezTo>
                  <a:pt x="2541" y="15392"/>
                  <a:pt x="2563" y="15405"/>
                  <a:pt x="2604" y="15354"/>
                </a:cubicBezTo>
              </a:path>
              <a:path w="1886" h="1663">
                <a:moveTo>
                  <a:pt x="4043" y="16793"/>
                </a:moveTo>
                <a:cubicBezTo>
                  <a:pt x="4080" y="16784"/>
                  <a:pt x="4089" y="16772"/>
                  <a:pt x="4118" y="16743"/>
                </a:cubicBezTo>
                <a:cubicBezTo>
                  <a:pt x="4093" y="16710"/>
                  <a:pt x="4085" y="16683"/>
                  <a:pt x="4043" y="16669"/>
                </a:cubicBezTo>
                <a:cubicBezTo>
                  <a:pt x="4014" y="16659"/>
                  <a:pt x="3959" y="16665"/>
                  <a:pt x="3944" y="16694"/>
                </a:cubicBezTo>
                <a:cubicBezTo>
                  <a:pt x="3923" y="16736"/>
                  <a:pt x="3926" y="16768"/>
                  <a:pt x="3944" y="16818"/>
                </a:cubicBezTo>
                <a:cubicBezTo>
                  <a:pt x="3967" y="16883"/>
                  <a:pt x="4014" y="16901"/>
                  <a:pt x="4068" y="16917"/>
                </a:cubicBezTo>
                <a:cubicBezTo>
                  <a:pt x="4078" y="16920"/>
                  <a:pt x="4133" y="16886"/>
                  <a:pt x="4142" y="16867"/>
                </a:cubicBezTo>
                <a:cubicBezTo>
                  <a:pt x="4158" y="16834"/>
                  <a:pt x="4167" y="16808"/>
                  <a:pt x="4167" y="16768"/>
                </a:cubicBezTo>
                <a:cubicBezTo>
                  <a:pt x="4167" y="16708"/>
                  <a:pt x="4158" y="16721"/>
                  <a:pt x="4118" y="16694"/>
                </a:cubicBezTo>
                <a:cubicBezTo>
                  <a:pt x="4078" y="16667"/>
                  <a:pt x="4068" y="16669"/>
                  <a:pt x="4018" y="16669"/>
                </a:cubicBezTo>
                <a:cubicBezTo>
                  <a:pt x="3975" y="16669"/>
                  <a:pt x="3979" y="16668"/>
                  <a:pt x="3944" y="16694"/>
                </a:cubicBezTo>
                <a:cubicBezTo>
                  <a:pt x="3944" y="16749"/>
                  <a:pt x="3935" y="16751"/>
                  <a:pt x="3944" y="16793"/>
                </a:cubicBezTo>
                <a:cubicBezTo>
                  <a:pt x="3954" y="16836"/>
                  <a:pt x="3942" y="16849"/>
                  <a:pt x="3994" y="16867"/>
                </a:cubicBezTo>
                <a:cubicBezTo>
                  <a:pt x="4020" y="16876"/>
                  <a:pt x="4066" y="16867"/>
                  <a:pt x="4093" y="16867"/>
                </a:cubicBezTo>
                <a:cubicBezTo>
                  <a:pt x="4127" y="16822"/>
                  <a:pt x="4137" y="16778"/>
                  <a:pt x="4142" y="16718"/>
                </a:cubicBezTo>
                <a:cubicBezTo>
                  <a:pt x="4145" y="16676"/>
                  <a:pt x="4104" y="16648"/>
                  <a:pt x="4068" y="16644"/>
                </a:cubicBezTo>
                <a:cubicBezTo>
                  <a:pt x="4032" y="16640"/>
                  <a:pt x="3964" y="16629"/>
                  <a:pt x="3944" y="16669"/>
                </a:cubicBezTo>
                <a:cubicBezTo>
                  <a:pt x="3928" y="16701"/>
                  <a:pt x="3919" y="16728"/>
                  <a:pt x="3919" y="16768"/>
                </a:cubicBezTo>
                <a:cubicBezTo>
                  <a:pt x="3919" y="16834"/>
                  <a:pt x="3950" y="16847"/>
                  <a:pt x="3994" y="16892"/>
                </a:cubicBezTo>
                <a:cubicBezTo>
                  <a:pt x="4020" y="16918"/>
                  <a:pt x="4080" y="16936"/>
                  <a:pt x="4118" y="16917"/>
                </a:cubicBezTo>
                <a:cubicBezTo>
                  <a:pt x="4146" y="16903"/>
                  <a:pt x="4184" y="16843"/>
                  <a:pt x="4192" y="16818"/>
                </a:cubicBezTo>
                <a:cubicBezTo>
                  <a:pt x="4208" y="16771"/>
                  <a:pt x="4171" y="16747"/>
                  <a:pt x="4142" y="16718"/>
                </a:cubicBezTo>
                <a:cubicBezTo>
                  <a:pt x="4117" y="16693"/>
                  <a:pt x="4092" y="16672"/>
                  <a:pt x="4068" y="16669"/>
                </a:cubicBezTo>
                <a:cubicBezTo>
                  <a:pt x="4040" y="16669"/>
                  <a:pt x="4029" y="16671"/>
                  <a:pt x="4018" y="166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84160" y="5527800"/>
            <a:ext cx="401760" cy="330120"/>
          </a:xfrm>
          <a:custGeom>
            <a:avLst/>
            <a:gdLst/>
            <a:ahLst/>
            <a:rect l="l" t="t" r="r" b="b"/>
            <a:pathLst>
              <a:path w="1117" h="919">
                <a:moveTo>
                  <a:pt x="2729" y="15677"/>
                </a:moveTo>
                <a:cubicBezTo>
                  <a:pt x="2684" y="15810"/>
                  <a:pt x="2591" y="15974"/>
                  <a:pt x="2555" y="16098"/>
                </a:cubicBezTo>
                <a:cubicBezTo>
                  <a:pt x="2527" y="16197"/>
                  <a:pt x="2531" y="16197"/>
                  <a:pt x="2456" y="16272"/>
                </a:cubicBezTo>
                <a:cubicBezTo>
                  <a:pt x="2476" y="16230"/>
                  <a:pt x="2463" y="16237"/>
                  <a:pt x="2480" y="16173"/>
                </a:cubicBezTo>
                <a:cubicBezTo>
                  <a:pt x="2495" y="16118"/>
                  <a:pt x="2512" y="16052"/>
                  <a:pt x="2530" y="15999"/>
                </a:cubicBezTo>
                <a:cubicBezTo>
                  <a:pt x="2555" y="15926"/>
                  <a:pt x="2581" y="15846"/>
                  <a:pt x="2604" y="15776"/>
                </a:cubicBezTo>
                <a:cubicBezTo>
                  <a:pt x="2626" y="15709"/>
                  <a:pt x="2649" y="15633"/>
                  <a:pt x="2679" y="15577"/>
                </a:cubicBezTo>
                <a:cubicBezTo>
                  <a:pt x="2707" y="15525"/>
                  <a:pt x="2739" y="15472"/>
                  <a:pt x="2778" y="15429"/>
                </a:cubicBezTo>
                <a:cubicBezTo>
                  <a:pt x="2812" y="15391"/>
                  <a:pt x="2823" y="15365"/>
                  <a:pt x="2877" y="15354"/>
                </a:cubicBezTo>
                <a:cubicBezTo>
                  <a:pt x="2922" y="15345"/>
                  <a:pt x="2938" y="15372"/>
                  <a:pt x="2977" y="15379"/>
                </a:cubicBezTo>
                <a:cubicBezTo>
                  <a:pt x="3028" y="15388"/>
                  <a:pt x="3049" y="15356"/>
                  <a:pt x="3101" y="15354"/>
                </a:cubicBezTo>
                <a:cubicBezTo>
                  <a:pt x="3183" y="15350"/>
                  <a:pt x="3249" y="15369"/>
                  <a:pt x="3324" y="15379"/>
                </a:cubicBezTo>
                <a:cubicBezTo>
                  <a:pt x="3411" y="15390"/>
                  <a:pt x="3482" y="15404"/>
                  <a:pt x="3572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98840" y="4116240"/>
            <a:ext cx="142920" cy="519120"/>
          </a:xfrm>
          <a:custGeom>
            <a:avLst/>
            <a:gdLst/>
            <a:ahLst/>
            <a:rect l="l" t="t" r="r" b="b"/>
            <a:pathLst>
              <a:path w="398" h="1440">
                <a:moveTo>
                  <a:pt x="7268" y="11435"/>
                </a:moveTo>
                <a:cubicBezTo>
                  <a:pt x="7294" y="11496"/>
                  <a:pt x="7293" y="11518"/>
                  <a:pt x="7293" y="11584"/>
                </a:cubicBezTo>
                <a:cubicBezTo>
                  <a:pt x="7293" y="11692"/>
                  <a:pt x="7295" y="11781"/>
                  <a:pt x="7317" y="11881"/>
                </a:cubicBezTo>
                <a:cubicBezTo>
                  <a:pt x="7317" y="11889"/>
                  <a:pt x="7317" y="11898"/>
                  <a:pt x="7317" y="11906"/>
                </a:cubicBezTo>
              </a:path>
              <a:path w="398" h="1440">
                <a:moveTo>
                  <a:pt x="7317" y="12303"/>
                </a:moveTo>
                <a:cubicBezTo>
                  <a:pt x="7345" y="12373"/>
                  <a:pt x="7285" y="12443"/>
                  <a:pt x="7268" y="12526"/>
                </a:cubicBezTo>
                <a:cubicBezTo>
                  <a:pt x="7242" y="12655"/>
                  <a:pt x="7191" y="12692"/>
                  <a:pt x="7268" y="12824"/>
                </a:cubicBezTo>
                <a:cubicBezTo>
                  <a:pt x="7291" y="12864"/>
                  <a:pt x="7345" y="12894"/>
                  <a:pt x="7392" y="12874"/>
                </a:cubicBezTo>
                <a:cubicBezTo>
                  <a:pt x="7434" y="12856"/>
                  <a:pt x="7503" y="12803"/>
                  <a:pt x="7541" y="12774"/>
                </a:cubicBezTo>
                <a:cubicBezTo>
                  <a:pt x="7568" y="12754"/>
                  <a:pt x="7609" y="12680"/>
                  <a:pt x="7615" y="12650"/>
                </a:cubicBezTo>
                <a:cubicBezTo>
                  <a:pt x="7626" y="12598"/>
                  <a:pt x="7618" y="12557"/>
                  <a:pt x="7565" y="12551"/>
                </a:cubicBezTo>
                <a:cubicBezTo>
                  <a:pt x="7514" y="12545"/>
                  <a:pt x="7501" y="12566"/>
                  <a:pt x="7466" y="12601"/>
                </a:cubicBezTo>
                <a:cubicBezTo>
                  <a:pt x="7411" y="12656"/>
                  <a:pt x="7395" y="12705"/>
                  <a:pt x="7441" y="12774"/>
                </a:cubicBezTo>
                <a:cubicBezTo>
                  <a:pt x="7464" y="12808"/>
                  <a:pt x="7490" y="12842"/>
                  <a:pt x="7516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776760" y="4098960"/>
            <a:ext cx="322200" cy="561960"/>
          </a:xfrm>
          <a:custGeom>
            <a:avLst/>
            <a:gdLst/>
            <a:ahLst/>
            <a:rect l="l" t="t" r="r" b="b"/>
            <a:pathLst>
              <a:path w="894" h="1564">
                <a:moveTo>
                  <a:pt x="10914" y="11385"/>
                </a:moveTo>
                <a:cubicBezTo>
                  <a:pt x="10906" y="11442"/>
                  <a:pt x="10889" y="11472"/>
                  <a:pt x="10889" y="11534"/>
                </a:cubicBezTo>
                <a:cubicBezTo>
                  <a:pt x="10889" y="11646"/>
                  <a:pt x="10905" y="11747"/>
                  <a:pt x="10914" y="11857"/>
                </a:cubicBezTo>
                <a:cubicBezTo>
                  <a:pt x="10922" y="11954"/>
                  <a:pt x="10914" y="12056"/>
                  <a:pt x="10914" y="12154"/>
                </a:cubicBezTo>
              </a:path>
              <a:path w="894" h="1564">
                <a:moveTo>
                  <a:pt x="10492" y="12328"/>
                </a:moveTo>
                <a:cubicBezTo>
                  <a:pt x="10508" y="12420"/>
                  <a:pt x="10517" y="12486"/>
                  <a:pt x="10517" y="12576"/>
                </a:cubicBezTo>
                <a:cubicBezTo>
                  <a:pt x="10517" y="12661"/>
                  <a:pt x="10518" y="12728"/>
                  <a:pt x="10542" y="12799"/>
                </a:cubicBezTo>
                <a:cubicBezTo>
                  <a:pt x="10542" y="12827"/>
                  <a:pt x="10544" y="12833"/>
                  <a:pt x="10567" y="12799"/>
                </a:cubicBezTo>
              </a:path>
              <a:path w="894" h="1564">
                <a:moveTo>
                  <a:pt x="10815" y="12378"/>
                </a:moveTo>
                <a:cubicBezTo>
                  <a:pt x="10873" y="12378"/>
                  <a:pt x="10960" y="12371"/>
                  <a:pt x="11013" y="12402"/>
                </a:cubicBezTo>
                <a:cubicBezTo>
                  <a:pt x="11050" y="12424"/>
                  <a:pt x="11075" y="12484"/>
                  <a:pt x="11063" y="12526"/>
                </a:cubicBezTo>
                <a:cubicBezTo>
                  <a:pt x="11056" y="12549"/>
                  <a:pt x="10979" y="12630"/>
                  <a:pt x="10964" y="12650"/>
                </a:cubicBezTo>
                <a:cubicBezTo>
                  <a:pt x="10938" y="12684"/>
                  <a:pt x="10909" y="12721"/>
                  <a:pt x="10889" y="12750"/>
                </a:cubicBezTo>
                <a:cubicBezTo>
                  <a:pt x="10860" y="12793"/>
                  <a:pt x="10850" y="12806"/>
                  <a:pt x="10889" y="12849"/>
                </a:cubicBezTo>
                <a:cubicBezTo>
                  <a:pt x="10909" y="12871"/>
                  <a:pt x="10985" y="12892"/>
                  <a:pt x="11013" y="12898"/>
                </a:cubicBezTo>
                <a:cubicBezTo>
                  <a:pt x="11068" y="12909"/>
                  <a:pt x="11140" y="12914"/>
                  <a:pt x="11187" y="12923"/>
                </a:cubicBezTo>
                <a:cubicBezTo>
                  <a:pt x="11237" y="12933"/>
                  <a:pt x="11316" y="12941"/>
                  <a:pt x="11336" y="12948"/>
                </a:cubicBezTo>
                <a:cubicBezTo>
                  <a:pt x="11374" y="12962"/>
                  <a:pt x="11377" y="12947"/>
                  <a:pt x="11385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715080" y="4152960"/>
            <a:ext cx="349200" cy="579240"/>
          </a:xfrm>
          <a:custGeom>
            <a:avLst/>
            <a:gdLst/>
            <a:ahLst/>
            <a:rect l="l" t="t" r="r" b="b"/>
            <a:pathLst>
              <a:path w="969" h="1613">
                <a:moveTo>
                  <a:pt x="18852" y="11534"/>
                </a:moveTo>
                <a:cubicBezTo>
                  <a:pt x="18841" y="11611"/>
                  <a:pt x="18827" y="11679"/>
                  <a:pt x="18827" y="11757"/>
                </a:cubicBezTo>
                <a:cubicBezTo>
                  <a:pt x="18827" y="11827"/>
                  <a:pt x="18852" y="11883"/>
                  <a:pt x="18852" y="11956"/>
                </a:cubicBezTo>
                <a:cubicBezTo>
                  <a:pt x="18852" y="12010"/>
                  <a:pt x="18870" y="12052"/>
                  <a:pt x="18876" y="12105"/>
                </a:cubicBezTo>
              </a:path>
              <a:path w="969" h="1613">
                <a:moveTo>
                  <a:pt x="18653" y="12576"/>
                </a:moveTo>
                <a:cubicBezTo>
                  <a:pt x="18695" y="12544"/>
                  <a:pt x="18721" y="12529"/>
                  <a:pt x="18777" y="12526"/>
                </a:cubicBezTo>
                <a:cubicBezTo>
                  <a:pt x="18833" y="12523"/>
                  <a:pt x="18884" y="12517"/>
                  <a:pt x="18926" y="12551"/>
                </a:cubicBezTo>
                <a:cubicBezTo>
                  <a:pt x="18969" y="12585"/>
                  <a:pt x="18954" y="12633"/>
                  <a:pt x="18926" y="12675"/>
                </a:cubicBezTo>
                <a:cubicBezTo>
                  <a:pt x="18904" y="12707"/>
                  <a:pt x="18836" y="12752"/>
                  <a:pt x="18802" y="12774"/>
                </a:cubicBezTo>
                <a:cubicBezTo>
                  <a:pt x="18772" y="12793"/>
                  <a:pt x="18711" y="12833"/>
                  <a:pt x="18703" y="12849"/>
                </a:cubicBezTo>
                <a:cubicBezTo>
                  <a:pt x="18675" y="12904"/>
                  <a:pt x="18686" y="12897"/>
                  <a:pt x="18703" y="12948"/>
                </a:cubicBezTo>
                <a:cubicBezTo>
                  <a:pt x="18727" y="13020"/>
                  <a:pt x="18744" y="12993"/>
                  <a:pt x="18802" y="13022"/>
                </a:cubicBezTo>
                <a:cubicBezTo>
                  <a:pt x="18876" y="13059"/>
                  <a:pt x="18960" y="13091"/>
                  <a:pt x="19050" y="13072"/>
                </a:cubicBezTo>
                <a:cubicBezTo>
                  <a:pt x="19156" y="13050"/>
                  <a:pt x="19183" y="12998"/>
                  <a:pt x="19248" y="12923"/>
                </a:cubicBezTo>
              </a:path>
              <a:path w="969" h="1613">
                <a:moveTo>
                  <a:pt x="19298" y="12526"/>
                </a:moveTo>
                <a:cubicBezTo>
                  <a:pt x="19282" y="12583"/>
                  <a:pt x="19249" y="12688"/>
                  <a:pt x="19273" y="12750"/>
                </a:cubicBezTo>
                <a:cubicBezTo>
                  <a:pt x="19302" y="12824"/>
                  <a:pt x="19375" y="12870"/>
                  <a:pt x="19447" y="12898"/>
                </a:cubicBezTo>
                <a:cubicBezTo>
                  <a:pt x="19464" y="12905"/>
                  <a:pt x="19502" y="12898"/>
                  <a:pt x="19521" y="12898"/>
                </a:cubicBezTo>
              </a:path>
              <a:path w="969" h="1613">
                <a:moveTo>
                  <a:pt x="19621" y="12502"/>
                </a:moveTo>
                <a:cubicBezTo>
                  <a:pt x="19594" y="12572"/>
                  <a:pt x="19596" y="12624"/>
                  <a:pt x="19596" y="12700"/>
                </a:cubicBezTo>
                <a:cubicBezTo>
                  <a:pt x="19596" y="12849"/>
                  <a:pt x="19596" y="12997"/>
                  <a:pt x="19596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750000" y="5634000"/>
            <a:ext cx="385920" cy="457200"/>
          </a:xfrm>
          <a:custGeom>
            <a:avLst/>
            <a:gdLst/>
            <a:ahLst/>
            <a:rect l="l" t="t" r="r" b="b"/>
            <a:pathLst>
              <a:path w="1068" h="1266">
                <a:moveTo>
                  <a:pt x="18827" y="16793"/>
                </a:moveTo>
                <a:cubicBezTo>
                  <a:pt x="18827" y="16826"/>
                  <a:pt x="18837" y="16897"/>
                  <a:pt x="18852" y="16867"/>
                </a:cubicBezTo>
                <a:cubicBezTo>
                  <a:pt x="18868" y="16834"/>
                  <a:pt x="18827" y="16788"/>
                  <a:pt x="18802" y="16818"/>
                </a:cubicBezTo>
                <a:cubicBezTo>
                  <a:pt x="18802" y="16826"/>
                  <a:pt x="18802" y="16834"/>
                  <a:pt x="18802" y="16842"/>
                </a:cubicBezTo>
                <a:cubicBezTo>
                  <a:pt x="18821" y="16900"/>
                  <a:pt x="18835" y="16851"/>
                  <a:pt x="18852" y="16842"/>
                </a:cubicBezTo>
                <a:cubicBezTo>
                  <a:pt x="18902" y="16816"/>
                  <a:pt x="18863" y="16815"/>
                  <a:pt x="18852" y="16793"/>
                </a:cubicBezTo>
                <a:cubicBezTo>
                  <a:pt x="18835" y="16757"/>
                  <a:pt x="18847" y="16754"/>
                  <a:pt x="18802" y="16743"/>
                </a:cubicBezTo>
                <a:cubicBezTo>
                  <a:pt x="18771" y="16785"/>
                  <a:pt x="18765" y="16801"/>
                  <a:pt x="18802" y="16842"/>
                </a:cubicBezTo>
                <a:cubicBezTo>
                  <a:pt x="18845" y="16890"/>
                  <a:pt x="18842" y="16854"/>
                  <a:pt x="18876" y="16842"/>
                </a:cubicBezTo>
                <a:cubicBezTo>
                  <a:pt x="18876" y="16791"/>
                  <a:pt x="18878" y="16793"/>
                  <a:pt x="18827" y="16793"/>
                </a:cubicBezTo>
                <a:cubicBezTo>
                  <a:pt x="18784" y="16793"/>
                  <a:pt x="18767" y="16798"/>
                  <a:pt x="18752" y="16842"/>
                </a:cubicBezTo>
                <a:cubicBezTo>
                  <a:pt x="18749" y="16852"/>
                  <a:pt x="18783" y="16908"/>
                  <a:pt x="18802" y="16917"/>
                </a:cubicBezTo>
                <a:cubicBezTo>
                  <a:pt x="18841" y="16936"/>
                  <a:pt x="18869" y="16870"/>
                  <a:pt x="18876" y="16867"/>
                </a:cubicBezTo>
                <a:cubicBezTo>
                  <a:pt x="18901" y="16867"/>
                  <a:pt x="18909" y="16867"/>
                  <a:pt x="18901" y="16842"/>
                </a:cubicBezTo>
                <a:cubicBezTo>
                  <a:pt x="18865" y="16831"/>
                  <a:pt x="18877" y="16799"/>
                  <a:pt x="18827" y="16793"/>
                </a:cubicBezTo>
                <a:cubicBezTo>
                  <a:pt x="18819" y="16793"/>
                  <a:pt x="18810" y="16793"/>
                  <a:pt x="18802" y="16793"/>
                </a:cubicBezTo>
                <a:cubicBezTo>
                  <a:pt x="18795" y="16822"/>
                  <a:pt x="18768" y="16870"/>
                  <a:pt x="18802" y="16892"/>
                </a:cubicBezTo>
                <a:cubicBezTo>
                  <a:pt x="18820" y="16904"/>
                  <a:pt x="18834" y="16873"/>
                  <a:pt x="18852" y="16867"/>
                </a:cubicBezTo>
              </a:path>
              <a:path w="1068" h="1266">
                <a:moveTo>
                  <a:pt x="19397" y="15925"/>
                </a:moveTo>
                <a:cubicBezTo>
                  <a:pt x="19407" y="15895"/>
                  <a:pt x="19418" y="15883"/>
                  <a:pt x="19447" y="15850"/>
                </a:cubicBezTo>
                <a:cubicBezTo>
                  <a:pt x="19483" y="15809"/>
                  <a:pt x="19563" y="15698"/>
                  <a:pt x="19596" y="15677"/>
                </a:cubicBezTo>
                <a:cubicBezTo>
                  <a:pt x="19623" y="15659"/>
                  <a:pt x="19658" y="15652"/>
                  <a:pt x="19695" y="15652"/>
                </a:cubicBezTo>
                <a:cubicBezTo>
                  <a:pt x="19740" y="15652"/>
                  <a:pt x="19763" y="15650"/>
                  <a:pt x="19769" y="15701"/>
                </a:cubicBezTo>
                <a:cubicBezTo>
                  <a:pt x="19780" y="15801"/>
                  <a:pt x="19783" y="15901"/>
                  <a:pt x="19794" y="15999"/>
                </a:cubicBezTo>
                <a:cubicBezTo>
                  <a:pt x="19808" y="16122"/>
                  <a:pt x="19744" y="16346"/>
                  <a:pt x="19819" y="16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429160" y="4106880"/>
            <a:ext cx="231840" cy="528480"/>
          </a:xfrm>
          <a:custGeom>
            <a:avLst/>
            <a:gdLst/>
            <a:ahLst/>
            <a:rect l="l" t="t" r="r" b="b"/>
            <a:pathLst>
              <a:path w="646" h="1465">
                <a:moveTo>
                  <a:pt x="15156" y="11410"/>
                </a:moveTo>
                <a:cubicBezTo>
                  <a:pt x="15178" y="11495"/>
                  <a:pt x="15182" y="11576"/>
                  <a:pt x="15205" y="11658"/>
                </a:cubicBezTo>
                <a:cubicBezTo>
                  <a:pt x="15231" y="11752"/>
                  <a:pt x="15260" y="11840"/>
                  <a:pt x="15280" y="11931"/>
                </a:cubicBezTo>
                <a:cubicBezTo>
                  <a:pt x="15280" y="11966"/>
                  <a:pt x="15284" y="11983"/>
                  <a:pt x="15304" y="12005"/>
                </a:cubicBezTo>
              </a:path>
              <a:path w="646" h="1465">
                <a:moveTo>
                  <a:pt x="15081" y="12353"/>
                </a:moveTo>
                <a:cubicBezTo>
                  <a:pt x="15081" y="12429"/>
                  <a:pt x="15083" y="12506"/>
                  <a:pt x="15106" y="12576"/>
                </a:cubicBezTo>
                <a:cubicBezTo>
                  <a:pt x="15126" y="12635"/>
                  <a:pt x="15163" y="12697"/>
                  <a:pt x="15180" y="12750"/>
                </a:cubicBezTo>
                <a:cubicBezTo>
                  <a:pt x="15180" y="12758"/>
                  <a:pt x="15180" y="12766"/>
                  <a:pt x="15180" y="12774"/>
                </a:cubicBezTo>
              </a:path>
              <a:path w="646" h="1465">
                <a:moveTo>
                  <a:pt x="15553" y="12328"/>
                </a:moveTo>
                <a:cubicBezTo>
                  <a:pt x="15519" y="12313"/>
                  <a:pt x="15455" y="12274"/>
                  <a:pt x="15429" y="12328"/>
                </a:cubicBezTo>
                <a:cubicBezTo>
                  <a:pt x="15403" y="12382"/>
                  <a:pt x="15455" y="12457"/>
                  <a:pt x="15478" y="12502"/>
                </a:cubicBezTo>
                <a:cubicBezTo>
                  <a:pt x="15517" y="12580"/>
                  <a:pt x="15544" y="12649"/>
                  <a:pt x="15577" y="12725"/>
                </a:cubicBezTo>
                <a:cubicBezTo>
                  <a:pt x="15601" y="12780"/>
                  <a:pt x="15607" y="12865"/>
                  <a:pt x="15528" y="12874"/>
                </a:cubicBezTo>
                <a:cubicBezTo>
                  <a:pt x="15502" y="12877"/>
                  <a:pt x="15439" y="12865"/>
                  <a:pt x="15429" y="12849"/>
                </a:cubicBezTo>
                <a:cubicBezTo>
                  <a:pt x="15400" y="12805"/>
                  <a:pt x="15442" y="12709"/>
                  <a:pt x="15453" y="12675"/>
                </a:cubicBezTo>
                <a:cubicBezTo>
                  <a:pt x="15466" y="12636"/>
                  <a:pt x="15522" y="12553"/>
                  <a:pt x="15553" y="12526"/>
                </a:cubicBezTo>
                <a:cubicBezTo>
                  <a:pt x="15598" y="12486"/>
                  <a:pt x="15632" y="12447"/>
                  <a:pt x="15677" y="12402"/>
                </a:cubicBezTo>
                <a:cubicBezTo>
                  <a:pt x="15704" y="12375"/>
                  <a:pt x="15703" y="12359"/>
                  <a:pt x="15726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902040" y="6037200"/>
            <a:ext cx="81000" cy="7164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10988" y="16842"/>
                </a:moveTo>
                <a:cubicBezTo>
                  <a:pt x="10988" y="16850"/>
                  <a:pt x="10988" y="16859"/>
                  <a:pt x="10988" y="16867"/>
                </a:cubicBezTo>
                <a:cubicBezTo>
                  <a:pt x="11040" y="16867"/>
                  <a:pt x="11038" y="16870"/>
                  <a:pt x="11038" y="16818"/>
                </a:cubicBezTo>
                <a:cubicBezTo>
                  <a:pt x="11038" y="16755"/>
                  <a:pt x="10986" y="16768"/>
                  <a:pt x="10939" y="16768"/>
                </a:cubicBezTo>
                <a:cubicBezTo>
                  <a:pt x="10897" y="16768"/>
                  <a:pt x="10868" y="16803"/>
                  <a:pt x="10864" y="16842"/>
                </a:cubicBezTo>
                <a:cubicBezTo>
                  <a:pt x="10860" y="16874"/>
                  <a:pt x="10893" y="16919"/>
                  <a:pt x="10914" y="16942"/>
                </a:cubicBezTo>
                <a:cubicBezTo>
                  <a:pt x="10922" y="16950"/>
                  <a:pt x="10931" y="16958"/>
                  <a:pt x="10939" y="16966"/>
                </a:cubicBezTo>
                <a:cubicBezTo>
                  <a:pt x="10955" y="16961"/>
                  <a:pt x="11000" y="16944"/>
                  <a:pt x="11013" y="16917"/>
                </a:cubicBezTo>
                <a:cubicBezTo>
                  <a:pt x="11030" y="16883"/>
                  <a:pt x="11057" y="16848"/>
                  <a:pt x="11013" y="16818"/>
                </a:cubicBezTo>
                <a:cubicBezTo>
                  <a:pt x="10962" y="16783"/>
                  <a:pt x="10915" y="16784"/>
                  <a:pt x="10864" y="16818"/>
                </a:cubicBezTo>
                <a:cubicBezTo>
                  <a:pt x="10810" y="16853"/>
                  <a:pt x="10853" y="16881"/>
                  <a:pt x="10864" y="16917"/>
                </a:cubicBezTo>
                <a:cubicBezTo>
                  <a:pt x="10879" y="16965"/>
                  <a:pt x="10887" y="16966"/>
                  <a:pt x="10939" y="16966"/>
                </a:cubicBezTo>
                <a:cubicBezTo>
                  <a:pt x="10991" y="16966"/>
                  <a:pt x="11000" y="16954"/>
                  <a:pt x="11038" y="16917"/>
                </a:cubicBezTo>
                <a:cubicBezTo>
                  <a:pt x="11068" y="16887"/>
                  <a:pt x="11063" y="16882"/>
                  <a:pt x="11063" y="16842"/>
                </a:cubicBezTo>
                <a:cubicBezTo>
                  <a:pt x="11023" y="16832"/>
                  <a:pt x="11004" y="16801"/>
                  <a:pt x="10988" y="16793"/>
                </a:cubicBezTo>
                <a:cubicBezTo>
                  <a:pt x="10967" y="16782"/>
                  <a:pt x="10960" y="16811"/>
                  <a:pt x="10939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375160" y="2411280"/>
            <a:ext cx="73080" cy="81000"/>
          </a:xfrm>
          <a:custGeom>
            <a:avLst/>
            <a:gdLst/>
            <a:ahLst/>
            <a:rect l="l" t="t" r="r" b="b"/>
            <a:pathLst>
              <a:path w="200" h="225">
                <a:moveTo>
                  <a:pt x="15106" y="6772"/>
                </a:moveTo>
                <a:cubicBezTo>
                  <a:pt x="15083" y="6745"/>
                  <a:pt x="15041" y="6653"/>
                  <a:pt x="15007" y="6722"/>
                </a:cubicBezTo>
                <a:cubicBezTo>
                  <a:pt x="14990" y="6756"/>
                  <a:pt x="15003" y="6817"/>
                  <a:pt x="15032" y="6821"/>
                </a:cubicBezTo>
                <a:cubicBezTo>
                  <a:pt x="15040" y="6821"/>
                  <a:pt x="15048" y="6821"/>
                  <a:pt x="15056" y="6821"/>
                </a:cubicBezTo>
                <a:cubicBezTo>
                  <a:pt x="15084" y="6821"/>
                  <a:pt x="15095" y="6819"/>
                  <a:pt x="15106" y="6796"/>
                </a:cubicBezTo>
                <a:cubicBezTo>
                  <a:pt x="15074" y="6765"/>
                  <a:pt x="15050" y="6727"/>
                  <a:pt x="15007" y="6722"/>
                </a:cubicBezTo>
                <a:cubicBezTo>
                  <a:pt x="14965" y="6717"/>
                  <a:pt x="14936" y="6761"/>
                  <a:pt x="14932" y="6796"/>
                </a:cubicBezTo>
                <a:cubicBezTo>
                  <a:pt x="14929" y="6818"/>
                  <a:pt x="14960" y="6885"/>
                  <a:pt x="14982" y="6896"/>
                </a:cubicBezTo>
                <a:cubicBezTo>
                  <a:pt x="15016" y="6913"/>
                  <a:pt x="15059" y="6891"/>
                  <a:pt x="15081" y="6871"/>
                </a:cubicBezTo>
                <a:cubicBezTo>
                  <a:pt x="15089" y="6863"/>
                  <a:pt x="15098" y="6854"/>
                  <a:pt x="15106" y="6846"/>
                </a:cubicBezTo>
                <a:cubicBezTo>
                  <a:pt x="15106" y="6794"/>
                  <a:pt x="15111" y="6794"/>
                  <a:pt x="15081" y="6772"/>
                </a:cubicBezTo>
                <a:cubicBezTo>
                  <a:pt x="15047" y="6747"/>
                  <a:pt x="15046" y="6732"/>
                  <a:pt x="15007" y="6722"/>
                </a:cubicBezTo>
                <a:cubicBezTo>
                  <a:pt x="14960" y="6769"/>
                  <a:pt x="14938" y="6794"/>
                  <a:pt x="14957" y="6871"/>
                </a:cubicBezTo>
                <a:cubicBezTo>
                  <a:pt x="14965" y="6888"/>
                  <a:pt x="14974" y="6904"/>
                  <a:pt x="14982" y="6921"/>
                </a:cubicBezTo>
                <a:cubicBezTo>
                  <a:pt x="15022" y="6921"/>
                  <a:pt x="15076" y="6931"/>
                  <a:pt x="15106" y="6896"/>
                </a:cubicBezTo>
                <a:cubicBezTo>
                  <a:pt x="15125" y="6874"/>
                  <a:pt x="15131" y="6829"/>
                  <a:pt x="15131" y="6796"/>
                </a:cubicBezTo>
                <a:cubicBezTo>
                  <a:pt x="15131" y="6788"/>
                  <a:pt x="15131" y="6780"/>
                  <a:pt x="15131" y="6772"/>
                </a:cubicBezTo>
                <a:cubicBezTo>
                  <a:pt x="15096" y="6763"/>
                  <a:pt x="15050" y="6726"/>
                  <a:pt x="15007" y="6747"/>
                </a:cubicBezTo>
                <a:cubicBezTo>
                  <a:pt x="14960" y="6770"/>
                  <a:pt x="14957" y="6827"/>
                  <a:pt x="14957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15D02-A4CA-40C2-BD0C-42ECE60664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1840" y="687240"/>
            <a:ext cx="482400" cy="393840"/>
          </a:xfrm>
          <a:custGeom>
            <a:avLst/>
            <a:gdLst/>
            <a:ahLst/>
            <a:rect l="l" t="t" r="r" b="b"/>
            <a:pathLst>
              <a:path w="1340" h="1092">
                <a:moveTo>
                  <a:pt x="769" y="2059"/>
                </a:moveTo>
                <a:cubicBezTo>
                  <a:pt x="769" y="2156"/>
                  <a:pt x="759" y="2241"/>
                  <a:pt x="744" y="2332"/>
                </a:cubicBezTo>
                <a:cubicBezTo>
                  <a:pt x="730" y="2413"/>
                  <a:pt x="687" y="2478"/>
                  <a:pt x="670" y="2555"/>
                </a:cubicBezTo>
                <a:cubicBezTo>
                  <a:pt x="659" y="2604"/>
                  <a:pt x="645" y="2652"/>
                  <a:pt x="645" y="2704"/>
                </a:cubicBezTo>
                <a:cubicBezTo>
                  <a:pt x="645" y="2712"/>
                  <a:pt x="645" y="2721"/>
                  <a:pt x="645" y="2729"/>
                </a:cubicBezTo>
                <a:cubicBezTo>
                  <a:pt x="685" y="2719"/>
                  <a:pt x="707" y="2691"/>
                  <a:pt x="744" y="2679"/>
                </a:cubicBezTo>
                <a:cubicBezTo>
                  <a:pt x="779" y="2667"/>
                  <a:pt x="832" y="2658"/>
                  <a:pt x="868" y="2654"/>
                </a:cubicBezTo>
                <a:cubicBezTo>
                  <a:pt x="927" y="2648"/>
                  <a:pt x="967" y="2646"/>
                  <a:pt x="1017" y="2629"/>
                </a:cubicBezTo>
                <a:cubicBezTo>
                  <a:pt x="1070" y="2611"/>
                  <a:pt x="1080" y="2589"/>
                  <a:pt x="1091" y="2530"/>
                </a:cubicBezTo>
              </a:path>
              <a:path w="1340" h="1092">
                <a:moveTo>
                  <a:pt x="1067" y="1910"/>
                </a:moveTo>
                <a:cubicBezTo>
                  <a:pt x="1035" y="1952"/>
                  <a:pt x="1042" y="1978"/>
                  <a:pt x="1042" y="2034"/>
                </a:cubicBezTo>
                <a:cubicBezTo>
                  <a:pt x="1042" y="2143"/>
                  <a:pt x="1017" y="2246"/>
                  <a:pt x="1017" y="2356"/>
                </a:cubicBezTo>
                <a:cubicBezTo>
                  <a:pt x="1017" y="2501"/>
                  <a:pt x="1014" y="2640"/>
                  <a:pt x="992" y="2778"/>
                </a:cubicBezTo>
                <a:cubicBezTo>
                  <a:pt x="985" y="2821"/>
                  <a:pt x="992" y="3012"/>
                  <a:pt x="992" y="2977"/>
                </a:cubicBezTo>
                <a:cubicBezTo>
                  <a:pt x="992" y="2952"/>
                  <a:pt x="992" y="2944"/>
                  <a:pt x="992" y="2927"/>
                </a:cubicBezTo>
              </a:path>
              <a:path w="1340" h="1092">
                <a:moveTo>
                  <a:pt x="1315" y="2034"/>
                </a:moveTo>
                <a:cubicBezTo>
                  <a:pt x="1303" y="2083"/>
                  <a:pt x="1279" y="2130"/>
                  <a:pt x="1265" y="2183"/>
                </a:cubicBezTo>
                <a:cubicBezTo>
                  <a:pt x="1241" y="2274"/>
                  <a:pt x="1237" y="2366"/>
                  <a:pt x="1215" y="2456"/>
                </a:cubicBezTo>
                <a:cubicBezTo>
                  <a:pt x="1194" y="2543"/>
                  <a:pt x="1191" y="2615"/>
                  <a:pt x="1191" y="2704"/>
                </a:cubicBezTo>
                <a:cubicBezTo>
                  <a:pt x="1191" y="2748"/>
                  <a:pt x="1200" y="2826"/>
                  <a:pt x="1240" y="2853"/>
                </a:cubicBezTo>
                <a:cubicBezTo>
                  <a:pt x="1297" y="2892"/>
                  <a:pt x="1316" y="2880"/>
                  <a:pt x="1364" y="2853"/>
                </a:cubicBezTo>
                <a:cubicBezTo>
                  <a:pt x="1409" y="2828"/>
                  <a:pt x="1459" y="2798"/>
                  <a:pt x="1488" y="2753"/>
                </a:cubicBezTo>
                <a:cubicBezTo>
                  <a:pt x="1523" y="2699"/>
                  <a:pt x="1559" y="2640"/>
                  <a:pt x="1563" y="2580"/>
                </a:cubicBezTo>
                <a:cubicBezTo>
                  <a:pt x="1567" y="2507"/>
                  <a:pt x="1568" y="2447"/>
                  <a:pt x="1538" y="2381"/>
                </a:cubicBezTo>
                <a:cubicBezTo>
                  <a:pt x="1516" y="2333"/>
                  <a:pt x="1466" y="2214"/>
                  <a:pt x="1439" y="2183"/>
                </a:cubicBezTo>
                <a:cubicBezTo>
                  <a:pt x="1430" y="2173"/>
                  <a:pt x="1375" y="2134"/>
                  <a:pt x="1364" y="2133"/>
                </a:cubicBezTo>
                <a:cubicBezTo>
                  <a:pt x="1287" y="2123"/>
                  <a:pt x="1259" y="2157"/>
                  <a:pt x="1215" y="2208"/>
                </a:cubicBezTo>
              </a:path>
              <a:path w="1340" h="1092">
                <a:moveTo>
                  <a:pt x="1984" y="2803"/>
                </a:moveTo>
                <a:lnTo>
                  <a:pt x="1984" y="280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901800" y="642960"/>
            <a:ext cx="2482920" cy="687240"/>
          </a:xfrm>
          <a:custGeom>
            <a:avLst/>
            <a:gdLst/>
            <a:ahLst/>
            <a:rect l="l" t="t" r="r" b="b"/>
            <a:pathLst>
              <a:path w="6897" h="1911">
                <a:moveTo>
                  <a:pt x="2654" y="2381"/>
                </a:moveTo>
                <a:cubicBezTo>
                  <a:pt x="2646" y="2488"/>
                  <a:pt x="2650" y="2506"/>
                  <a:pt x="2654" y="2604"/>
                </a:cubicBezTo>
                <a:cubicBezTo>
                  <a:pt x="2657" y="2677"/>
                  <a:pt x="2668" y="2673"/>
                  <a:pt x="2704" y="2729"/>
                </a:cubicBezTo>
                <a:cubicBezTo>
                  <a:pt x="2728" y="2766"/>
                  <a:pt x="2726" y="2791"/>
                  <a:pt x="2778" y="2803"/>
                </a:cubicBezTo>
                <a:cubicBezTo>
                  <a:pt x="2820" y="2813"/>
                  <a:pt x="2856" y="2789"/>
                  <a:pt x="2877" y="2753"/>
                </a:cubicBezTo>
                <a:cubicBezTo>
                  <a:pt x="2911" y="2695"/>
                  <a:pt x="2948" y="2627"/>
                  <a:pt x="2952" y="2555"/>
                </a:cubicBezTo>
                <a:cubicBezTo>
                  <a:pt x="2956" y="2484"/>
                  <a:pt x="2990" y="2400"/>
                  <a:pt x="2977" y="2332"/>
                </a:cubicBezTo>
                <a:cubicBezTo>
                  <a:pt x="2962" y="2252"/>
                  <a:pt x="2962" y="2239"/>
                  <a:pt x="2977" y="2158"/>
                </a:cubicBezTo>
                <a:cubicBezTo>
                  <a:pt x="2977" y="2150"/>
                  <a:pt x="2977" y="2141"/>
                  <a:pt x="2977" y="2133"/>
                </a:cubicBezTo>
                <a:cubicBezTo>
                  <a:pt x="2971" y="2178"/>
                  <a:pt x="2958" y="2214"/>
                  <a:pt x="2952" y="2257"/>
                </a:cubicBezTo>
                <a:cubicBezTo>
                  <a:pt x="2939" y="2346"/>
                  <a:pt x="2966" y="2424"/>
                  <a:pt x="2977" y="2505"/>
                </a:cubicBezTo>
                <a:cubicBezTo>
                  <a:pt x="2987" y="2582"/>
                  <a:pt x="2977" y="2656"/>
                  <a:pt x="3001" y="2729"/>
                </a:cubicBezTo>
                <a:cubicBezTo>
                  <a:pt x="3025" y="2801"/>
                  <a:pt x="3028" y="2881"/>
                  <a:pt x="3051" y="2952"/>
                </a:cubicBezTo>
                <a:cubicBezTo>
                  <a:pt x="3077" y="3034"/>
                  <a:pt x="3098" y="3112"/>
                  <a:pt x="3101" y="3200"/>
                </a:cubicBezTo>
                <a:cubicBezTo>
                  <a:pt x="3105" y="3304"/>
                  <a:pt x="3087" y="3398"/>
                  <a:pt x="3051" y="3497"/>
                </a:cubicBezTo>
                <a:cubicBezTo>
                  <a:pt x="3031" y="3552"/>
                  <a:pt x="2975" y="3614"/>
                  <a:pt x="2927" y="3646"/>
                </a:cubicBezTo>
                <a:cubicBezTo>
                  <a:pt x="2876" y="3680"/>
                  <a:pt x="2788" y="3693"/>
                  <a:pt x="2729" y="3696"/>
                </a:cubicBezTo>
                <a:cubicBezTo>
                  <a:pt x="2660" y="3700"/>
                  <a:pt x="2594" y="3701"/>
                  <a:pt x="2530" y="3671"/>
                </a:cubicBezTo>
                <a:cubicBezTo>
                  <a:pt x="2488" y="3651"/>
                  <a:pt x="2509" y="3607"/>
                  <a:pt x="2505" y="3572"/>
                </a:cubicBezTo>
              </a:path>
              <a:path w="6897" h="1911">
                <a:moveTo>
                  <a:pt x="3249" y="2456"/>
                </a:moveTo>
                <a:cubicBezTo>
                  <a:pt x="3314" y="2450"/>
                  <a:pt x="3339" y="2431"/>
                  <a:pt x="3398" y="2431"/>
                </a:cubicBezTo>
                <a:cubicBezTo>
                  <a:pt x="3470" y="2431"/>
                  <a:pt x="3507" y="2411"/>
                  <a:pt x="3572" y="2406"/>
                </a:cubicBezTo>
                <a:cubicBezTo>
                  <a:pt x="3583" y="2405"/>
                  <a:pt x="3688" y="2406"/>
                  <a:pt x="3621" y="2406"/>
                </a:cubicBezTo>
                <a:cubicBezTo>
                  <a:pt x="3613" y="2406"/>
                  <a:pt x="3605" y="2406"/>
                  <a:pt x="3597" y="2406"/>
                </a:cubicBezTo>
              </a:path>
              <a:path w="6897" h="1911">
                <a:moveTo>
                  <a:pt x="3324" y="2580"/>
                </a:moveTo>
                <a:cubicBezTo>
                  <a:pt x="3389" y="2580"/>
                  <a:pt x="3628" y="2552"/>
                  <a:pt x="3646" y="2604"/>
                </a:cubicBezTo>
                <a:cubicBezTo>
                  <a:pt x="3646" y="2596"/>
                  <a:pt x="3646" y="2588"/>
                  <a:pt x="3646" y="2580"/>
                </a:cubicBezTo>
              </a:path>
              <a:path w="6897" h="1911">
                <a:moveTo>
                  <a:pt x="4118" y="2332"/>
                </a:moveTo>
                <a:cubicBezTo>
                  <a:pt x="4215" y="2332"/>
                  <a:pt x="4308" y="2325"/>
                  <a:pt x="4390" y="2307"/>
                </a:cubicBezTo>
                <a:cubicBezTo>
                  <a:pt x="4426" y="2299"/>
                  <a:pt x="4476" y="2307"/>
                  <a:pt x="4514" y="2307"/>
                </a:cubicBezTo>
              </a:path>
              <a:path w="6897" h="1911">
                <a:moveTo>
                  <a:pt x="4738" y="1935"/>
                </a:moveTo>
                <a:cubicBezTo>
                  <a:pt x="4805" y="1838"/>
                  <a:pt x="4809" y="1847"/>
                  <a:pt x="4911" y="1811"/>
                </a:cubicBezTo>
                <a:cubicBezTo>
                  <a:pt x="4985" y="1785"/>
                  <a:pt x="5033" y="1786"/>
                  <a:pt x="5110" y="1786"/>
                </a:cubicBezTo>
                <a:cubicBezTo>
                  <a:pt x="5153" y="1786"/>
                  <a:pt x="5169" y="1792"/>
                  <a:pt x="5184" y="1836"/>
                </a:cubicBezTo>
                <a:cubicBezTo>
                  <a:pt x="5201" y="1885"/>
                  <a:pt x="5155" y="1943"/>
                  <a:pt x="5135" y="1984"/>
                </a:cubicBezTo>
                <a:cubicBezTo>
                  <a:pt x="5095" y="2064"/>
                  <a:pt x="5024" y="2120"/>
                  <a:pt x="4961" y="2183"/>
                </a:cubicBezTo>
                <a:cubicBezTo>
                  <a:pt x="4921" y="2223"/>
                  <a:pt x="4812" y="2296"/>
                  <a:pt x="4787" y="2332"/>
                </a:cubicBezTo>
                <a:cubicBezTo>
                  <a:pt x="4787" y="2340"/>
                  <a:pt x="4787" y="2348"/>
                  <a:pt x="4787" y="2356"/>
                </a:cubicBezTo>
                <a:cubicBezTo>
                  <a:pt x="4800" y="2319"/>
                  <a:pt x="4810" y="2327"/>
                  <a:pt x="4837" y="2307"/>
                </a:cubicBezTo>
                <a:cubicBezTo>
                  <a:pt x="4858" y="2291"/>
                  <a:pt x="4905" y="2260"/>
                  <a:pt x="4911" y="2257"/>
                </a:cubicBezTo>
                <a:cubicBezTo>
                  <a:pt x="4941" y="2242"/>
                  <a:pt x="4989" y="2272"/>
                  <a:pt x="5011" y="2282"/>
                </a:cubicBezTo>
                <a:cubicBezTo>
                  <a:pt x="5053" y="2300"/>
                  <a:pt x="5109" y="2340"/>
                  <a:pt x="5135" y="2381"/>
                </a:cubicBezTo>
                <a:cubicBezTo>
                  <a:pt x="5167" y="2431"/>
                  <a:pt x="5159" y="2473"/>
                  <a:pt x="5159" y="2530"/>
                </a:cubicBezTo>
                <a:cubicBezTo>
                  <a:pt x="5159" y="2584"/>
                  <a:pt x="5133" y="2623"/>
                  <a:pt x="5085" y="2654"/>
                </a:cubicBezTo>
                <a:cubicBezTo>
                  <a:pt x="5012" y="2701"/>
                  <a:pt x="4947" y="2725"/>
                  <a:pt x="4862" y="2729"/>
                </a:cubicBezTo>
                <a:cubicBezTo>
                  <a:pt x="4793" y="2732"/>
                  <a:pt x="4792" y="2720"/>
                  <a:pt x="4762" y="2704"/>
                </a:cubicBezTo>
                <a:cubicBezTo>
                  <a:pt x="4733" y="2689"/>
                  <a:pt x="4722" y="2693"/>
                  <a:pt x="4762" y="2679"/>
                </a:cubicBezTo>
              </a:path>
              <a:path w="6897" h="1911">
                <a:moveTo>
                  <a:pt x="5978" y="2183"/>
                </a:moveTo>
                <a:cubicBezTo>
                  <a:pt x="5978" y="2224"/>
                  <a:pt x="5978" y="2248"/>
                  <a:pt x="5978" y="2208"/>
                </a:cubicBezTo>
                <a:cubicBezTo>
                  <a:pt x="5967" y="2204"/>
                  <a:pt x="5893" y="2151"/>
                  <a:pt x="5879" y="2133"/>
                </a:cubicBezTo>
                <a:cubicBezTo>
                  <a:pt x="5855" y="2101"/>
                  <a:pt x="5848" y="2056"/>
                  <a:pt x="5779" y="2084"/>
                </a:cubicBezTo>
                <a:cubicBezTo>
                  <a:pt x="5735" y="2102"/>
                  <a:pt x="5706" y="2141"/>
                  <a:pt x="5680" y="2183"/>
                </a:cubicBezTo>
                <a:cubicBezTo>
                  <a:pt x="5639" y="2250"/>
                  <a:pt x="5606" y="2317"/>
                  <a:pt x="5581" y="2381"/>
                </a:cubicBezTo>
                <a:cubicBezTo>
                  <a:pt x="5561" y="2432"/>
                  <a:pt x="5533" y="2522"/>
                  <a:pt x="5556" y="2580"/>
                </a:cubicBezTo>
                <a:cubicBezTo>
                  <a:pt x="5579" y="2638"/>
                  <a:pt x="5637" y="2665"/>
                  <a:pt x="5680" y="2704"/>
                </a:cubicBezTo>
                <a:cubicBezTo>
                  <a:pt x="5716" y="2737"/>
                  <a:pt x="5803" y="2743"/>
                  <a:pt x="5854" y="2729"/>
                </a:cubicBezTo>
                <a:cubicBezTo>
                  <a:pt x="5908" y="2714"/>
                  <a:pt x="5981" y="2687"/>
                  <a:pt x="6028" y="2654"/>
                </a:cubicBezTo>
                <a:cubicBezTo>
                  <a:pt x="6036" y="2646"/>
                  <a:pt x="6044" y="2637"/>
                  <a:pt x="6052" y="2629"/>
                </a:cubicBezTo>
              </a:path>
              <a:path w="6897" h="1911">
                <a:moveTo>
                  <a:pt x="6127" y="2257"/>
                </a:moveTo>
                <a:cubicBezTo>
                  <a:pt x="6119" y="2369"/>
                  <a:pt x="6122" y="2422"/>
                  <a:pt x="6127" y="2530"/>
                </a:cubicBezTo>
                <a:cubicBezTo>
                  <a:pt x="6130" y="2600"/>
                  <a:pt x="6127" y="2604"/>
                  <a:pt x="6176" y="2654"/>
                </a:cubicBezTo>
                <a:cubicBezTo>
                  <a:pt x="6202" y="2680"/>
                  <a:pt x="6262" y="2698"/>
                  <a:pt x="6300" y="2679"/>
                </a:cubicBezTo>
                <a:cubicBezTo>
                  <a:pt x="6366" y="2646"/>
                  <a:pt x="6439" y="2590"/>
                  <a:pt x="6474" y="2530"/>
                </a:cubicBezTo>
                <a:cubicBezTo>
                  <a:pt x="6506" y="2475"/>
                  <a:pt x="6521" y="2394"/>
                  <a:pt x="6524" y="2332"/>
                </a:cubicBezTo>
                <a:cubicBezTo>
                  <a:pt x="6528" y="2267"/>
                  <a:pt x="6492" y="2251"/>
                  <a:pt x="6449" y="2208"/>
                </a:cubicBezTo>
                <a:cubicBezTo>
                  <a:pt x="6403" y="2162"/>
                  <a:pt x="6392" y="2158"/>
                  <a:pt x="6325" y="2158"/>
                </a:cubicBezTo>
                <a:cubicBezTo>
                  <a:pt x="6284" y="2158"/>
                  <a:pt x="6233" y="2204"/>
                  <a:pt x="6201" y="2232"/>
                </a:cubicBezTo>
                <a:cubicBezTo>
                  <a:pt x="6176" y="2255"/>
                  <a:pt x="6121" y="2319"/>
                  <a:pt x="6127" y="2356"/>
                </a:cubicBezTo>
                <a:cubicBezTo>
                  <a:pt x="6132" y="2387"/>
                  <a:pt x="6177" y="2432"/>
                  <a:pt x="6201" y="2456"/>
                </a:cubicBezTo>
              </a:path>
              <a:path w="6897" h="1911">
                <a:moveTo>
                  <a:pt x="7020" y="2059"/>
                </a:moveTo>
                <a:cubicBezTo>
                  <a:pt x="6951" y="2059"/>
                  <a:pt x="6903" y="2054"/>
                  <a:pt x="6846" y="2084"/>
                </a:cubicBezTo>
                <a:cubicBezTo>
                  <a:pt x="6807" y="2104"/>
                  <a:pt x="6751" y="2124"/>
                  <a:pt x="6747" y="2158"/>
                </a:cubicBezTo>
                <a:cubicBezTo>
                  <a:pt x="6747" y="2183"/>
                  <a:pt x="6747" y="2191"/>
                  <a:pt x="6747" y="2208"/>
                </a:cubicBezTo>
                <a:cubicBezTo>
                  <a:pt x="6813" y="2217"/>
                  <a:pt x="6885" y="2233"/>
                  <a:pt x="6945" y="2257"/>
                </a:cubicBezTo>
                <a:cubicBezTo>
                  <a:pt x="7001" y="2280"/>
                  <a:pt x="7077" y="2319"/>
                  <a:pt x="7094" y="2381"/>
                </a:cubicBezTo>
                <a:cubicBezTo>
                  <a:pt x="7112" y="2451"/>
                  <a:pt x="7113" y="2468"/>
                  <a:pt x="7094" y="2530"/>
                </a:cubicBezTo>
                <a:cubicBezTo>
                  <a:pt x="7074" y="2595"/>
                  <a:pt x="7038" y="2619"/>
                  <a:pt x="6970" y="2629"/>
                </a:cubicBezTo>
                <a:cubicBezTo>
                  <a:pt x="6919" y="2637"/>
                  <a:pt x="6870" y="2649"/>
                  <a:pt x="6821" y="2654"/>
                </a:cubicBezTo>
                <a:cubicBezTo>
                  <a:pt x="6784" y="2658"/>
                  <a:pt x="6811" y="2659"/>
                  <a:pt x="6821" y="2629"/>
                </a:cubicBezTo>
              </a:path>
              <a:path w="6897" h="1911">
                <a:moveTo>
                  <a:pt x="7689" y="2034"/>
                </a:moveTo>
                <a:cubicBezTo>
                  <a:pt x="7716" y="1987"/>
                  <a:pt x="7744" y="1962"/>
                  <a:pt x="7764" y="1935"/>
                </a:cubicBezTo>
                <a:cubicBezTo>
                  <a:pt x="7794" y="1895"/>
                  <a:pt x="7851" y="1910"/>
                  <a:pt x="7888" y="1885"/>
                </a:cubicBezTo>
                <a:cubicBezTo>
                  <a:pt x="7932" y="1856"/>
                  <a:pt x="7954" y="1860"/>
                  <a:pt x="8012" y="1860"/>
                </a:cubicBezTo>
                <a:cubicBezTo>
                  <a:pt x="8082" y="1860"/>
                  <a:pt x="8087" y="1861"/>
                  <a:pt x="8136" y="1910"/>
                </a:cubicBezTo>
                <a:cubicBezTo>
                  <a:pt x="8176" y="1950"/>
                  <a:pt x="8155" y="1985"/>
                  <a:pt x="8136" y="2034"/>
                </a:cubicBezTo>
                <a:cubicBezTo>
                  <a:pt x="8117" y="2080"/>
                  <a:pt x="8099" y="2174"/>
                  <a:pt x="8062" y="2208"/>
                </a:cubicBezTo>
                <a:cubicBezTo>
                  <a:pt x="8007" y="2258"/>
                  <a:pt x="7963" y="2300"/>
                  <a:pt x="7913" y="2356"/>
                </a:cubicBezTo>
                <a:cubicBezTo>
                  <a:pt x="7858" y="2418"/>
                  <a:pt x="7765" y="2446"/>
                  <a:pt x="7714" y="2505"/>
                </a:cubicBezTo>
                <a:cubicBezTo>
                  <a:pt x="7674" y="2551"/>
                  <a:pt x="7661" y="2608"/>
                  <a:pt x="7615" y="2654"/>
                </a:cubicBezTo>
                <a:cubicBezTo>
                  <a:pt x="7592" y="2677"/>
                  <a:pt x="7584" y="2681"/>
                  <a:pt x="7590" y="2704"/>
                </a:cubicBezTo>
                <a:cubicBezTo>
                  <a:pt x="7655" y="2704"/>
                  <a:pt x="7703" y="2689"/>
                  <a:pt x="7764" y="2679"/>
                </a:cubicBezTo>
                <a:cubicBezTo>
                  <a:pt x="7881" y="2659"/>
                  <a:pt x="7997" y="2679"/>
                  <a:pt x="8111" y="2654"/>
                </a:cubicBezTo>
                <a:cubicBezTo>
                  <a:pt x="8186" y="2638"/>
                  <a:pt x="8251" y="2691"/>
                  <a:pt x="8235" y="2629"/>
                </a:cubicBezTo>
                <a:cubicBezTo>
                  <a:pt x="8235" y="2621"/>
                  <a:pt x="8235" y="2612"/>
                  <a:pt x="8235" y="2604"/>
                </a:cubicBezTo>
              </a:path>
              <a:path w="6897" h="1911">
                <a:moveTo>
                  <a:pt x="8384" y="2059"/>
                </a:moveTo>
                <a:cubicBezTo>
                  <a:pt x="8448" y="2035"/>
                  <a:pt x="8489" y="2034"/>
                  <a:pt x="8558" y="2034"/>
                </a:cubicBezTo>
                <a:cubicBezTo>
                  <a:pt x="8636" y="2034"/>
                  <a:pt x="8981" y="2050"/>
                  <a:pt x="8954" y="2009"/>
                </a:cubicBezTo>
              </a:path>
              <a:path w="6897" h="1911">
                <a:moveTo>
                  <a:pt x="8508" y="1984"/>
                </a:moveTo>
                <a:cubicBezTo>
                  <a:pt x="8550" y="1954"/>
                  <a:pt x="8577" y="1960"/>
                  <a:pt x="8632" y="1960"/>
                </a:cubicBezTo>
                <a:cubicBezTo>
                  <a:pt x="8715" y="1960"/>
                  <a:pt x="8753" y="1982"/>
                  <a:pt x="8830" y="2034"/>
                </a:cubicBezTo>
                <a:cubicBezTo>
                  <a:pt x="8915" y="2091"/>
                  <a:pt x="8931" y="2136"/>
                  <a:pt x="8979" y="2232"/>
                </a:cubicBezTo>
                <a:cubicBezTo>
                  <a:pt x="9014" y="2303"/>
                  <a:pt x="9030" y="2357"/>
                  <a:pt x="9054" y="2431"/>
                </a:cubicBezTo>
                <a:cubicBezTo>
                  <a:pt x="9073" y="2492"/>
                  <a:pt x="9128" y="2524"/>
                  <a:pt x="9178" y="2555"/>
                </a:cubicBezTo>
                <a:cubicBezTo>
                  <a:pt x="9240" y="2593"/>
                  <a:pt x="9281" y="2604"/>
                  <a:pt x="9351" y="2604"/>
                </a:cubicBezTo>
                <a:cubicBezTo>
                  <a:pt x="9379" y="2604"/>
                  <a:pt x="9390" y="2602"/>
                  <a:pt x="9401" y="2580"/>
                </a:cubicBezTo>
              </a:path>
              <a:path w="6897" h="1911">
                <a:moveTo>
                  <a:pt x="9227" y="1860"/>
                </a:moveTo>
                <a:cubicBezTo>
                  <a:pt x="9173" y="1945"/>
                  <a:pt x="9121" y="2033"/>
                  <a:pt x="9054" y="2108"/>
                </a:cubicBezTo>
                <a:cubicBezTo>
                  <a:pt x="8961" y="2213"/>
                  <a:pt x="8867" y="2321"/>
                  <a:pt x="8781" y="2431"/>
                </a:cubicBezTo>
                <a:cubicBezTo>
                  <a:pt x="8726" y="2501"/>
                  <a:pt x="8695" y="2566"/>
                  <a:pt x="8632" y="2629"/>
                </a:cubicBezTo>
                <a:cubicBezTo>
                  <a:pt x="8619" y="2642"/>
                  <a:pt x="8535" y="2705"/>
                  <a:pt x="8558" y="2729"/>
                </a:cubicBezTo>
                <a:cubicBezTo>
                  <a:pt x="8566" y="2729"/>
                  <a:pt x="8574" y="2729"/>
                  <a:pt x="8582" y="27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86120" y="741240"/>
            <a:ext cx="706680" cy="357480"/>
          </a:xfrm>
          <a:custGeom>
            <a:avLst/>
            <a:gdLst/>
            <a:ahLst/>
            <a:rect l="l" t="t" r="r" b="b"/>
            <a:pathLst>
              <a:path w="1961" h="993">
                <a:moveTo>
                  <a:pt x="10889" y="2480"/>
                </a:moveTo>
                <a:cubicBezTo>
                  <a:pt x="10916" y="2516"/>
                  <a:pt x="10934" y="2540"/>
                  <a:pt x="10889" y="2555"/>
                </a:cubicBezTo>
                <a:cubicBezTo>
                  <a:pt x="10889" y="2622"/>
                  <a:pt x="10889" y="2516"/>
                  <a:pt x="10889" y="2505"/>
                </a:cubicBezTo>
                <a:cubicBezTo>
                  <a:pt x="10889" y="2458"/>
                  <a:pt x="10869" y="2426"/>
                  <a:pt x="10864" y="2381"/>
                </a:cubicBezTo>
                <a:cubicBezTo>
                  <a:pt x="10859" y="2329"/>
                  <a:pt x="10824" y="2300"/>
                  <a:pt x="10815" y="2282"/>
                </a:cubicBezTo>
                <a:cubicBezTo>
                  <a:pt x="10815" y="2254"/>
                  <a:pt x="10813" y="2243"/>
                  <a:pt x="10790" y="2232"/>
                </a:cubicBezTo>
                <a:cubicBezTo>
                  <a:pt x="10762" y="2232"/>
                  <a:pt x="10706" y="2239"/>
                  <a:pt x="10691" y="2257"/>
                </a:cubicBezTo>
                <a:cubicBezTo>
                  <a:pt x="10668" y="2286"/>
                  <a:pt x="10601" y="2373"/>
                  <a:pt x="10592" y="2406"/>
                </a:cubicBezTo>
                <a:cubicBezTo>
                  <a:pt x="10573" y="2478"/>
                  <a:pt x="10562" y="2558"/>
                  <a:pt x="10542" y="2629"/>
                </a:cubicBezTo>
                <a:cubicBezTo>
                  <a:pt x="10523" y="2694"/>
                  <a:pt x="10497" y="2781"/>
                  <a:pt x="10517" y="2853"/>
                </a:cubicBezTo>
                <a:cubicBezTo>
                  <a:pt x="10544" y="2951"/>
                  <a:pt x="10599" y="3056"/>
                  <a:pt x="10716" y="3051"/>
                </a:cubicBezTo>
                <a:cubicBezTo>
                  <a:pt x="10748" y="3050"/>
                  <a:pt x="10847" y="2976"/>
                  <a:pt x="10864" y="2952"/>
                </a:cubicBezTo>
                <a:cubicBezTo>
                  <a:pt x="10897" y="2906"/>
                  <a:pt x="10974" y="2832"/>
                  <a:pt x="10988" y="2778"/>
                </a:cubicBezTo>
                <a:cubicBezTo>
                  <a:pt x="11002" y="2726"/>
                  <a:pt x="11013" y="2687"/>
                  <a:pt x="11013" y="2629"/>
                </a:cubicBezTo>
                <a:cubicBezTo>
                  <a:pt x="11013" y="2575"/>
                  <a:pt x="11001" y="2593"/>
                  <a:pt x="10988" y="2555"/>
                </a:cubicBezTo>
                <a:cubicBezTo>
                  <a:pt x="10976" y="2605"/>
                  <a:pt x="10964" y="2619"/>
                  <a:pt x="10964" y="2679"/>
                </a:cubicBezTo>
                <a:cubicBezTo>
                  <a:pt x="10964" y="2761"/>
                  <a:pt x="10966" y="2832"/>
                  <a:pt x="10988" y="2902"/>
                </a:cubicBezTo>
                <a:cubicBezTo>
                  <a:pt x="10999" y="2938"/>
                  <a:pt x="11003" y="2973"/>
                  <a:pt x="11038" y="2977"/>
                </a:cubicBezTo>
                <a:cubicBezTo>
                  <a:pt x="11062" y="2980"/>
                  <a:pt x="11088" y="2977"/>
                  <a:pt x="11112" y="2977"/>
                </a:cubicBezTo>
              </a:path>
              <a:path w="1961" h="993">
                <a:moveTo>
                  <a:pt x="11361" y="2505"/>
                </a:moveTo>
                <a:cubicBezTo>
                  <a:pt x="11396" y="2515"/>
                  <a:pt x="11466" y="2546"/>
                  <a:pt x="11509" y="2530"/>
                </a:cubicBezTo>
                <a:cubicBezTo>
                  <a:pt x="11563" y="2511"/>
                  <a:pt x="11578" y="2505"/>
                  <a:pt x="11633" y="2505"/>
                </a:cubicBezTo>
                <a:cubicBezTo>
                  <a:pt x="11633" y="2530"/>
                  <a:pt x="11633" y="2538"/>
                  <a:pt x="11658" y="2530"/>
                </a:cubicBezTo>
              </a:path>
              <a:path w="1961" h="993">
                <a:moveTo>
                  <a:pt x="11361" y="2729"/>
                </a:moveTo>
                <a:cubicBezTo>
                  <a:pt x="11443" y="2729"/>
                  <a:pt x="11491" y="2725"/>
                  <a:pt x="11559" y="2704"/>
                </a:cubicBezTo>
                <a:cubicBezTo>
                  <a:pt x="11588" y="2695"/>
                  <a:pt x="11628" y="2704"/>
                  <a:pt x="11658" y="2704"/>
                </a:cubicBezTo>
              </a:path>
              <a:path w="1961" h="993">
                <a:moveTo>
                  <a:pt x="12055" y="2183"/>
                </a:moveTo>
                <a:cubicBezTo>
                  <a:pt x="12102" y="2149"/>
                  <a:pt x="12162" y="2112"/>
                  <a:pt x="12204" y="2084"/>
                </a:cubicBezTo>
                <a:cubicBezTo>
                  <a:pt x="12261" y="2046"/>
                  <a:pt x="12269" y="2066"/>
                  <a:pt x="12328" y="2084"/>
                </a:cubicBezTo>
                <a:cubicBezTo>
                  <a:pt x="12369" y="2096"/>
                  <a:pt x="12397" y="2110"/>
                  <a:pt x="12402" y="2158"/>
                </a:cubicBezTo>
                <a:cubicBezTo>
                  <a:pt x="12406" y="2199"/>
                  <a:pt x="12379" y="2254"/>
                  <a:pt x="12353" y="2282"/>
                </a:cubicBezTo>
                <a:cubicBezTo>
                  <a:pt x="12305" y="2334"/>
                  <a:pt x="12254" y="2361"/>
                  <a:pt x="12204" y="2406"/>
                </a:cubicBezTo>
                <a:cubicBezTo>
                  <a:pt x="12169" y="2438"/>
                  <a:pt x="12161" y="2470"/>
                  <a:pt x="12129" y="2480"/>
                </a:cubicBezTo>
                <a:cubicBezTo>
                  <a:pt x="12184" y="2480"/>
                  <a:pt x="12164" y="2461"/>
                  <a:pt x="12204" y="2456"/>
                </a:cubicBezTo>
                <a:cubicBezTo>
                  <a:pt x="12260" y="2449"/>
                  <a:pt x="12337" y="2447"/>
                  <a:pt x="12378" y="2480"/>
                </a:cubicBezTo>
                <a:cubicBezTo>
                  <a:pt x="12431" y="2523"/>
                  <a:pt x="12433" y="2577"/>
                  <a:pt x="12452" y="2629"/>
                </a:cubicBezTo>
                <a:cubicBezTo>
                  <a:pt x="12477" y="2699"/>
                  <a:pt x="12478" y="2717"/>
                  <a:pt x="12452" y="2778"/>
                </a:cubicBezTo>
                <a:cubicBezTo>
                  <a:pt x="12425" y="2841"/>
                  <a:pt x="12393" y="2861"/>
                  <a:pt x="12328" y="2877"/>
                </a:cubicBezTo>
                <a:cubicBezTo>
                  <a:pt x="12250" y="2896"/>
                  <a:pt x="12144" y="2872"/>
                  <a:pt x="12080" y="2853"/>
                </a:cubicBezTo>
                <a:cubicBezTo>
                  <a:pt x="12037" y="2841"/>
                  <a:pt x="12053" y="2838"/>
                  <a:pt x="12080" y="28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803840" y="750960"/>
            <a:ext cx="866880" cy="374400"/>
          </a:xfrm>
          <a:custGeom>
            <a:avLst/>
            <a:gdLst/>
            <a:ahLst/>
            <a:rect l="l" t="t" r="r" b="b"/>
            <a:pathLst>
              <a:path w="2407" h="1042">
                <a:moveTo>
                  <a:pt x="13395" y="2480"/>
                </a:moveTo>
                <a:cubicBezTo>
                  <a:pt x="13420" y="2550"/>
                  <a:pt x="13419" y="2604"/>
                  <a:pt x="13419" y="2679"/>
                </a:cubicBezTo>
                <a:cubicBezTo>
                  <a:pt x="13419" y="2828"/>
                  <a:pt x="13419" y="2976"/>
                  <a:pt x="13419" y="3125"/>
                </a:cubicBezTo>
                <a:cubicBezTo>
                  <a:pt x="13419" y="3049"/>
                  <a:pt x="13411" y="2998"/>
                  <a:pt x="13395" y="2927"/>
                </a:cubicBezTo>
                <a:cubicBezTo>
                  <a:pt x="13383" y="2872"/>
                  <a:pt x="13373" y="2809"/>
                  <a:pt x="13370" y="2753"/>
                </a:cubicBezTo>
                <a:cubicBezTo>
                  <a:pt x="13365" y="2668"/>
                  <a:pt x="13356" y="2638"/>
                  <a:pt x="13370" y="2555"/>
                </a:cubicBezTo>
                <a:cubicBezTo>
                  <a:pt x="13380" y="2496"/>
                  <a:pt x="13368" y="2429"/>
                  <a:pt x="13419" y="2381"/>
                </a:cubicBezTo>
                <a:cubicBezTo>
                  <a:pt x="13459" y="2344"/>
                  <a:pt x="13538" y="2312"/>
                  <a:pt x="13593" y="2332"/>
                </a:cubicBezTo>
                <a:cubicBezTo>
                  <a:pt x="13615" y="2340"/>
                  <a:pt x="13712" y="2401"/>
                  <a:pt x="13717" y="2431"/>
                </a:cubicBezTo>
                <a:cubicBezTo>
                  <a:pt x="13734" y="2534"/>
                  <a:pt x="13713" y="2576"/>
                  <a:pt x="13667" y="2654"/>
                </a:cubicBezTo>
                <a:cubicBezTo>
                  <a:pt x="13632" y="2714"/>
                  <a:pt x="13603" y="2742"/>
                  <a:pt x="13543" y="2778"/>
                </a:cubicBezTo>
                <a:cubicBezTo>
                  <a:pt x="13527" y="2788"/>
                  <a:pt x="13418" y="2858"/>
                  <a:pt x="13395" y="2828"/>
                </a:cubicBezTo>
                <a:cubicBezTo>
                  <a:pt x="13395" y="2820"/>
                  <a:pt x="13395" y="2811"/>
                  <a:pt x="13395" y="2803"/>
                </a:cubicBezTo>
              </a:path>
              <a:path w="2407" h="1042">
                <a:moveTo>
                  <a:pt x="14163" y="2381"/>
                </a:moveTo>
                <a:cubicBezTo>
                  <a:pt x="14224" y="2372"/>
                  <a:pt x="14247" y="2356"/>
                  <a:pt x="14312" y="2356"/>
                </a:cubicBezTo>
                <a:cubicBezTo>
                  <a:pt x="14378" y="2356"/>
                  <a:pt x="14445" y="2356"/>
                  <a:pt x="14511" y="2356"/>
                </a:cubicBezTo>
              </a:path>
              <a:path w="2407" h="1042">
                <a:moveTo>
                  <a:pt x="14163" y="2555"/>
                </a:moveTo>
                <a:cubicBezTo>
                  <a:pt x="14214" y="2570"/>
                  <a:pt x="14323" y="2572"/>
                  <a:pt x="14387" y="2555"/>
                </a:cubicBezTo>
                <a:cubicBezTo>
                  <a:pt x="14421" y="2546"/>
                  <a:pt x="14441" y="2530"/>
                  <a:pt x="14486" y="2530"/>
                </a:cubicBezTo>
              </a:path>
              <a:path w="2407" h="1042">
                <a:moveTo>
                  <a:pt x="14883" y="2183"/>
                </a:moveTo>
                <a:cubicBezTo>
                  <a:pt x="14948" y="2150"/>
                  <a:pt x="15010" y="2098"/>
                  <a:pt x="15081" y="2084"/>
                </a:cubicBezTo>
                <a:cubicBezTo>
                  <a:pt x="15163" y="2068"/>
                  <a:pt x="15281" y="2078"/>
                  <a:pt x="15354" y="2108"/>
                </a:cubicBezTo>
                <a:cubicBezTo>
                  <a:pt x="15413" y="2132"/>
                  <a:pt x="15490" y="2169"/>
                  <a:pt x="15553" y="2183"/>
                </a:cubicBezTo>
                <a:cubicBezTo>
                  <a:pt x="15588" y="2191"/>
                  <a:pt x="15664" y="2227"/>
                  <a:pt x="15701" y="2208"/>
                </a:cubicBezTo>
                <a:cubicBezTo>
                  <a:pt x="15726" y="2183"/>
                  <a:pt x="15734" y="2175"/>
                  <a:pt x="15751" y="2158"/>
                </a:cubicBezTo>
              </a:path>
              <a:path w="2407" h="1042">
                <a:moveTo>
                  <a:pt x="15280" y="2108"/>
                </a:moveTo>
                <a:cubicBezTo>
                  <a:pt x="15260" y="2222"/>
                  <a:pt x="15230" y="2319"/>
                  <a:pt x="15230" y="2431"/>
                </a:cubicBezTo>
                <a:cubicBezTo>
                  <a:pt x="15230" y="2470"/>
                  <a:pt x="15205" y="2485"/>
                  <a:pt x="15205" y="2530"/>
                </a:cubicBezTo>
              </a:path>
              <a:path w="2407" h="1042">
                <a:moveTo>
                  <a:pt x="15379" y="2183"/>
                </a:moveTo>
                <a:cubicBezTo>
                  <a:pt x="15402" y="2266"/>
                  <a:pt x="15410" y="2303"/>
                  <a:pt x="15379" y="2381"/>
                </a:cubicBezTo>
                <a:cubicBezTo>
                  <a:pt x="15360" y="2430"/>
                  <a:pt x="15355" y="2491"/>
                  <a:pt x="15329" y="2530"/>
                </a:cubicBezTo>
                <a:cubicBezTo>
                  <a:pt x="15308" y="2561"/>
                  <a:pt x="15302" y="2574"/>
                  <a:pt x="15280" y="26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85920" y="3517920"/>
            <a:ext cx="214200" cy="27000"/>
          </a:xfrm>
          <a:custGeom>
            <a:avLst/>
            <a:gdLst/>
            <a:ahLst/>
            <a:rect l="l" t="t" r="r" b="b"/>
            <a:pathLst>
              <a:path w="596" h="75">
                <a:moveTo>
                  <a:pt x="3572" y="9847"/>
                </a:moveTo>
                <a:cubicBezTo>
                  <a:pt x="3653" y="9847"/>
                  <a:pt x="3720" y="9836"/>
                  <a:pt x="3795" y="9823"/>
                </a:cubicBezTo>
                <a:cubicBezTo>
                  <a:pt x="3912" y="9803"/>
                  <a:pt x="4048" y="9823"/>
                  <a:pt x="4167" y="9823"/>
                </a:cubicBezTo>
                <a:cubicBezTo>
                  <a:pt x="4155" y="9787"/>
                  <a:pt x="4130" y="9801"/>
                  <a:pt x="4093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76200" y="3143160"/>
            <a:ext cx="243000" cy="36720"/>
          </a:xfrm>
          <a:custGeom>
            <a:avLst/>
            <a:gdLst/>
            <a:ahLst/>
            <a:rect l="l" t="t" r="r" b="b"/>
            <a:pathLst>
              <a:path w="671" h="100">
                <a:moveTo>
                  <a:pt x="3547" y="8830"/>
                </a:moveTo>
                <a:cubicBezTo>
                  <a:pt x="3612" y="8830"/>
                  <a:pt x="3579" y="8812"/>
                  <a:pt x="3646" y="8806"/>
                </a:cubicBezTo>
                <a:cubicBezTo>
                  <a:pt x="3725" y="8799"/>
                  <a:pt x="3795" y="8794"/>
                  <a:pt x="3870" y="8781"/>
                </a:cubicBezTo>
                <a:cubicBezTo>
                  <a:pt x="3936" y="8770"/>
                  <a:pt x="4012" y="8767"/>
                  <a:pt x="4068" y="8756"/>
                </a:cubicBezTo>
                <a:cubicBezTo>
                  <a:pt x="4071" y="8755"/>
                  <a:pt x="4254" y="8759"/>
                  <a:pt x="4217" y="8731"/>
                </a:cubicBezTo>
                <a:cubicBezTo>
                  <a:pt x="4209" y="8731"/>
                  <a:pt x="4200" y="8731"/>
                  <a:pt x="4192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85920" y="2820960"/>
            <a:ext cx="233280" cy="9720"/>
          </a:xfrm>
          <a:custGeom>
            <a:avLst/>
            <a:gdLst/>
            <a:ahLst/>
            <a:rect l="l" t="t" r="r" b="b"/>
            <a:pathLst>
              <a:path w="646" h="26">
                <a:moveTo>
                  <a:pt x="3572" y="7863"/>
                </a:moveTo>
                <a:cubicBezTo>
                  <a:pt x="3654" y="7863"/>
                  <a:pt x="3713" y="7849"/>
                  <a:pt x="3795" y="7838"/>
                </a:cubicBezTo>
                <a:cubicBezTo>
                  <a:pt x="3943" y="7819"/>
                  <a:pt x="4247" y="7700"/>
                  <a:pt x="4192" y="7838"/>
                </a:cubicBezTo>
                <a:cubicBezTo>
                  <a:pt x="4192" y="7863"/>
                  <a:pt x="4192" y="7871"/>
                  <a:pt x="4167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95280" y="4276800"/>
            <a:ext cx="231840" cy="36360"/>
          </a:xfrm>
          <a:custGeom>
            <a:avLst/>
            <a:gdLst/>
            <a:ahLst/>
            <a:rect l="l" t="t" r="r" b="b"/>
            <a:pathLst>
              <a:path w="646" h="101">
                <a:moveTo>
                  <a:pt x="3597" y="11881"/>
                </a:moveTo>
                <a:cubicBezTo>
                  <a:pt x="3651" y="11881"/>
                  <a:pt x="3679" y="11897"/>
                  <a:pt x="3721" y="11906"/>
                </a:cubicBezTo>
                <a:cubicBezTo>
                  <a:pt x="3781" y="11919"/>
                  <a:pt x="3859" y="11928"/>
                  <a:pt x="3919" y="11931"/>
                </a:cubicBezTo>
                <a:cubicBezTo>
                  <a:pt x="4008" y="11935"/>
                  <a:pt x="4082" y="11968"/>
                  <a:pt x="4167" y="11981"/>
                </a:cubicBezTo>
                <a:cubicBezTo>
                  <a:pt x="4209" y="11981"/>
                  <a:pt x="4217" y="11981"/>
                  <a:pt x="4242" y="11981"/>
                </a:cubicBezTo>
                <a:cubicBezTo>
                  <a:pt x="4220" y="11964"/>
                  <a:pt x="4175" y="11937"/>
                  <a:pt x="4142" y="11956"/>
                </a:cubicBezTo>
                <a:cubicBezTo>
                  <a:pt x="4134" y="11964"/>
                  <a:pt x="4126" y="11973"/>
                  <a:pt x="4118" y="119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276200" y="4643280"/>
            <a:ext cx="216000" cy="17640"/>
          </a:xfrm>
          <a:custGeom>
            <a:avLst/>
            <a:gdLst/>
            <a:ahLst/>
            <a:rect l="l" t="t" r="r" b="b"/>
            <a:pathLst>
              <a:path w="596" h="51">
                <a:moveTo>
                  <a:pt x="3547" y="12948"/>
                </a:moveTo>
                <a:cubicBezTo>
                  <a:pt x="3578" y="12925"/>
                  <a:pt x="3607" y="12902"/>
                  <a:pt x="3646" y="12898"/>
                </a:cubicBezTo>
                <a:cubicBezTo>
                  <a:pt x="3728" y="12889"/>
                  <a:pt x="3795" y="12905"/>
                  <a:pt x="3870" y="12923"/>
                </a:cubicBezTo>
                <a:cubicBezTo>
                  <a:pt x="3951" y="12942"/>
                  <a:pt x="4058" y="12923"/>
                  <a:pt x="4142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276200" y="4956120"/>
            <a:ext cx="268560" cy="81000"/>
          </a:xfrm>
          <a:custGeom>
            <a:avLst/>
            <a:gdLst/>
            <a:ahLst/>
            <a:rect l="l" t="t" r="r" b="b"/>
            <a:pathLst>
              <a:path w="745" h="224">
                <a:moveTo>
                  <a:pt x="3547" y="13915"/>
                </a:moveTo>
                <a:cubicBezTo>
                  <a:pt x="3628" y="13915"/>
                  <a:pt x="3691" y="13929"/>
                  <a:pt x="3770" y="13940"/>
                </a:cubicBezTo>
                <a:cubicBezTo>
                  <a:pt x="3838" y="13950"/>
                  <a:pt x="3904" y="13954"/>
                  <a:pt x="3969" y="13965"/>
                </a:cubicBezTo>
                <a:cubicBezTo>
                  <a:pt x="4038" y="13977"/>
                  <a:pt x="4103" y="13985"/>
                  <a:pt x="4167" y="13990"/>
                </a:cubicBezTo>
                <a:cubicBezTo>
                  <a:pt x="4216" y="13994"/>
                  <a:pt x="4240" y="14033"/>
                  <a:pt x="4266" y="13990"/>
                </a:cubicBezTo>
                <a:cubicBezTo>
                  <a:pt x="4274" y="13982"/>
                  <a:pt x="4283" y="13973"/>
                  <a:pt x="4291" y="13965"/>
                </a:cubicBezTo>
              </a:path>
              <a:path w="745" h="224">
                <a:moveTo>
                  <a:pt x="3746" y="13915"/>
                </a:moveTo>
                <a:cubicBezTo>
                  <a:pt x="3746" y="13977"/>
                  <a:pt x="3727" y="13984"/>
                  <a:pt x="3795" y="13990"/>
                </a:cubicBezTo>
                <a:cubicBezTo>
                  <a:pt x="3831" y="13993"/>
                  <a:pt x="3900" y="14003"/>
                  <a:pt x="3919" y="13965"/>
                </a:cubicBezTo>
                <a:cubicBezTo>
                  <a:pt x="3928" y="13946"/>
                  <a:pt x="3959" y="13893"/>
                  <a:pt x="3944" y="13866"/>
                </a:cubicBezTo>
                <a:cubicBezTo>
                  <a:pt x="3924" y="13831"/>
                  <a:pt x="3913" y="13796"/>
                  <a:pt x="3870" y="13791"/>
                </a:cubicBezTo>
                <a:cubicBezTo>
                  <a:pt x="3818" y="13785"/>
                  <a:pt x="3815" y="13806"/>
                  <a:pt x="3795" y="13816"/>
                </a:cubicBezTo>
                <a:cubicBezTo>
                  <a:pt x="3760" y="13833"/>
                  <a:pt x="3770" y="13842"/>
                  <a:pt x="3770" y="13891"/>
                </a:cubicBezTo>
                <a:cubicBezTo>
                  <a:pt x="3797" y="13897"/>
                  <a:pt x="3838" y="13932"/>
                  <a:pt x="3870" y="13915"/>
                </a:cubicBezTo>
                <a:cubicBezTo>
                  <a:pt x="3913" y="13891"/>
                  <a:pt x="3919" y="13859"/>
                  <a:pt x="3919" y="13816"/>
                </a:cubicBezTo>
                <a:cubicBezTo>
                  <a:pt x="3919" y="13808"/>
                  <a:pt x="3919" y="13799"/>
                  <a:pt x="3919" y="13791"/>
                </a:cubicBezTo>
                <a:cubicBezTo>
                  <a:pt x="3882" y="13764"/>
                  <a:pt x="3840" y="13769"/>
                  <a:pt x="3795" y="13791"/>
                </a:cubicBezTo>
                <a:cubicBezTo>
                  <a:pt x="3754" y="13812"/>
                  <a:pt x="3740" y="13863"/>
                  <a:pt x="3721" y="13891"/>
                </a:cubicBezTo>
                <a:cubicBezTo>
                  <a:pt x="3702" y="13919"/>
                  <a:pt x="3685" y="13966"/>
                  <a:pt x="3721" y="13990"/>
                </a:cubicBezTo>
                <a:cubicBezTo>
                  <a:pt x="3759" y="14015"/>
                  <a:pt x="3866" y="13991"/>
                  <a:pt x="3894" y="13965"/>
                </a:cubicBezTo>
                <a:cubicBezTo>
                  <a:pt x="3933" y="13930"/>
                  <a:pt x="3944" y="13917"/>
                  <a:pt x="3944" y="13866"/>
                </a:cubicBezTo>
                <a:cubicBezTo>
                  <a:pt x="3944" y="13829"/>
                  <a:pt x="3901" y="13802"/>
                  <a:pt x="3870" y="13791"/>
                </a:cubicBezTo>
                <a:cubicBezTo>
                  <a:pt x="3845" y="13791"/>
                  <a:pt x="3837" y="13791"/>
                  <a:pt x="3820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089000" y="2830680"/>
            <a:ext cx="1849320" cy="2170080"/>
          </a:xfrm>
          <a:custGeom>
            <a:avLst/>
            <a:gdLst/>
            <a:ahLst/>
            <a:rect l="l" t="t" r="r" b="b"/>
            <a:pathLst>
              <a:path w="5136" h="6029">
                <a:moveTo>
                  <a:pt x="7938" y="10567"/>
                </a:moveTo>
                <a:cubicBezTo>
                  <a:pt x="7906" y="10609"/>
                  <a:pt x="7913" y="10635"/>
                  <a:pt x="7913" y="10691"/>
                </a:cubicBezTo>
                <a:cubicBezTo>
                  <a:pt x="7913" y="10757"/>
                  <a:pt x="7934" y="10800"/>
                  <a:pt x="7938" y="10864"/>
                </a:cubicBezTo>
                <a:cubicBezTo>
                  <a:pt x="7944" y="10969"/>
                  <a:pt x="7932" y="11069"/>
                  <a:pt x="7962" y="11162"/>
                </a:cubicBezTo>
                <a:cubicBezTo>
                  <a:pt x="7962" y="11187"/>
                  <a:pt x="7962" y="11195"/>
                  <a:pt x="7962" y="11212"/>
                </a:cubicBezTo>
              </a:path>
              <a:path w="5136" h="6029">
                <a:moveTo>
                  <a:pt x="7565" y="11782"/>
                </a:moveTo>
                <a:cubicBezTo>
                  <a:pt x="7597" y="11774"/>
                  <a:pt x="7627" y="11743"/>
                  <a:pt x="7665" y="11757"/>
                </a:cubicBezTo>
                <a:cubicBezTo>
                  <a:pt x="7738" y="11783"/>
                  <a:pt x="7783" y="11782"/>
                  <a:pt x="7863" y="11782"/>
                </a:cubicBezTo>
                <a:cubicBezTo>
                  <a:pt x="7929" y="11782"/>
                  <a:pt x="7977" y="11803"/>
                  <a:pt x="8037" y="11807"/>
                </a:cubicBezTo>
                <a:cubicBezTo>
                  <a:pt x="8078" y="11810"/>
                  <a:pt x="8120" y="11807"/>
                  <a:pt x="8161" y="11807"/>
                </a:cubicBezTo>
                <a:cubicBezTo>
                  <a:pt x="8150" y="11775"/>
                  <a:pt x="8127" y="11767"/>
                  <a:pt x="8086" y="11757"/>
                </a:cubicBezTo>
              </a:path>
              <a:path w="5136" h="6029">
                <a:moveTo>
                  <a:pt x="7714" y="11733"/>
                </a:moveTo>
                <a:cubicBezTo>
                  <a:pt x="7714" y="11814"/>
                  <a:pt x="7699" y="11875"/>
                  <a:pt x="7689" y="11956"/>
                </a:cubicBezTo>
                <a:cubicBezTo>
                  <a:pt x="7683" y="12007"/>
                  <a:pt x="7668" y="12057"/>
                  <a:pt x="7665" y="12105"/>
                </a:cubicBezTo>
                <a:cubicBezTo>
                  <a:pt x="7662" y="12159"/>
                  <a:pt x="7619" y="12189"/>
                  <a:pt x="7665" y="12204"/>
                </a:cubicBezTo>
              </a:path>
              <a:path w="5136" h="6029">
                <a:moveTo>
                  <a:pt x="8012" y="11782"/>
                </a:moveTo>
                <a:cubicBezTo>
                  <a:pt x="8012" y="11943"/>
                  <a:pt x="7989" y="12136"/>
                  <a:pt x="8037" y="12278"/>
                </a:cubicBezTo>
                <a:cubicBezTo>
                  <a:pt x="8048" y="12310"/>
                  <a:pt x="8020" y="12292"/>
                  <a:pt x="8062" y="12278"/>
                </a:cubicBezTo>
              </a:path>
              <a:path w="5136" h="6029">
                <a:moveTo>
                  <a:pt x="4862" y="10790"/>
                </a:moveTo>
                <a:cubicBezTo>
                  <a:pt x="4870" y="10790"/>
                  <a:pt x="4879" y="10790"/>
                  <a:pt x="4887" y="10790"/>
                </a:cubicBezTo>
                <a:cubicBezTo>
                  <a:pt x="4874" y="10752"/>
                  <a:pt x="4857" y="10765"/>
                  <a:pt x="4812" y="10765"/>
                </a:cubicBezTo>
                <a:cubicBezTo>
                  <a:pt x="4771" y="10765"/>
                  <a:pt x="4764" y="10811"/>
                  <a:pt x="4787" y="10840"/>
                </a:cubicBezTo>
                <a:cubicBezTo>
                  <a:pt x="4827" y="10891"/>
                  <a:pt x="4847" y="10853"/>
                  <a:pt x="4887" y="10840"/>
                </a:cubicBezTo>
                <a:cubicBezTo>
                  <a:pt x="4921" y="10829"/>
                  <a:pt x="4911" y="10831"/>
                  <a:pt x="4911" y="10790"/>
                </a:cubicBezTo>
                <a:cubicBezTo>
                  <a:pt x="4874" y="10761"/>
                  <a:pt x="4860" y="10765"/>
                  <a:pt x="4812" y="10765"/>
                </a:cubicBezTo>
                <a:cubicBezTo>
                  <a:pt x="4765" y="10765"/>
                  <a:pt x="4747" y="10802"/>
                  <a:pt x="4738" y="10840"/>
                </a:cubicBezTo>
                <a:cubicBezTo>
                  <a:pt x="4775" y="10868"/>
                  <a:pt x="4790" y="10864"/>
                  <a:pt x="4837" y="10864"/>
                </a:cubicBezTo>
                <a:cubicBezTo>
                  <a:pt x="4876" y="10864"/>
                  <a:pt x="4862" y="10848"/>
                  <a:pt x="4862" y="10815"/>
                </a:cubicBezTo>
                <a:cubicBezTo>
                  <a:pt x="4845" y="10746"/>
                  <a:pt x="4839" y="10784"/>
                  <a:pt x="4787" y="10790"/>
                </a:cubicBezTo>
                <a:cubicBezTo>
                  <a:pt x="4755" y="10794"/>
                  <a:pt x="4747" y="10813"/>
                  <a:pt x="4738" y="10840"/>
                </a:cubicBezTo>
              </a:path>
              <a:path w="5136" h="6029">
                <a:moveTo>
                  <a:pt x="6921" y="10889"/>
                </a:moveTo>
                <a:cubicBezTo>
                  <a:pt x="6976" y="10931"/>
                  <a:pt x="6967" y="10907"/>
                  <a:pt x="7020" y="10889"/>
                </a:cubicBezTo>
                <a:cubicBezTo>
                  <a:pt x="7058" y="10876"/>
                  <a:pt x="7059" y="10882"/>
                  <a:pt x="7069" y="10840"/>
                </a:cubicBezTo>
                <a:cubicBezTo>
                  <a:pt x="7057" y="10802"/>
                  <a:pt x="7040" y="10815"/>
                  <a:pt x="6995" y="10815"/>
                </a:cubicBezTo>
                <a:cubicBezTo>
                  <a:pt x="6963" y="10815"/>
                  <a:pt x="6951" y="10832"/>
                  <a:pt x="6921" y="10840"/>
                </a:cubicBezTo>
                <a:cubicBezTo>
                  <a:pt x="6921" y="10880"/>
                  <a:pt x="6927" y="10920"/>
                  <a:pt x="6970" y="10939"/>
                </a:cubicBezTo>
                <a:cubicBezTo>
                  <a:pt x="7006" y="10955"/>
                  <a:pt x="7055" y="10921"/>
                  <a:pt x="7069" y="10889"/>
                </a:cubicBezTo>
                <a:cubicBezTo>
                  <a:pt x="7069" y="10864"/>
                  <a:pt x="7069" y="10856"/>
                  <a:pt x="7069" y="10840"/>
                </a:cubicBezTo>
                <a:cubicBezTo>
                  <a:pt x="7013" y="10796"/>
                  <a:pt x="7012" y="10823"/>
                  <a:pt x="6945" y="10840"/>
                </a:cubicBezTo>
                <a:cubicBezTo>
                  <a:pt x="6917" y="10840"/>
                  <a:pt x="6907" y="10842"/>
                  <a:pt x="6896" y="10864"/>
                </a:cubicBezTo>
              </a:path>
              <a:path w="5136" h="6029">
                <a:moveTo>
                  <a:pt x="3026" y="12650"/>
                </a:moveTo>
                <a:cubicBezTo>
                  <a:pt x="3026" y="12716"/>
                  <a:pt x="3026" y="12783"/>
                  <a:pt x="3026" y="12849"/>
                </a:cubicBezTo>
                <a:cubicBezTo>
                  <a:pt x="3032" y="12860"/>
                  <a:pt x="3063" y="12894"/>
                  <a:pt x="3076" y="12923"/>
                </a:cubicBezTo>
                <a:cubicBezTo>
                  <a:pt x="3091" y="12957"/>
                  <a:pt x="3110" y="12988"/>
                  <a:pt x="3125" y="13022"/>
                </a:cubicBezTo>
                <a:cubicBezTo>
                  <a:pt x="3125" y="13030"/>
                  <a:pt x="3125" y="13039"/>
                  <a:pt x="3125" y="13047"/>
                </a:cubicBezTo>
                <a:cubicBezTo>
                  <a:pt x="3160" y="13070"/>
                  <a:pt x="3142" y="13047"/>
                  <a:pt x="3150" y="13097"/>
                </a:cubicBezTo>
                <a:cubicBezTo>
                  <a:pt x="3153" y="13103"/>
                  <a:pt x="3189" y="13146"/>
                  <a:pt x="3200" y="13171"/>
                </a:cubicBezTo>
                <a:cubicBezTo>
                  <a:pt x="3213" y="13202"/>
                  <a:pt x="3209" y="13241"/>
                  <a:pt x="3225" y="13271"/>
                </a:cubicBezTo>
                <a:cubicBezTo>
                  <a:pt x="3243" y="13305"/>
                  <a:pt x="3258" y="13339"/>
                  <a:pt x="3274" y="13370"/>
                </a:cubicBezTo>
                <a:cubicBezTo>
                  <a:pt x="3292" y="13406"/>
                  <a:pt x="3309" y="13433"/>
                  <a:pt x="3324" y="13469"/>
                </a:cubicBezTo>
                <a:cubicBezTo>
                  <a:pt x="3338" y="13502"/>
                  <a:pt x="3353" y="13565"/>
                  <a:pt x="3373" y="13593"/>
                </a:cubicBezTo>
                <a:cubicBezTo>
                  <a:pt x="3424" y="13665"/>
                  <a:pt x="3516" y="13717"/>
                  <a:pt x="3572" y="13767"/>
                </a:cubicBezTo>
                <a:cubicBezTo>
                  <a:pt x="3594" y="13800"/>
                  <a:pt x="3573" y="13783"/>
                  <a:pt x="3621" y="13791"/>
                </a:cubicBezTo>
                <a:cubicBezTo>
                  <a:pt x="3644" y="13826"/>
                  <a:pt x="3621" y="13808"/>
                  <a:pt x="3671" y="13816"/>
                </a:cubicBezTo>
                <a:cubicBezTo>
                  <a:pt x="3671" y="13816"/>
                  <a:pt x="3725" y="13861"/>
                  <a:pt x="3746" y="13866"/>
                </a:cubicBezTo>
                <a:cubicBezTo>
                  <a:pt x="3783" y="13875"/>
                  <a:pt x="3810" y="13884"/>
                  <a:pt x="3845" y="13891"/>
                </a:cubicBezTo>
                <a:cubicBezTo>
                  <a:pt x="3877" y="13897"/>
                  <a:pt x="3912" y="13884"/>
                  <a:pt x="3944" y="13891"/>
                </a:cubicBezTo>
                <a:cubicBezTo>
                  <a:pt x="3961" y="13877"/>
                  <a:pt x="3987" y="13859"/>
                  <a:pt x="4018" y="13841"/>
                </a:cubicBezTo>
                <a:cubicBezTo>
                  <a:pt x="4033" y="13818"/>
                  <a:pt x="4053" y="13803"/>
                  <a:pt x="4068" y="13767"/>
                </a:cubicBezTo>
                <a:cubicBezTo>
                  <a:pt x="4077" y="13745"/>
                  <a:pt x="4083" y="13714"/>
                  <a:pt x="4093" y="13692"/>
                </a:cubicBezTo>
                <a:cubicBezTo>
                  <a:pt x="4100" y="13678"/>
                  <a:pt x="4130" y="13654"/>
                  <a:pt x="4142" y="13618"/>
                </a:cubicBezTo>
                <a:cubicBezTo>
                  <a:pt x="4153" y="13586"/>
                  <a:pt x="4155" y="13552"/>
                  <a:pt x="4167" y="13519"/>
                </a:cubicBezTo>
                <a:cubicBezTo>
                  <a:pt x="4170" y="13513"/>
                  <a:pt x="4211" y="13470"/>
                  <a:pt x="4217" y="13444"/>
                </a:cubicBezTo>
                <a:cubicBezTo>
                  <a:pt x="4217" y="13419"/>
                  <a:pt x="4217" y="13411"/>
                  <a:pt x="4217" y="13395"/>
                </a:cubicBezTo>
                <a:cubicBezTo>
                  <a:pt x="4228" y="13374"/>
                  <a:pt x="4238" y="13370"/>
                  <a:pt x="4242" y="13320"/>
                </a:cubicBezTo>
                <a:cubicBezTo>
                  <a:pt x="4242" y="13312"/>
                  <a:pt x="4242" y="13303"/>
                  <a:pt x="4242" y="13295"/>
                </a:cubicBezTo>
                <a:cubicBezTo>
                  <a:pt x="4243" y="13293"/>
                  <a:pt x="4258" y="13247"/>
                  <a:pt x="4266" y="13221"/>
                </a:cubicBezTo>
                <a:cubicBezTo>
                  <a:pt x="4284" y="13161"/>
                  <a:pt x="4304" y="13103"/>
                  <a:pt x="4316" y="13047"/>
                </a:cubicBezTo>
                <a:cubicBezTo>
                  <a:pt x="4327" y="13000"/>
                  <a:pt x="4332" y="12971"/>
                  <a:pt x="4341" y="12923"/>
                </a:cubicBezTo>
                <a:cubicBezTo>
                  <a:pt x="4348" y="12883"/>
                  <a:pt x="4359" y="12861"/>
                  <a:pt x="4366" y="12824"/>
                </a:cubicBezTo>
                <a:cubicBezTo>
                  <a:pt x="4375" y="12778"/>
                  <a:pt x="4382" y="12742"/>
                  <a:pt x="4390" y="12700"/>
                </a:cubicBezTo>
                <a:cubicBezTo>
                  <a:pt x="4398" y="12657"/>
                  <a:pt x="4402" y="12597"/>
                  <a:pt x="4415" y="12551"/>
                </a:cubicBezTo>
                <a:cubicBezTo>
                  <a:pt x="4429" y="12504"/>
                  <a:pt x="4454" y="12452"/>
                  <a:pt x="4465" y="12402"/>
                </a:cubicBezTo>
                <a:cubicBezTo>
                  <a:pt x="4476" y="12355"/>
                  <a:pt x="4481" y="12326"/>
                  <a:pt x="4490" y="12278"/>
                </a:cubicBezTo>
                <a:cubicBezTo>
                  <a:pt x="4499" y="12228"/>
                  <a:pt x="4505" y="12180"/>
                  <a:pt x="4514" y="12129"/>
                </a:cubicBezTo>
                <a:cubicBezTo>
                  <a:pt x="4519" y="12097"/>
                  <a:pt x="4532" y="12047"/>
                  <a:pt x="4539" y="12005"/>
                </a:cubicBezTo>
                <a:cubicBezTo>
                  <a:pt x="4548" y="11953"/>
                  <a:pt x="4560" y="11912"/>
                  <a:pt x="4564" y="11857"/>
                </a:cubicBezTo>
                <a:cubicBezTo>
                  <a:pt x="4569" y="11791"/>
                  <a:pt x="4585" y="11709"/>
                  <a:pt x="4589" y="11658"/>
                </a:cubicBezTo>
                <a:cubicBezTo>
                  <a:pt x="4594" y="11590"/>
                  <a:pt x="4606" y="11515"/>
                  <a:pt x="4614" y="11460"/>
                </a:cubicBezTo>
                <a:cubicBezTo>
                  <a:pt x="4621" y="11406"/>
                  <a:pt x="4629" y="11383"/>
                  <a:pt x="4638" y="11336"/>
                </a:cubicBezTo>
                <a:cubicBezTo>
                  <a:pt x="4650" y="11278"/>
                  <a:pt x="4647" y="11240"/>
                  <a:pt x="4663" y="11187"/>
                </a:cubicBezTo>
                <a:cubicBezTo>
                  <a:pt x="4676" y="11145"/>
                  <a:pt x="4703" y="11107"/>
                  <a:pt x="4713" y="11063"/>
                </a:cubicBezTo>
                <a:cubicBezTo>
                  <a:pt x="4720" y="11032"/>
                  <a:pt x="4736" y="10938"/>
                  <a:pt x="4738" y="10914"/>
                </a:cubicBezTo>
                <a:cubicBezTo>
                  <a:pt x="4746" y="10833"/>
                  <a:pt x="4750" y="10765"/>
                  <a:pt x="4762" y="10691"/>
                </a:cubicBezTo>
                <a:cubicBezTo>
                  <a:pt x="4770" y="10644"/>
                  <a:pt x="4781" y="10608"/>
                  <a:pt x="4787" y="10567"/>
                </a:cubicBezTo>
                <a:cubicBezTo>
                  <a:pt x="4795" y="10516"/>
                  <a:pt x="4799" y="10488"/>
                  <a:pt x="4812" y="10443"/>
                </a:cubicBezTo>
                <a:cubicBezTo>
                  <a:pt x="4826" y="10394"/>
                  <a:pt x="4847" y="10363"/>
                  <a:pt x="4862" y="10319"/>
                </a:cubicBezTo>
                <a:cubicBezTo>
                  <a:pt x="4876" y="10277"/>
                  <a:pt x="4872" y="10235"/>
                  <a:pt x="4887" y="10195"/>
                </a:cubicBezTo>
                <a:cubicBezTo>
                  <a:pt x="4904" y="10147"/>
                  <a:pt x="4925" y="10096"/>
                  <a:pt x="4936" y="10046"/>
                </a:cubicBezTo>
                <a:cubicBezTo>
                  <a:pt x="4946" y="10001"/>
                  <a:pt x="4953" y="9963"/>
                  <a:pt x="4961" y="9922"/>
                </a:cubicBezTo>
                <a:cubicBezTo>
                  <a:pt x="4972" y="9864"/>
                  <a:pt x="4977" y="9829"/>
                  <a:pt x="4986" y="9773"/>
                </a:cubicBezTo>
                <a:cubicBezTo>
                  <a:pt x="4996" y="9714"/>
                  <a:pt x="5002" y="9656"/>
                  <a:pt x="5011" y="9599"/>
                </a:cubicBezTo>
                <a:cubicBezTo>
                  <a:pt x="5019" y="9551"/>
                  <a:pt x="5029" y="9489"/>
                  <a:pt x="5035" y="9451"/>
                </a:cubicBezTo>
                <a:cubicBezTo>
                  <a:pt x="5044" y="9397"/>
                  <a:pt x="5046" y="9355"/>
                  <a:pt x="5060" y="9302"/>
                </a:cubicBezTo>
                <a:cubicBezTo>
                  <a:pt x="5074" y="9247"/>
                  <a:pt x="5092" y="9205"/>
                  <a:pt x="5110" y="9153"/>
                </a:cubicBezTo>
                <a:cubicBezTo>
                  <a:pt x="5133" y="9086"/>
                  <a:pt x="5158" y="9044"/>
                  <a:pt x="5184" y="8979"/>
                </a:cubicBezTo>
                <a:cubicBezTo>
                  <a:pt x="5201" y="8937"/>
                  <a:pt x="5213" y="8871"/>
                  <a:pt x="5234" y="8830"/>
                </a:cubicBezTo>
                <a:cubicBezTo>
                  <a:pt x="5258" y="8783"/>
                  <a:pt x="5288" y="8749"/>
                  <a:pt x="5308" y="8706"/>
                </a:cubicBezTo>
                <a:cubicBezTo>
                  <a:pt x="5327" y="8665"/>
                  <a:pt x="5340" y="8624"/>
                  <a:pt x="5358" y="8582"/>
                </a:cubicBezTo>
                <a:cubicBezTo>
                  <a:pt x="5375" y="8541"/>
                  <a:pt x="5390" y="8500"/>
                  <a:pt x="5407" y="8458"/>
                </a:cubicBezTo>
                <a:cubicBezTo>
                  <a:pt x="5424" y="8415"/>
                  <a:pt x="5437" y="8350"/>
                  <a:pt x="5457" y="8310"/>
                </a:cubicBezTo>
                <a:cubicBezTo>
                  <a:pt x="5475" y="8275"/>
                  <a:pt x="5492" y="8246"/>
                  <a:pt x="5507" y="8210"/>
                </a:cubicBezTo>
                <a:cubicBezTo>
                  <a:pt x="5529" y="8188"/>
                  <a:pt x="5537" y="8183"/>
                  <a:pt x="5531" y="8161"/>
                </a:cubicBezTo>
                <a:cubicBezTo>
                  <a:pt x="5536" y="8150"/>
                  <a:pt x="5566" y="8092"/>
                  <a:pt x="5581" y="8062"/>
                </a:cubicBezTo>
                <a:cubicBezTo>
                  <a:pt x="5595" y="8045"/>
                  <a:pt x="5613" y="8018"/>
                  <a:pt x="5631" y="7987"/>
                </a:cubicBezTo>
                <a:cubicBezTo>
                  <a:pt x="5657" y="7980"/>
                  <a:pt x="5660" y="7977"/>
                  <a:pt x="5680" y="7962"/>
                </a:cubicBezTo>
                <a:cubicBezTo>
                  <a:pt x="5697" y="7953"/>
                  <a:pt x="5715" y="7923"/>
                  <a:pt x="5755" y="7913"/>
                </a:cubicBezTo>
                <a:cubicBezTo>
                  <a:pt x="5783" y="7906"/>
                  <a:pt x="5846" y="7899"/>
                  <a:pt x="5879" y="7888"/>
                </a:cubicBezTo>
                <a:cubicBezTo>
                  <a:pt x="5907" y="7888"/>
                  <a:pt x="5918" y="7886"/>
                  <a:pt x="5928" y="7863"/>
                </a:cubicBezTo>
                <a:cubicBezTo>
                  <a:pt x="5946" y="7872"/>
                  <a:pt x="5935" y="7881"/>
                  <a:pt x="5978" y="7888"/>
                </a:cubicBezTo>
              </a:path>
              <a:path w="5136" h="6029">
                <a:moveTo>
                  <a:pt x="5953" y="7888"/>
                </a:moveTo>
                <a:cubicBezTo>
                  <a:pt x="5998" y="7902"/>
                  <a:pt x="6035" y="7894"/>
                  <a:pt x="6077" y="7913"/>
                </a:cubicBezTo>
                <a:cubicBezTo>
                  <a:pt x="6103" y="7925"/>
                  <a:pt x="6155" y="7947"/>
                  <a:pt x="6176" y="7962"/>
                </a:cubicBezTo>
                <a:cubicBezTo>
                  <a:pt x="6223" y="7994"/>
                  <a:pt x="6249" y="8049"/>
                  <a:pt x="6276" y="8086"/>
                </a:cubicBezTo>
                <a:cubicBezTo>
                  <a:pt x="6306" y="8127"/>
                  <a:pt x="6326" y="8170"/>
                  <a:pt x="6350" y="8210"/>
                </a:cubicBezTo>
                <a:cubicBezTo>
                  <a:pt x="6372" y="8245"/>
                  <a:pt x="6383" y="8274"/>
                  <a:pt x="6400" y="8310"/>
                </a:cubicBezTo>
                <a:cubicBezTo>
                  <a:pt x="6417" y="8347"/>
                  <a:pt x="6432" y="8402"/>
                  <a:pt x="6449" y="8434"/>
                </a:cubicBezTo>
                <a:cubicBezTo>
                  <a:pt x="6474" y="8481"/>
                  <a:pt x="6499" y="8505"/>
                  <a:pt x="6524" y="8558"/>
                </a:cubicBezTo>
                <a:cubicBezTo>
                  <a:pt x="6542" y="8598"/>
                  <a:pt x="6556" y="8642"/>
                  <a:pt x="6573" y="8682"/>
                </a:cubicBezTo>
                <a:cubicBezTo>
                  <a:pt x="6590" y="8721"/>
                  <a:pt x="6609" y="8768"/>
                  <a:pt x="6623" y="8806"/>
                </a:cubicBezTo>
                <a:cubicBezTo>
                  <a:pt x="6641" y="8857"/>
                  <a:pt x="6651" y="8899"/>
                  <a:pt x="6672" y="8954"/>
                </a:cubicBezTo>
                <a:cubicBezTo>
                  <a:pt x="6688" y="8996"/>
                  <a:pt x="6706" y="9037"/>
                  <a:pt x="6722" y="9079"/>
                </a:cubicBezTo>
                <a:cubicBezTo>
                  <a:pt x="6743" y="9132"/>
                  <a:pt x="6753" y="9196"/>
                  <a:pt x="6772" y="9252"/>
                </a:cubicBezTo>
                <a:cubicBezTo>
                  <a:pt x="6792" y="9310"/>
                  <a:pt x="6803" y="9370"/>
                  <a:pt x="6821" y="9426"/>
                </a:cubicBezTo>
                <a:cubicBezTo>
                  <a:pt x="6840" y="9485"/>
                  <a:pt x="6856" y="9518"/>
                  <a:pt x="6871" y="9575"/>
                </a:cubicBezTo>
                <a:cubicBezTo>
                  <a:pt x="6893" y="9660"/>
                  <a:pt x="6905" y="9742"/>
                  <a:pt x="6921" y="9823"/>
                </a:cubicBezTo>
                <a:cubicBezTo>
                  <a:pt x="6927" y="9856"/>
                  <a:pt x="6943" y="9923"/>
                  <a:pt x="6945" y="9947"/>
                </a:cubicBezTo>
                <a:cubicBezTo>
                  <a:pt x="6951" y="10021"/>
                  <a:pt x="6956" y="10075"/>
                  <a:pt x="6970" y="10145"/>
                </a:cubicBezTo>
                <a:cubicBezTo>
                  <a:pt x="6980" y="10194"/>
                  <a:pt x="6985" y="10245"/>
                  <a:pt x="6995" y="10294"/>
                </a:cubicBezTo>
                <a:cubicBezTo>
                  <a:pt x="7004" y="10341"/>
                  <a:pt x="7016" y="10398"/>
                  <a:pt x="7020" y="10443"/>
                </a:cubicBezTo>
                <a:cubicBezTo>
                  <a:pt x="7025" y="10500"/>
                  <a:pt x="7041" y="10572"/>
                  <a:pt x="7045" y="10616"/>
                </a:cubicBezTo>
                <a:cubicBezTo>
                  <a:pt x="7053" y="10711"/>
                  <a:pt x="7054" y="10806"/>
                  <a:pt x="7069" y="10889"/>
                </a:cubicBezTo>
                <a:cubicBezTo>
                  <a:pt x="7077" y="10932"/>
                  <a:pt x="7087" y="10978"/>
                  <a:pt x="7094" y="11013"/>
                </a:cubicBezTo>
                <a:cubicBezTo>
                  <a:pt x="7104" y="11062"/>
                  <a:pt x="7110" y="11094"/>
                  <a:pt x="7119" y="11137"/>
                </a:cubicBezTo>
                <a:cubicBezTo>
                  <a:pt x="7127" y="11179"/>
                  <a:pt x="7136" y="11219"/>
                  <a:pt x="7144" y="11261"/>
                </a:cubicBezTo>
                <a:cubicBezTo>
                  <a:pt x="7151" y="11298"/>
                  <a:pt x="7161" y="11321"/>
                  <a:pt x="7169" y="11361"/>
                </a:cubicBezTo>
                <a:cubicBezTo>
                  <a:pt x="7177" y="11404"/>
                  <a:pt x="7184" y="11437"/>
                  <a:pt x="7193" y="11485"/>
                </a:cubicBezTo>
                <a:cubicBezTo>
                  <a:pt x="7203" y="11534"/>
                  <a:pt x="7208" y="11583"/>
                  <a:pt x="7218" y="11633"/>
                </a:cubicBezTo>
                <a:cubicBezTo>
                  <a:pt x="7230" y="11694"/>
                  <a:pt x="7257" y="11752"/>
                  <a:pt x="7268" y="11807"/>
                </a:cubicBezTo>
                <a:cubicBezTo>
                  <a:pt x="7277" y="11853"/>
                  <a:pt x="7285" y="11889"/>
                  <a:pt x="7293" y="11931"/>
                </a:cubicBezTo>
                <a:cubicBezTo>
                  <a:pt x="7301" y="11974"/>
                  <a:pt x="7311" y="12011"/>
                  <a:pt x="7317" y="12055"/>
                </a:cubicBezTo>
                <a:cubicBezTo>
                  <a:pt x="7317" y="12072"/>
                  <a:pt x="7317" y="12088"/>
                  <a:pt x="7317" y="12105"/>
                </a:cubicBezTo>
                <a:cubicBezTo>
                  <a:pt x="7329" y="12162"/>
                  <a:pt x="7328" y="12198"/>
                  <a:pt x="7342" y="12254"/>
                </a:cubicBezTo>
                <a:cubicBezTo>
                  <a:pt x="7352" y="12294"/>
                  <a:pt x="7383" y="12335"/>
                  <a:pt x="7392" y="12378"/>
                </a:cubicBezTo>
                <a:cubicBezTo>
                  <a:pt x="7404" y="12433"/>
                  <a:pt x="7401" y="12474"/>
                  <a:pt x="7417" y="12526"/>
                </a:cubicBezTo>
                <a:cubicBezTo>
                  <a:pt x="7428" y="12563"/>
                  <a:pt x="7434" y="12586"/>
                  <a:pt x="7441" y="12626"/>
                </a:cubicBezTo>
                <a:cubicBezTo>
                  <a:pt x="7446" y="12651"/>
                  <a:pt x="7456" y="12719"/>
                  <a:pt x="7466" y="12750"/>
                </a:cubicBezTo>
                <a:cubicBezTo>
                  <a:pt x="7478" y="12791"/>
                  <a:pt x="7504" y="12831"/>
                  <a:pt x="7516" y="12874"/>
                </a:cubicBezTo>
                <a:cubicBezTo>
                  <a:pt x="7527" y="12914"/>
                  <a:pt x="7532" y="12958"/>
                  <a:pt x="7541" y="12998"/>
                </a:cubicBezTo>
                <a:cubicBezTo>
                  <a:pt x="7549" y="13036"/>
                  <a:pt x="7554" y="13061"/>
                  <a:pt x="7565" y="13097"/>
                </a:cubicBezTo>
                <a:cubicBezTo>
                  <a:pt x="7576" y="13133"/>
                  <a:pt x="7581" y="13158"/>
                  <a:pt x="7590" y="13196"/>
                </a:cubicBezTo>
                <a:cubicBezTo>
                  <a:pt x="7597" y="13223"/>
                  <a:pt x="7607" y="13262"/>
                  <a:pt x="7615" y="13295"/>
                </a:cubicBezTo>
                <a:cubicBezTo>
                  <a:pt x="7621" y="13308"/>
                  <a:pt x="7653" y="13335"/>
                  <a:pt x="7665" y="13370"/>
                </a:cubicBezTo>
                <a:cubicBezTo>
                  <a:pt x="7665" y="13378"/>
                  <a:pt x="7665" y="13387"/>
                  <a:pt x="7665" y="13395"/>
                </a:cubicBezTo>
                <a:cubicBezTo>
                  <a:pt x="7669" y="13404"/>
                  <a:pt x="7703" y="13442"/>
                  <a:pt x="7714" y="13469"/>
                </a:cubicBezTo>
                <a:cubicBezTo>
                  <a:pt x="7724" y="13493"/>
                  <a:pt x="7729" y="13520"/>
                  <a:pt x="7739" y="13543"/>
                </a:cubicBezTo>
                <a:cubicBezTo>
                  <a:pt x="7745" y="13554"/>
                  <a:pt x="7773" y="13591"/>
                  <a:pt x="7789" y="13618"/>
                </a:cubicBezTo>
                <a:cubicBezTo>
                  <a:pt x="7808" y="13650"/>
                  <a:pt x="7833" y="13712"/>
                  <a:pt x="7863" y="13742"/>
                </a:cubicBezTo>
                <a:cubicBezTo>
                  <a:pt x="7886" y="13765"/>
                  <a:pt x="7890" y="13773"/>
                  <a:pt x="7913" y="13767"/>
                </a:cubicBezTo>
                <a:cubicBezTo>
                  <a:pt x="7945" y="13807"/>
                  <a:pt x="7958" y="13841"/>
                  <a:pt x="8012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446720" y="3821040"/>
            <a:ext cx="1098360" cy="1189080"/>
          </a:xfrm>
          <a:custGeom>
            <a:avLst/>
            <a:gdLst/>
            <a:ahLst/>
            <a:rect l="l" t="t" r="r" b="b"/>
            <a:pathLst>
              <a:path w="3052" h="3300">
                <a:moveTo>
                  <a:pt x="12353" y="11013"/>
                </a:moveTo>
                <a:cubicBezTo>
                  <a:pt x="12395" y="10997"/>
                  <a:pt x="12401" y="10990"/>
                  <a:pt x="12452" y="10988"/>
                </a:cubicBezTo>
                <a:cubicBezTo>
                  <a:pt x="12509" y="10986"/>
                  <a:pt x="12549" y="10970"/>
                  <a:pt x="12601" y="10964"/>
                </a:cubicBezTo>
                <a:cubicBezTo>
                  <a:pt x="12669" y="10956"/>
                  <a:pt x="12816" y="10933"/>
                  <a:pt x="12874" y="10939"/>
                </a:cubicBezTo>
                <a:cubicBezTo>
                  <a:pt x="12954" y="10948"/>
                  <a:pt x="13031" y="10939"/>
                  <a:pt x="13122" y="10939"/>
                </a:cubicBezTo>
                <a:cubicBezTo>
                  <a:pt x="13588" y="10939"/>
                  <a:pt x="14079" y="10980"/>
                  <a:pt x="14536" y="10914"/>
                </a:cubicBezTo>
                <a:cubicBezTo>
                  <a:pt x="14697" y="10891"/>
                  <a:pt x="14876" y="10916"/>
                  <a:pt x="15032" y="10939"/>
                </a:cubicBezTo>
                <a:cubicBezTo>
                  <a:pt x="15082" y="10946"/>
                  <a:pt x="15404" y="10957"/>
                  <a:pt x="15404" y="10914"/>
                </a:cubicBezTo>
                <a:cubicBezTo>
                  <a:pt x="15396" y="10906"/>
                  <a:pt x="15387" y="10897"/>
                  <a:pt x="15379" y="10889"/>
                </a:cubicBezTo>
              </a:path>
              <a:path w="3052" h="3300">
                <a:moveTo>
                  <a:pt x="14263" y="10616"/>
                </a:moveTo>
                <a:cubicBezTo>
                  <a:pt x="14230" y="10660"/>
                  <a:pt x="14238" y="10682"/>
                  <a:pt x="14238" y="10740"/>
                </a:cubicBezTo>
                <a:cubicBezTo>
                  <a:pt x="14238" y="10860"/>
                  <a:pt x="14236" y="10983"/>
                  <a:pt x="14213" y="11088"/>
                </a:cubicBezTo>
                <a:cubicBezTo>
                  <a:pt x="14205" y="11124"/>
                  <a:pt x="14213" y="11175"/>
                  <a:pt x="14213" y="11212"/>
                </a:cubicBezTo>
              </a:path>
              <a:path w="3052" h="3300">
                <a:moveTo>
                  <a:pt x="13965" y="11534"/>
                </a:moveTo>
                <a:cubicBezTo>
                  <a:pt x="13970" y="11518"/>
                  <a:pt x="13988" y="11474"/>
                  <a:pt x="14015" y="11460"/>
                </a:cubicBezTo>
                <a:cubicBezTo>
                  <a:pt x="14027" y="11454"/>
                  <a:pt x="14149" y="11408"/>
                  <a:pt x="14163" y="11410"/>
                </a:cubicBezTo>
                <a:cubicBezTo>
                  <a:pt x="14227" y="11421"/>
                  <a:pt x="14262" y="11508"/>
                  <a:pt x="14288" y="11559"/>
                </a:cubicBezTo>
                <a:cubicBezTo>
                  <a:pt x="14322" y="11626"/>
                  <a:pt x="14308" y="11712"/>
                  <a:pt x="14288" y="11782"/>
                </a:cubicBezTo>
                <a:cubicBezTo>
                  <a:pt x="14267" y="11856"/>
                  <a:pt x="14214" y="11926"/>
                  <a:pt x="14163" y="11981"/>
                </a:cubicBezTo>
                <a:cubicBezTo>
                  <a:pt x="14126" y="12021"/>
                  <a:pt x="14085" y="12041"/>
                  <a:pt x="14039" y="12055"/>
                </a:cubicBezTo>
                <a:cubicBezTo>
                  <a:pt x="14031" y="12055"/>
                  <a:pt x="14023" y="12055"/>
                  <a:pt x="14015" y="12055"/>
                </a:cubicBezTo>
                <a:cubicBezTo>
                  <a:pt x="13994" y="12027"/>
                  <a:pt x="13964" y="11982"/>
                  <a:pt x="14015" y="11956"/>
                </a:cubicBezTo>
                <a:cubicBezTo>
                  <a:pt x="14053" y="11937"/>
                  <a:pt x="14136" y="11975"/>
                  <a:pt x="14163" y="11981"/>
                </a:cubicBezTo>
                <a:cubicBezTo>
                  <a:pt x="14227" y="11994"/>
                  <a:pt x="14286" y="11973"/>
                  <a:pt x="14337" y="11956"/>
                </a:cubicBezTo>
                <a:cubicBezTo>
                  <a:pt x="14372" y="11956"/>
                  <a:pt x="14390" y="11951"/>
                  <a:pt x="14412" y="11931"/>
                </a:cubicBezTo>
              </a:path>
              <a:path w="3052" h="3300">
                <a:moveTo>
                  <a:pt x="14610" y="11534"/>
                </a:moveTo>
                <a:cubicBezTo>
                  <a:pt x="14702" y="11534"/>
                  <a:pt x="14860" y="11564"/>
                  <a:pt x="14932" y="11509"/>
                </a:cubicBezTo>
              </a:path>
              <a:path w="3052" h="3300">
                <a:moveTo>
                  <a:pt x="14709" y="11509"/>
                </a:moveTo>
                <a:cubicBezTo>
                  <a:pt x="14647" y="11657"/>
                  <a:pt x="14610" y="11730"/>
                  <a:pt x="14610" y="11881"/>
                </a:cubicBezTo>
                <a:cubicBezTo>
                  <a:pt x="14610" y="11900"/>
                  <a:pt x="14603" y="12105"/>
                  <a:pt x="14635" y="12030"/>
                </a:cubicBezTo>
                <a:cubicBezTo>
                  <a:pt x="14635" y="12022"/>
                  <a:pt x="14635" y="12013"/>
                  <a:pt x="14635" y="12005"/>
                </a:cubicBezTo>
              </a:path>
              <a:path w="3052" h="3300">
                <a:moveTo>
                  <a:pt x="14883" y="11584"/>
                </a:moveTo>
                <a:cubicBezTo>
                  <a:pt x="14883" y="11714"/>
                  <a:pt x="14888" y="11833"/>
                  <a:pt x="14908" y="11956"/>
                </a:cubicBezTo>
                <a:cubicBezTo>
                  <a:pt x="14908" y="11997"/>
                  <a:pt x="14908" y="12005"/>
                  <a:pt x="14908" y="12030"/>
                </a:cubicBezTo>
              </a:path>
              <a:path w="3052" h="3300">
                <a:moveTo>
                  <a:pt x="14511" y="13841"/>
                </a:moveTo>
                <a:cubicBezTo>
                  <a:pt x="14473" y="13854"/>
                  <a:pt x="14486" y="13870"/>
                  <a:pt x="14486" y="13915"/>
                </a:cubicBezTo>
                <a:cubicBezTo>
                  <a:pt x="14517" y="13915"/>
                  <a:pt x="14552" y="13908"/>
                  <a:pt x="14560" y="13891"/>
                </a:cubicBezTo>
                <a:cubicBezTo>
                  <a:pt x="14578" y="13855"/>
                  <a:pt x="14502" y="13857"/>
                  <a:pt x="14486" y="13866"/>
                </a:cubicBezTo>
                <a:cubicBezTo>
                  <a:pt x="14478" y="13874"/>
                  <a:pt x="14469" y="13883"/>
                  <a:pt x="14461" y="13891"/>
                </a:cubicBezTo>
                <a:cubicBezTo>
                  <a:pt x="14469" y="13891"/>
                  <a:pt x="14478" y="13891"/>
                  <a:pt x="14486" y="13891"/>
                </a:cubicBezTo>
                <a:cubicBezTo>
                  <a:pt x="14486" y="13836"/>
                  <a:pt x="14465" y="13817"/>
                  <a:pt x="14436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062240" y="2830680"/>
            <a:ext cx="28800" cy="27000"/>
          </a:xfrm>
          <a:custGeom>
            <a:avLst/>
            <a:gdLst/>
            <a:ahLst/>
            <a:rect l="l" t="t" r="r" b="b"/>
            <a:pathLst>
              <a:path w="76" h="76">
                <a:moveTo>
                  <a:pt x="11336" y="7888"/>
                </a:moveTo>
                <a:cubicBezTo>
                  <a:pt x="11344" y="7888"/>
                  <a:pt x="11353" y="7888"/>
                  <a:pt x="11361" y="7888"/>
                </a:cubicBezTo>
                <a:cubicBezTo>
                  <a:pt x="11349" y="7852"/>
                  <a:pt x="11348" y="7852"/>
                  <a:pt x="11336" y="7888"/>
                </a:cubicBezTo>
                <a:cubicBezTo>
                  <a:pt x="11303" y="7899"/>
                  <a:pt x="11313" y="7902"/>
                  <a:pt x="11286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05240" y="4660920"/>
            <a:ext cx="420840" cy="312840"/>
          </a:xfrm>
          <a:custGeom>
            <a:avLst/>
            <a:gdLst/>
            <a:ahLst/>
            <a:rect l="l" t="t" r="r" b="b"/>
            <a:pathLst>
              <a:path w="1167" h="869">
                <a:moveTo>
                  <a:pt x="14486" y="13692"/>
                </a:moveTo>
                <a:cubicBezTo>
                  <a:pt x="14459" y="13756"/>
                  <a:pt x="14449" y="13743"/>
                  <a:pt x="14486" y="13791"/>
                </a:cubicBezTo>
                <a:cubicBezTo>
                  <a:pt x="14536" y="13804"/>
                  <a:pt x="14526" y="13816"/>
                  <a:pt x="14560" y="13791"/>
                </a:cubicBezTo>
                <a:cubicBezTo>
                  <a:pt x="14589" y="13769"/>
                  <a:pt x="14617" y="13753"/>
                  <a:pt x="14610" y="13717"/>
                </a:cubicBezTo>
                <a:cubicBezTo>
                  <a:pt x="14602" y="13700"/>
                  <a:pt x="14593" y="13684"/>
                  <a:pt x="14585" y="13667"/>
                </a:cubicBezTo>
                <a:cubicBezTo>
                  <a:pt x="14565" y="13667"/>
                  <a:pt x="14489" y="13679"/>
                  <a:pt x="14486" y="13692"/>
                </a:cubicBezTo>
                <a:cubicBezTo>
                  <a:pt x="14467" y="13767"/>
                  <a:pt x="14484" y="13778"/>
                  <a:pt x="14536" y="13791"/>
                </a:cubicBezTo>
                <a:cubicBezTo>
                  <a:pt x="14588" y="13791"/>
                  <a:pt x="14597" y="13779"/>
                  <a:pt x="14635" y="13742"/>
                </a:cubicBezTo>
                <a:cubicBezTo>
                  <a:pt x="14688" y="13690"/>
                  <a:pt x="14676" y="13699"/>
                  <a:pt x="14660" y="13667"/>
                </a:cubicBezTo>
                <a:cubicBezTo>
                  <a:pt x="14656" y="13660"/>
                  <a:pt x="14603" y="13614"/>
                  <a:pt x="14585" y="13618"/>
                </a:cubicBezTo>
                <a:cubicBezTo>
                  <a:pt x="14536" y="13629"/>
                  <a:pt x="14599" y="13661"/>
                  <a:pt x="14635" y="13643"/>
                </a:cubicBezTo>
              </a:path>
              <a:path w="1167" h="869">
                <a:moveTo>
                  <a:pt x="14858" y="13568"/>
                </a:moveTo>
                <a:cubicBezTo>
                  <a:pt x="14905" y="13568"/>
                  <a:pt x="14921" y="13574"/>
                  <a:pt x="14957" y="13543"/>
                </a:cubicBezTo>
                <a:cubicBezTo>
                  <a:pt x="15010" y="13497"/>
                  <a:pt x="15041" y="13449"/>
                  <a:pt x="15081" y="13395"/>
                </a:cubicBezTo>
                <a:cubicBezTo>
                  <a:pt x="15121" y="13343"/>
                  <a:pt x="15173" y="13293"/>
                  <a:pt x="15205" y="13246"/>
                </a:cubicBezTo>
                <a:cubicBezTo>
                  <a:pt x="15227" y="13213"/>
                  <a:pt x="15250" y="13186"/>
                  <a:pt x="15255" y="13146"/>
                </a:cubicBezTo>
                <a:cubicBezTo>
                  <a:pt x="15260" y="13100"/>
                  <a:pt x="15307" y="13089"/>
                  <a:pt x="15255" y="13072"/>
                </a:cubicBezTo>
              </a:path>
              <a:path w="1167" h="869">
                <a:moveTo>
                  <a:pt x="14982" y="13122"/>
                </a:moveTo>
                <a:cubicBezTo>
                  <a:pt x="15010" y="13094"/>
                  <a:pt x="15046" y="13059"/>
                  <a:pt x="15081" y="13047"/>
                </a:cubicBezTo>
                <a:cubicBezTo>
                  <a:pt x="15118" y="13034"/>
                  <a:pt x="15141" y="13008"/>
                  <a:pt x="15180" y="12998"/>
                </a:cubicBezTo>
                <a:cubicBezTo>
                  <a:pt x="15190" y="12969"/>
                  <a:pt x="15214" y="12953"/>
                  <a:pt x="15255" y="12948"/>
                </a:cubicBezTo>
                <a:cubicBezTo>
                  <a:pt x="15293" y="12944"/>
                  <a:pt x="15360" y="13021"/>
                  <a:pt x="15379" y="13047"/>
                </a:cubicBezTo>
                <a:cubicBezTo>
                  <a:pt x="15421" y="13106"/>
                  <a:pt x="15451" y="13122"/>
                  <a:pt x="15503" y="13171"/>
                </a:cubicBezTo>
                <a:cubicBezTo>
                  <a:pt x="15517" y="13184"/>
                  <a:pt x="15620" y="13261"/>
                  <a:pt x="15627" y="13271"/>
                </a:cubicBezTo>
                <a:cubicBezTo>
                  <a:pt x="15627" y="13279"/>
                  <a:pt x="15627" y="13287"/>
                  <a:pt x="15627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50920" y="3884760"/>
            <a:ext cx="4303440" cy="125280"/>
          </a:xfrm>
          <a:custGeom>
            <a:avLst/>
            <a:gdLst/>
            <a:ahLst/>
            <a:rect l="l" t="t" r="r" b="b"/>
            <a:pathLst>
              <a:path w="11956" h="348">
                <a:moveTo>
                  <a:pt x="695" y="10864"/>
                </a:moveTo>
                <a:cubicBezTo>
                  <a:pt x="731" y="10857"/>
                  <a:pt x="721" y="10849"/>
                  <a:pt x="769" y="10840"/>
                </a:cubicBezTo>
                <a:cubicBezTo>
                  <a:pt x="808" y="10833"/>
                  <a:pt x="833" y="10818"/>
                  <a:pt x="868" y="10815"/>
                </a:cubicBezTo>
                <a:cubicBezTo>
                  <a:pt x="1095" y="10795"/>
                  <a:pt x="1335" y="10778"/>
                  <a:pt x="1563" y="10790"/>
                </a:cubicBezTo>
                <a:cubicBezTo>
                  <a:pt x="1649" y="10794"/>
                  <a:pt x="1727" y="10812"/>
                  <a:pt x="1811" y="10815"/>
                </a:cubicBezTo>
                <a:cubicBezTo>
                  <a:pt x="2036" y="10824"/>
                  <a:pt x="2258" y="10831"/>
                  <a:pt x="2480" y="10840"/>
                </a:cubicBezTo>
                <a:cubicBezTo>
                  <a:pt x="2996" y="10861"/>
                  <a:pt x="3509" y="10822"/>
                  <a:pt x="4018" y="10815"/>
                </a:cubicBezTo>
                <a:cubicBezTo>
                  <a:pt x="4261" y="10812"/>
                  <a:pt x="4504" y="10831"/>
                  <a:pt x="4738" y="10840"/>
                </a:cubicBezTo>
                <a:cubicBezTo>
                  <a:pt x="4987" y="10849"/>
                  <a:pt x="5236" y="10855"/>
                  <a:pt x="5482" y="10864"/>
                </a:cubicBezTo>
                <a:cubicBezTo>
                  <a:pt x="5683" y="10872"/>
                  <a:pt x="5879" y="10882"/>
                  <a:pt x="6077" y="10889"/>
                </a:cubicBezTo>
                <a:cubicBezTo>
                  <a:pt x="6327" y="10898"/>
                  <a:pt x="6575" y="10905"/>
                  <a:pt x="6821" y="10914"/>
                </a:cubicBezTo>
                <a:cubicBezTo>
                  <a:pt x="7456" y="10938"/>
                  <a:pt x="8103" y="10914"/>
                  <a:pt x="8731" y="10889"/>
                </a:cubicBezTo>
                <a:cubicBezTo>
                  <a:pt x="8940" y="10881"/>
                  <a:pt x="9146" y="10872"/>
                  <a:pt x="9351" y="10864"/>
                </a:cubicBezTo>
                <a:cubicBezTo>
                  <a:pt x="9698" y="10850"/>
                  <a:pt x="10049" y="10865"/>
                  <a:pt x="10393" y="10889"/>
                </a:cubicBezTo>
                <a:cubicBezTo>
                  <a:pt x="10502" y="10897"/>
                  <a:pt x="10604" y="10910"/>
                  <a:pt x="10716" y="10914"/>
                </a:cubicBezTo>
                <a:cubicBezTo>
                  <a:pt x="10867" y="10919"/>
                  <a:pt x="11015" y="10934"/>
                  <a:pt x="11162" y="10939"/>
                </a:cubicBezTo>
                <a:cubicBezTo>
                  <a:pt x="11311" y="10944"/>
                  <a:pt x="11465" y="10958"/>
                  <a:pt x="11609" y="10964"/>
                </a:cubicBezTo>
                <a:cubicBezTo>
                  <a:pt x="11737" y="10969"/>
                  <a:pt x="11856" y="10973"/>
                  <a:pt x="11981" y="10988"/>
                </a:cubicBezTo>
                <a:cubicBezTo>
                  <a:pt x="12068" y="10998"/>
                  <a:pt x="12145" y="11024"/>
                  <a:pt x="12229" y="11038"/>
                </a:cubicBezTo>
                <a:cubicBezTo>
                  <a:pt x="12303" y="11051"/>
                  <a:pt x="12379" y="11047"/>
                  <a:pt x="12452" y="11063"/>
                </a:cubicBezTo>
                <a:cubicBezTo>
                  <a:pt x="12502" y="11074"/>
                  <a:pt x="12606" y="11108"/>
                  <a:pt x="12626" y="11112"/>
                </a:cubicBezTo>
                <a:cubicBezTo>
                  <a:pt x="12661" y="11119"/>
                  <a:pt x="12543" y="11122"/>
                  <a:pt x="12576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339920" y="2133720"/>
            <a:ext cx="98280" cy="3644640"/>
          </a:xfrm>
          <a:custGeom>
            <a:avLst/>
            <a:gdLst/>
            <a:ahLst/>
            <a:rect l="l" t="t" r="r" b="b"/>
            <a:pathLst>
              <a:path w="274" h="10122">
                <a:moveTo>
                  <a:pt x="3994" y="5928"/>
                </a:moveTo>
                <a:cubicBezTo>
                  <a:pt x="3989" y="6068"/>
                  <a:pt x="3994" y="6205"/>
                  <a:pt x="3994" y="6325"/>
                </a:cubicBezTo>
                <a:cubicBezTo>
                  <a:pt x="3994" y="6333"/>
                  <a:pt x="3994" y="6342"/>
                  <a:pt x="3994" y="6350"/>
                </a:cubicBezTo>
                <a:cubicBezTo>
                  <a:pt x="3990" y="6383"/>
                  <a:pt x="3970" y="6391"/>
                  <a:pt x="3969" y="6424"/>
                </a:cubicBezTo>
                <a:cubicBezTo>
                  <a:pt x="3963" y="6680"/>
                  <a:pt x="3990" y="6924"/>
                  <a:pt x="3994" y="7169"/>
                </a:cubicBezTo>
                <a:cubicBezTo>
                  <a:pt x="3997" y="7333"/>
                  <a:pt x="3991" y="7486"/>
                  <a:pt x="3969" y="7640"/>
                </a:cubicBezTo>
                <a:cubicBezTo>
                  <a:pt x="3964" y="7677"/>
                  <a:pt x="3950" y="7698"/>
                  <a:pt x="3944" y="7739"/>
                </a:cubicBezTo>
                <a:cubicBezTo>
                  <a:pt x="3932" y="7815"/>
                  <a:pt x="3926" y="7884"/>
                  <a:pt x="3919" y="7962"/>
                </a:cubicBezTo>
                <a:cubicBezTo>
                  <a:pt x="3916" y="7995"/>
                  <a:pt x="3920" y="8029"/>
                  <a:pt x="3919" y="8062"/>
                </a:cubicBezTo>
                <a:cubicBezTo>
                  <a:pt x="3915" y="8095"/>
                  <a:pt x="3895" y="8103"/>
                  <a:pt x="3894" y="8136"/>
                </a:cubicBezTo>
                <a:cubicBezTo>
                  <a:pt x="3888" y="8399"/>
                  <a:pt x="3874" y="8652"/>
                  <a:pt x="3870" y="8905"/>
                </a:cubicBezTo>
                <a:cubicBezTo>
                  <a:pt x="3868" y="9021"/>
                  <a:pt x="3851" y="9122"/>
                  <a:pt x="3845" y="9227"/>
                </a:cubicBezTo>
                <a:cubicBezTo>
                  <a:pt x="3842" y="9277"/>
                  <a:pt x="3847" y="9326"/>
                  <a:pt x="3845" y="9376"/>
                </a:cubicBezTo>
                <a:cubicBezTo>
                  <a:pt x="3840" y="9417"/>
                  <a:pt x="3821" y="9434"/>
                  <a:pt x="3820" y="9475"/>
                </a:cubicBezTo>
                <a:cubicBezTo>
                  <a:pt x="3806" y="10085"/>
                  <a:pt x="3845" y="10688"/>
                  <a:pt x="3845" y="11286"/>
                </a:cubicBezTo>
                <a:cubicBezTo>
                  <a:pt x="3845" y="11898"/>
                  <a:pt x="3855" y="12511"/>
                  <a:pt x="3845" y="13097"/>
                </a:cubicBezTo>
                <a:cubicBezTo>
                  <a:pt x="3842" y="13259"/>
                  <a:pt x="3875" y="13418"/>
                  <a:pt x="3870" y="13568"/>
                </a:cubicBezTo>
                <a:cubicBezTo>
                  <a:pt x="3867" y="13657"/>
                  <a:pt x="3857" y="13731"/>
                  <a:pt x="3845" y="13816"/>
                </a:cubicBezTo>
                <a:cubicBezTo>
                  <a:pt x="3838" y="13867"/>
                  <a:pt x="3823" y="13922"/>
                  <a:pt x="3820" y="13965"/>
                </a:cubicBezTo>
                <a:cubicBezTo>
                  <a:pt x="3795" y="14338"/>
                  <a:pt x="3847" y="14726"/>
                  <a:pt x="3820" y="15056"/>
                </a:cubicBezTo>
                <a:cubicBezTo>
                  <a:pt x="3813" y="15143"/>
                  <a:pt x="3807" y="15219"/>
                  <a:pt x="3795" y="15304"/>
                </a:cubicBezTo>
                <a:cubicBezTo>
                  <a:pt x="3787" y="15365"/>
                  <a:pt x="3779" y="15395"/>
                  <a:pt x="3770" y="15453"/>
                </a:cubicBezTo>
                <a:cubicBezTo>
                  <a:pt x="3761" y="15508"/>
                  <a:pt x="3749" y="15549"/>
                  <a:pt x="3746" y="15602"/>
                </a:cubicBezTo>
                <a:cubicBezTo>
                  <a:pt x="3738" y="15741"/>
                  <a:pt x="3730" y="15901"/>
                  <a:pt x="3721" y="16024"/>
                </a:cubicBezTo>
                <a:cubicBezTo>
                  <a:pt x="3715" y="16107"/>
                  <a:pt x="3728" y="15957"/>
                  <a:pt x="3721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30680" y="4956120"/>
            <a:ext cx="63360" cy="44640"/>
          </a:xfrm>
          <a:custGeom>
            <a:avLst/>
            <a:gdLst/>
            <a:ahLst/>
            <a:rect l="l" t="t" r="r" b="b"/>
            <a:pathLst>
              <a:path w="175" h="125">
                <a:moveTo>
                  <a:pt x="7913" y="13866"/>
                </a:moveTo>
                <a:cubicBezTo>
                  <a:pt x="7970" y="13909"/>
                  <a:pt x="7957" y="13881"/>
                  <a:pt x="7987" y="13866"/>
                </a:cubicBezTo>
                <a:cubicBezTo>
                  <a:pt x="8005" y="13857"/>
                  <a:pt x="8033" y="13829"/>
                  <a:pt x="8012" y="13791"/>
                </a:cubicBezTo>
                <a:cubicBezTo>
                  <a:pt x="7998" y="13767"/>
                  <a:pt x="7939" y="13753"/>
                  <a:pt x="7913" y="13767"/>
                </a:cubicBezTo>
                <a:cubicBezTo>
                  <a:pt x="7861" y="13795"/>
                  <a:pt x="7853" y="13826"/>
                  <a:pt x="7888" y="13866"/>
                </a:cubicBezTo>
                <a:cubicBezTo>
                  <a:pt x="7896" y="13874"/>
                  <a:pt x="7905" y="13883"/>
                  <a:pt x="7913" y="13891"/>
                </a:cubicBezTo>
                <a:cubicBezTo>
                  <a:pt x="7944" y="13891"/>
                  <a:pt x="7979" y="13883"/>
                  <a:pt x="7987" y="13866"/>
                </a:cubicBezTo>
                <a:cubicBezTo>
                  <a:pt x="8001" y="13838"/>
                  <a:pt x="8011" y="13780"/>
                  <a:pt x="7987" y="13767"/>
                </a:cubicBezTo>
                <a:cubicBezTo>
                  <a:pt x="7968" y="13757"/>
                  <a:pt x="7910" y="13767"/>
                  <a:pt x="7888" y="13767"/>
                </a:cubicBezTo>
                <a:cubicBezTo>
                  <a:pt x="7881" y="13788"/>
                  <a:pt x="7850" y="13835"/>
                  <a:pt x="7888" y="13866"/>
                </a:cubicBezTo>
                <a:cubicBezTo>
                  <a:pt x="7913" y="13887"/>
                  <a:pt x="7933" y="13906"/>
                  <a:pt x="7962" y="13891"/>
                </a:cubicBezTo>
                <a:cubicBezTo>
                  <a:pt x="7999" y="13872"/>
                  <a:pt x="8029" y="13825"/>
                  <a:pt x="8037" y="13791"/>
                </a:cubicBezTo>
                <a:cubicBezTo>
                  <a:pt x="8027" y="13762"/>
                  <a:pt x="7979" y="13747"/>
                  <a:pt x="7938" y="13767"/>
                </a:cubicBezTo>
                <a:cubicBezTo>
                  <a:pt x="7893" y="13789"/>
                  <a:pt x="7888" y="13792"/>
                  <a:pt x="7888" y="13841"/>
                </a:cubicBezTo>
                <a:cubicBezTo>
                  <a:pt x="7920" y="13884"/>
                  <a:pt x="7907" y="13891"/>
                  <a:pt x="7962" y="13891"/>
                </a:cubicBezTo>
                <a:cubicBezTo>
                  <a:pt x="8006" y="13891"/>
                  <a:pt x="8079" y="13850"/>
                  <a:pt x="8037" y="13791"/>
                </a:cubicBezTo>
                <a:cubicBezTo>
                  <a:pt x="8009" y="13791"/>
                  <a:pt x="7998" y="13789"/>
                  <a:pt x="7987" y="13767"/>
                </a:cubicBezTo>
                <a:cubicBezTo>
                  <a:pt x="7954" y="13775"/>
                  <a:pt x="7901" y="13810"/>
                  <a:pt x="7962" y="13841"/>
                </a:cubicBezTo>
                <a:cubicBezTo>
                  <a:pt x="7995" y="13858"/>
                  <a:pt x="8034" y="13843"/>
                  <a:pt x="8037" y="13816"/>
                </a:cubicBezTo>
                <a:cubicBezTo>
                  <a:pt x="8037" y="13791"/>
                  <a:pt x="8037" y="13783"/>
                  <a:pt x="8037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081160" y="2820960"/>
            <a:ext cx="71640" cy="36720"/>
          </a:xfrm>
          <a:custGeom>
            <a:avLst/>
            <a:gdLst/>
            <a:ahLst/>
            <a:rect l="l" t="t" r="r" b="b"/>
            <a:pathLst>
              <a:path w="200" h="101">
                <a:moveTo>
                  <a:pt x="5928" y="7913"/>
                </a:moveTo>
                <a:cubicBezTo>
                  <a:pt x="5956" y="7913"/>
                  <a:pt x="5967" y="7911"/>
                  <a:pt x="5978" y="7888"/>
                </a:cubicBezTo>
                <a:cubicBezTo>
                  <a:pt x="5943" y="7876"/>
                  <a:pt x="5954" y="7844"/>
                  <a:pt x="5904" y="7838"/>
                </a:cubicBezTo>
                <a:cubicBezTo>
                  <a:pt x="5852" y="7832"/>
                  <a:pt x="5839" y="7853"/>
                  <a:pt x="5804" y="7888"/>
                </a:cubicBezTo>
                <a:cubicBezTo>
                  <a:pt x="5813" y="7915"/>
                  <a:pt x="5822" y="7934"/>
                  <a:pt x="5854" y="7938"/>
                </a:cubicBezTo>
                <a:cubicBezTo>
                  <a:pt x="5904" y="7944"/>
                  <a:pt x="5917" y="7933"/>
                  <a:pt x="5928" y="7888"/>
                </a:cubicBezTo>
                <a:cubicBezTo>
                  <a:pt x="5910" y="7832"/>
                  <a:pt x="5871" y="7875"/>
                  <a:pt x="5829" y="7888"/>
                </a:cubicBezTo>
                <a:cubicBezTo>
                  <a:pt x="5795" y="7898"/>
                  <a:pt x="5806" y="7902"/>
                  <a:pt x="5779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901960" y="2813040"/>
            <a:ext cx="2509920" cy="2143080"/>
          </a:xfrm>
          <a:custGeom>
            <a:avLst/>
            <a:gdLst/>
            <a:ahLst/>
            <a:rect l="l" t="t" r="r" b="b"/>
            <a:pathLst>
              <a:path w="6971" h="5955">
                <a:moveTo>
                  <a:pt x="8062" y="13767"/>
                </a:moveTo>
                <a:cubicBezTo>
                  <a:pt x="8096" y="13742"/>
                  <a:pt x="8148" y="13752"/>
                  <a:pt x="8186" y="13717"/>
                </a:cubicBezTo>
                <a:cubicBezTo>
                  <a:pt x="8225" y="13682"/>
                  <a:pt x="8293" y="13617"/>
                  <a:pt x="8310" y="13593"/>
                </a:cubicBezTo>
                <a:cubicBezTo>
                  <a:pt x="8327" y="13568"/>
                  <a:pt x="8342" y="13523"/>
                  <a:pt x="8359" y="13494"/>
                </a:cubicBezTo>
                <a:cubicBezTo>
                  <a:pt x="8376" y="13465"/>
                  <a:pt x="8393" y="13427"/>
                  <a:pt x="8409" y="13395"/>
                </a:cubicBezTo>
                <a:cubicBezTo>
                  <a:pt x="8425" y="13365"/>
                  <a:pt x="8443" y="13328"/>
                  <a:pt x="8458" y="13295"/>
                </a:cubicBezTo>
                <a:cubicBezTo>
                  <a:pt x="8475" y="13257"/>
                  <a:pt x="8468" y="13209"/>
                  <a:pt x="8483" y="13171"/>
                </a:cubicBezTo>
                <a:cubicBezTo>
                  <a:pt x="8496" y="13138"/>
                  <a:pt x="8519" y="13105"/>
                  <a:pt x="8533" y="13072"/>
                </a:cubicBezTo>
                <a:cubicBezTo>
                  <a:pt x="8556" y="13019"/>
                  <a:pt x="8564" y="12970"/>
                  <a:pt x="8582" y="12923"/>
                </a:cubicBezTo>
                <a:cubicBezTo>
                  <a:pt x="8600" y="12875"/>
                  <a:pt x="8615" y="12823"/>
                  <a:pt x="8632" y="12774"/>
                </a:cubicBezTo>
                <a:cubicBezTo>
                  <a:pt x="8647" y="12733"/>
                  <a:pt x="8668" y="12697"/>
                  <a:pt x="8682" y="12650"/>
                </a:cubicBezTo>
                <a:cubicBezTo>
                  <a:pt x="8697" y="12603"/>
                  <a:pt x="8716" y="12570"/>
                  <a:pt x="8731" y="12526"/>
                </a:cubicBezTo>
                <a:cubicBezTo>
                  <a:pt x="8748" y="12478"/>
                  <a:pt x="8765" y="12429"/>
                  <a:pt x="8781" y="12378"/>
                </a:cubicBezTo>
                <a:cubicBezTo>
                  <a:pt x="8794" y="12336"/>
                  <a:pt x="8818" y="12291"/>
                  <a:pt x="8830" y="12254"/>
                </a:cubicBezTo>
                <a:cubicBezTo>
                  <a:pt x="8847" y="12201"/>
                  <a:pt x="8864" y="12135"/>
                  <a:pt x="8880" y="12080"/>
                </a:cubicBezTo>
                <a:cubicBezTo>
                  <a:pt x="8894" y="12031"/>
                  <a:pt x="8914" y="11986"/>
                  <a:pt x="8930" y="11931"/>
                </a:cubicBezTo>
                <a:cubicBezTo>
                  <a:pt x="8942" y="11890"/>
                  <a:pt x="8944" y="11847"/>
                  <a:pt x="8954" y="11807"/>
                </a:cubicBezTo>
                <a:cubicBezTo>
                  <a:pt x="8966" y="11762"/>
                  <a:pt x="8965" y="11701"/>
                  <a:pt x="8979" y="11658"/>
                </a:cubicBezTo>
                <a:cubicBezTo>
                  <a:pt x="8993" y="11613"/>
                  <a:pt x="9016" y="11562"/>
                  <a:pt x="9029" y="11509"/>
                </a:cubicBezTo>
                <a:cubicBezTo>
                  <a:pt x="9046" y="11441"/>
                  <a:pt x="9062" y="11374"/>
                  <a:pt x="9079" y="11311"/>
                </a:cubicBezTo>
                <a:cubicBezTo>
                  <a:pt x="9093" y="11258"/>
                  <a:pt x="9089" y="11216"/>
                  <a:pt x="9103" y="11162"/>
                </a:cubicBezTo>
                <a:cubicBezTo>
                  <a:pt x="9117" y="11108"/>
                  <a:pt x="9137" y="11045"/>
                  <a:pt x="9153" y="10988"/>
                </a:cubicBezTo>
                <a:cubicBezTo>
                  <a:pt x="9164" y="10949"/>
                  <a:pt x="9164" y="10904"/>
                  <a:pt x="9178" y="10864"/>
                </a:cubicBezTo>
                <a:cubicBezTo>
                  <a:pt x="9197" y="10809"/>
                  <a:pt x="9227" y="10753"/>
                  <a:pt x="9252" y="10691"/>
                </a:cubicBezTo>
                <a:cubicBezTo>
                  <a:pt x="9266" y="10657"/>
                  <a:pt x="9288" y="10626"/>
                  <a:pt x="9302" y="10592"/>
                </a:cubicBezTo>
                <a:cubicBezTo>
                  <a:pt x="9322" y="10543"/>
                  <a:pt x="9330" y="10492"/>
                  <a:pt x="9351" y="10443"/>
                </a:cubicBezTo>
                <a:cubicBezTo>
                  <a:pt x="9373" y="10391"/>
                  <a:pt x="9398" y="10350"/>
                  <a:pt x="9426" y="10294"/>
                </a:cubicBezTo>
                <a:cubicBezTo>
                  <a:pt x="9445" y="10257"/>
                  <a:pt x="9481" y="10210"/>
                  <a:pt x="9500" y="10170"/>
                </a:cubicBezTo>
                <a:cubicBezTo>
                  <a:pt x="9527" y="10113"/>
                  <a:pt x="9551" y="10050"/>
                  <a:pt x="9575" y="9996"/>
                </a:cubicBezTo>
                <a:cubicBezTo>
                  <a:pt x="9602" y="9935"/>
                  <a:pt x="9623" y="9875"/>
                  <a:pt x="9649" y="9823"/>
                </a:cubicBezTo>
                <a:cubicBezTo>
                  <a:pt x="9684" y="9753"/>
                  <a:pt x="9716" y="9662"/>
                  <a:pt x="9748" y="9599"/>
                </a:cubicBezTo>
                <a:cubicBezTo>
                  <a:pt x="9785" y="9527"/>
                  <a:pt x="9835" y="9451"/>
                  <a:pt x="9872" y="9376"/>
                </a:cubicBezTo>
                <a:cubicBezTo>
                  <a:pt x="9900" y="9318"/>
                  <a:pt x="9942" y="9226"/>
                  <a:pt x="9971" y="9178"/>
                </a:cubicBezTo>
                <a:cubicBezTo>
                  <a:pt x="10002" y="9126"/>
                  <a:pt x="10040" y="9079"/>
                  <a:pt x="10071" y="9029"/>
                </a:cubicBezTo>
                <a:cubicBezTo>
                  <a:pt x="10101" y="8980"/>
                  <a:pt x="10137" y="8928"/>
                  <a:pt x="10170" y="8880"/>
                </a:cubicBezTo>
                <a:cubicBezTo>
                  <a:pt x="10214" y="8815"/>
                  <a:pt x="10255" y="8768"/>
                  <a:pt x="10294" y="8706"/>
                </a:cubicBezTo>
                <a:cubicBezTo>
                  <a:pt x="10334" y="8643"/>
                  <a:pt x="10369" y="8572"/>
                  <a:pt x="10418" y="8508"/>
                </a:cubicBezTo>
                <a:cubicBezTo>
                  <a:pt x="10501" y="8399"/>
                  <a:pt x="10597" y="8305"/>
                  <a:pt x="10691" y="8210"/>
                </a:cubicBezTo>
                <a:cubicBezTo>
                  <a:pt x="10728" y="8172"/>
                  <a:pt x="10755" y="8147"/>
                  <a:pt x="10790" y="8111"/>
                </a:cubicBezTo>
                <a:cubicBezTo>
                  <a:pt x="10843" y="8056"/>
                  <a:pt x="10915" y="7955"/>
                  <a:pt x="10964" y="7913"/>
                </a:cubicBezTo>
                <a:cubicBezTo>
                  <a:pt x="10990" y="7891"/>
                  <a:pt x="11011" y="7851"/>
                  <a:pt x="11038" y="7838"/>
                </a:cubicBezTo>
                <a:cubicBezTo>
                  <a:pt x="11063" y="7826"/>
                  <a:pt x="11110" y="7819"/>
                  <a:pt x="11137" y="7813"/>
                </a:cubicBezTo>
                <a:cubicBezTo>
                  <a:pt x="11262" y="7783"/>
                  <a:pt x="11368" y="7833"/>
                  <a:pt x="11460" y="7888"/>
                </a:cubicBezTo>
                <a:cubicBezTo>
                  <a:pt x="11499" y="7911"/>
                  <a:pt x="11547" y="7932"/>
                  <a:pt x="11584" y="7962"/>
                </a:cubicBezTo>
                <a:cubicBezTo>
                  <a:pt x="11602" y="7977"/>
                  <a:pt x="11659" y="8036"/>
                  <a:pt x="11683" y="8062"/>
                </a:cubicBezTo>
                <a:cubicBezTo>
                  <a:pt x="11722" y="8104"/>
                  <a:pt x="11749" y="8174"/>
                  <a:pt x="11782" y="8210"/>
                </a:cubicBezTo>
                <a:cubicBezTo>
                  <a:pt x="11873" y="8310"/>
                  <a:pt x="11960" y="8400"/>
                  <a:pt x="12030" y="8508"/>
                </a:cubicBezTo>
                <a:cubicBezTo>
                  <a:pt x="12056" y="8549"/>
                  <a:pt x="12080" y="8587"/>
                  <a:pt x="12105" y="8632"/>
                </a:cubicBezTo>
                <a:cubicBezTo>
                  <a:pt x="12136" y="8688"/>
                  <a:pt x="12154" y="8730"/>
                  <a:pt x="12179" y="8781"/>
                </a:cubicBezTo>
                <a:cubicBezTo>
                  <a:pt x="12217" y="8857"/>
                  <a:pt x="12236" y="8934"/>
                  <a:pt x="12278" y="9004"/>
                </a:cubicBezTo>
                <a:cubicBezTo>
                  <a:pt x="12337" y="9104"/>
                  <a:pt x="12404" y="9205"/>
                  <a:pt x="12452" y="9302"/>
                </a:cubicBezTo>
                <a:cubicBezTo>
                  <a:pt x="12478" y="9354"/>
                  <a:pt x="12528" y="9400"/>
                  <a:pt x="12551" y="9451"/>
                </a:cubicBezTo>
                <a:cubicBezTo>
                  <a:pt x="12576" y="9506"/>
                  <a:pt x="12605" y="9584"/>
                  <a:pt x="12626" y="9649"/>
                </a:cubicBezTo>
                <a:cubicBezTo>
                  <a:pt x="12642" y="9700"/>
                  <a:pt x="12658" y="9753"/>
                  <a:pt x="12675" y="9798"/>
                </a:cubicBezTo>
                <a:cubicBezTo>
                  <a:pt x="12697" y="9857"/>
                  <a:pt x="12730" y="9929"/>
                  <a:pt x="12750" y="9996"/>
                </a:cubicBezTo>
                <a:cubicBezTo>
                  <a:pt x="12765" y="10046"/>
                  <a:pt x="12761" y="10095"/>
                  <a:pt x="12774" y="10145"/>
                </a:cubicBezTo>
                <a:cubicBezTo>
                  <a:pt x="12785" y="10186"/>
                  <a:pt x="12787" y="10225"/>
                  <a:pt x="12799" y="10269"/>
                </a:cubicBezTo>
                <a:cubicBezTo>
                  <a:pt x="12814" y="10325"/>
                  <a:pt x="12834" y="10384"/>
                  <a:pt x="12849" y="10443"/>
                </a:cubicBezTo>
                <a:cubicBezTo>
                  <a:pt x="12860" y="10485"/>
                  <a:pt x="12887" y="10526"/>
                  <a:pt x="12898" y="10567"/>
                </a:cubicBezTo>
                <a:cubicBezTo>
                  <a:pt x="12911" y="10616"/>
                  <a:pt x="12908" y="10647"/>
                  <a:pt x="12923" y="10691"/>
                </a:cubicBezTo>
                <a:cubicBezTo>
                  <a:pt x="12943" y="10748"/>
                  <a:pt x="12954" y="10792"/>
                  <a:pt x="12973" y="10840"/>
                </a:cubicBezTo>
                <a:cubicBezTo>
                  <a:pt x="12991" y="10887"/>
                  <a:pt x="13003" y="10940"/>
                  <a:pt x="13022" y="10988"/>
                </a:cubicBezTo>
                <a:cubicBezTo>
                  <a:pt x="13036" y="11024"/>
                  <a:pt x="13056" y="11074"/>
                  <a:pt x="13072" y="11112"/>
                </a:cubicBezTo>
                <a:cubicBezTo>
                  <a:pt x="13089" y="11155"/>
                  <a:pt x="13105" y="11194"/>
                  <a:pt x="13122" y="11237"/>
                </a:cubicBezTo>
                <a:cubicBezTo>
                  <a:pt x="13138" y="11278"/>
                  <a:pt x="13155" y="11319"/>
                  <a:pt x="13171" y="11361"/>
                </a:cubicBezTo>
                <a:cubicBezTo>
                  <a:pt x="13186" y="11401"/>
                  <a:pt x="13207" y="11439"/>
                  <a:pt x="13221" y="11485"/>
                </a:cubicBezTo>
                <a:cubicBezTo>
                  <a:pt x="13233" y="11524"/>
                  <a:pt x="13232" y="11568"/>
                  <a:pt x="13246" y="11609"/>
                </a:cubicBezTo>
                <a:cubicBezTo>
                  <a:pt x="13258" y="11644"/>
                  <a:pt x="13284" y="11674"/>
                  <a:pt x="13295" y="11708"/>
                </a:cubicBezTo>
                <a:cubicBezTo>
                  <a:pt x="13309" y="11750"/>
                  <a:pt x="13306" y="11792"/>
                  <a:pt x="13320" y="11832"/>
                </a:cubicBezTo>
                <a:cubicBezTo>
                  <a:pt x="13332" y="11868"/>
                  <a:pt x="13355" y="11917"/>
                  <a:pt x="13370" y="11956"/>
                </a:cubicBezTo>
                <a:cubicBezTo>
                  <a:pt x="13390" y="12011"/>
                  <a:pt x="13403" y="12057"/>
                  <a:pt x="13419" y="12105"/>
                </a:cubicBezTo>
                <a:cubicBezTo>
                  <a:pt x="13437" y="12159"/>
                  <a:pt x="13451" y="12206"/>
                  <a:pt x="13469" y="12254"/>
                </a:cubicBezTo>
                <a:cubicBezTo>
                  <a:pt x="13498" y="12330"/>
                  <a:pt x="13538" y="12386"/>
                  <a:pt x="13568" y="12452"/>
                </a:cubicBezTo>
                <a:cubicBezTo>
                  <a:pt x="13586" y="12492"/>
                  <a:pt x="13594" y="12532"/>
                  <a:pt x="13618" y="12576"/>
                </a:cubicBezTo>
                <a:cubicBezTo>
                  <a:pt x="13636" y="12609"/>
                  <a:pt x="13682" y="12658"/>
                  <a:pt x="13692" y="12675"/>
                </a:cubicBezTo>
                <a:cubicBezTo>
                  <a:pt x="13717" y="12718"/>
                  <a:pt x="13722" y="12761"/>
                  <a:pt x="13742" y="12799"/>
                </a:cubicBezTo>
                <a:cubicBezTo>
                  <a:pt x="13746" y="12806"/>
                  <a:pt x="13779" y="12850"/>
                  <a:pt x="13791" y="12874"/>
                </a:cubicBezTo>
                <a:cubicBezTo>
                  <a:pt x="13813" y="12917"/>
                  <a:pt x="13823" y="12945"/>
                  <a:pt x="13841" y="12973"/>
                </a:cubicBezTo>
                <a:cubicBezTo>
                  <a:pt x="13864" y="13008"/>
                  <a:pt x="13893" y="13034"/>
                  <a:pt x="13915" y="13072"/>
                </a:cubicBezTo>
                <a:cubicBezTo>
                  <a:pt x="13939" y="13112"/>
                  <a:pt x="13962" y="13156"/>
                  <a:pt x="13990" y="13196"/>
                </a:cubicBezTo>
                <a:cubicBezTo>
                  <a:pt x="14009" y="13224"/>
                  <a:pt x="14017" y="13264"/>
                  <a:pt x="14039" y="13295"/>
                </a:cubicBezTo>
                <a:cubicBezTo>
                  <a:pt x="14071" y="13341"/>
                  <a:pt x="14132" y="13409"/>
                  <a:pt x="14163" y="13444"/>
                </a:cubicBezTo>
                <a:cubicBezTo>
                  <a:pt x="14226" y="13515"/>
                  <a:pt x="14301" y="13549"/>
                  <a:pt x="14362" y="13593"/>
                </a:cubicBezTo>
                <a:cubicBezTo>
                  <a:pt x="14378" y="13605"/>
                  <a:pt x="14404" y="13626"/>
                  <a:pt x="14436" y="13643"/>
                </a:cubicBezTo>
                <a:cubicBezTo>
                  <a:pt x="14473" y="13662"/>
                  <a:pt x="14496" y="13681"/>
                  <a:pt x="14536" y="13692"/>
                </a:cubicBezTo>
                <a:cubicBezTo>
                  <a:pt x="14574" y="13703"/>
                  <a:pt x="14591" y="13718"/>
                  <a:pt x="14635" y="13717"/>
                </a:cubicBezTo>
                <a:cubicBezTo>
                  <a:pt x="14697" y="13716"/>
                  <a:pt x="14731" y="13709"/>
                  <a:pt x="14784" y="13692"/>
                </a:cubicBezTo>
                <a:cubicBezTo>
                  <a:pt x="14818" y="13681"/>
                  <a:pt x="14815" y="13665"/>
                  <a:pt x="14858" y="13643"/>
                </a:cubicBezTo>
                <a:cubicBezTo>
                  <a:pt x="14884" y="13630"/>
                  <a:pt x="14922" y="13598"/>
                  <a:pt x="14932" y="13593"/>
                </a:cubicBezTo>
                <a:cubicBezTo>
                  <a:pt x="14975" y="13570"/>
                  <a:pt x="14967" y="13571"/>
                  <a:pt x="15007" y="13543"/>
                </a:cubicBezTo>
                <a:cubicBezTo>
                  <a:pt x="15022" y="13533"/>
                  <a:pt x="14934" y="13646"/>
                  <a:pt x="14932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CEE2-542B-4667-A644-7B06549D05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4280" y="866880"/>
            <a:ext cx="2090880" cy="795240"/>
          </a:xfrm>
          <a:custGeom>
            <a:avLst/>
            <a:gdLst/>
            <a:ahLst/>
            <a:rect l="l" t="t" r="r" b="b"/>
            <a:pathLst>
              <a:path w="5806" h="2209">
                <a:moveTo>
                  <a:pt x="3621" y="3373"/>
                </a:moveTo>
                <a:cubicBezTo>
                  <a:pt x="3614" y="3386"/>
                  <a:pt x="3610" y="3421"/>
                  <a:pt x="3597" y="3448"/>
                </a:cubicBezTo>
                <a:cubicBezTo>
                  <a:pt x="3576" y="3491"/>
                  <a:pt x="3575" y="3495"/>
                  <a:pt x="3572" y="3547"/>
                </a:cubicBezTo>
                <a:cubicBezTo>
                  <a:pt x="3569" y="3602"/>
                  <a:pt x="3550" y="3641"/>
                  <a:pt x="3547" y="3696"/>
                </a:cubicBezTo>
                <a:cubicBezTo>
                  <a:pt x="3542" y="3781"/>
                  <a:pt x="3541" y="3864"/>
                  <a:pt x="3572" y="3944"/>
                </a:cubicBezTo>
                <a:cubicBezTo>
                  <a:pt x="3579" y="3963"/>
                  <a:pt x="3605" y="4006"/>
                  <a:pt x="3646" y="4018"/>
                </a:cubicBezTo>
                <a:cubicBezTo>
                  <a:pt x="3669" y="4025"/>
                  <a:pt x="3738" y="4006"/>
                  <a:pt x="3746" y="3994"/>
                </a:cubicBezTo>
                <a:cubicBezTo>
                  <a:pt x="3770" y="3956"/>
                  <a:pt x="3789" y="3900"/>
                  <a:pt x="3820" y="3845"/>
                </a:cubicBezTo>
                <a:cubicBezTo>
                  <a:pt x="3855" y="3783"/>
                  <a:pt x="3859" y="3729"/>
                  <a:pt x="3894" y="3671"/>
                </a:cubicBezTo>
                <a:cubicBezTo>
                  <a:pt x="3938" y="3598"/>
                  <a:pt x="3934" y="3507"/>
                  <a:pt x="3969" y="3423"/>
                </a:cubicBezTo>
                <a:cubicBezTo>
                  <a:pt x="3986" y="3383"/>
                  <a:pt x="3979" y="3341"/>
                  <a:pt x="3994" y="3299"/>
                </a:cubicBezTo>
                <a:cubicBezTo>
                  <a:pt x="4007" y="3263"/>
                  <a:pt x="4012" y="3266"/>
                  <a:pt x="4018" y="3225"/>
                </a:cubicBezTo>
                <a:cubicBezTo>
                  <a:pt x="4002" y="3258"/>
                  <a:pt x="4001" y="3238"/>
                  <a:pt x="3994" y="3274"/>
                </a:cubicBezTo>
                <a:cubicBezTo>
                  <a:pt x="3986" y="3315"/>
                  <a:pt x="3977" y="3332"/>
                  <a:pt x="3969" y="3373"/>
                </a:cubicBezTo>
                <a:cubicBezTo>
                  <a:pt x="3943" y="3504"/>
                  <a:pt x="3971" y="3679"/>
                  <a:pt x="3994" y="3795"/>
                </a:cubicBezTo>
                <a:cubicBezTo>
                  <a:pt x="4009" y="3868"/>
                  <a:pt x="3998" y="3947"/>
                  <a:pt x="4018" y="4018"/>
                </a:cubicBezTo>
                <a:cubicBezTo>
                  <a:pt x="4039" y="4091"/>
                  <a:pt x="4057" y="4167"/>
                  <a:pt x="4068" y="4242"/>
                </a:cubicBezTo>
                <a:cubicBezTo>
                  <a:pt x="4080" y="4326"/>
                  <a:pt x="4077" y="4438"/>
                  <a:pt x="4043" y="4514"/>
                </a:cubicBezTo>
                <a:cubicBezTo>
                  <a:pt x="4031" y="4540"/>
                  <a:pt x="4007" y="4603"/>
                  <a:pt x="3969" y="4614"/>
                </a:cubicBezTo>
                <a:cubicBezTo>
                  <a:pt x="3877" y="4640"/>
                  <a:pt x="3755" y="4603"/>
                  <a:pt x="3671" y="4589"/>
                </a:cubicBezTo>
                <a:cubicBezTo>
                  <a:pt x="3614" y="4580"/>
                  <a:pt x="3553" y="4571"/>
                  <a:pt x="3497" y="4564"/>
                </a:cubicBezTo>
                <a:cubicBezTo>
                  <a:pt x="3452" y="4559"/>
                  <a:pt x="3436" y="4550"/>
                  <a:pt x="3398" y="4539"/>
                </a:cubicBezTo>
                <a:cubicBezTo>
                  <a:pt x="3390" y="4539"/>
                  <a:pt x="3381" y="4539"/>
                  <a:pt x="3373" y="4539"/>
                </a:cubicBezTo>
              </a:path>
              <a:path w="5806" h="2209">
                <a:moveTo>
                  <a:pt x="4415" y="3448"/>
                </a:moveTo>
                <a:cubicBezTo>
                  <a:pt x="4478" y="3448"/>
                  <a:pt x="4512" y="3456"/>
                  <a:pt x="4564" y="3473"/>
                </a:cubicBezTo>
                <a:cubicBezTo>
                  <a:pt x="4589" y="3481"/>
                  <a:pt x="4650" y="3448"/>
                  <a:pt x="4688" y="3448"/>
                </a:cubicBezTo>
                <a:cubicBezTo>
                  <a:pt x="4738" y="3448"/>
                  <a:pt x="4787" y="3448"/>
                  <a:pt x="4837" y="3448"/>
                </a:cubicBezTo>
                <a:cubicBezTo>
                  <a:pt x="4802" y="3474"/>
                  <a:pt x="4806" y="3473"/>
                  <a:pt x="4762" y="3473"/>
                </a:cubicBezTo>
              </a:path>
              <a:path w="5806" h="2209">
                <a:moveTo>
                  <a:pt x="4366" y="3696"/>
                </a:moveTo>
                <a:cubicBezTo>
                  <a:pt x="4420" y="3738"/>
                  <a:pt x="4407" y="3702"/>
                  <a:pt x="4465" y="3696"/>
                </a:cubicBezTo>
                <a:cubicBezTo>
                  <a:pt x="4570" y="3684"/>
                  <a:pt x="4670" y="3702"/>
                  <a:pt x="4762" y="3671"/>
                </a:cubicBezTo>
                <a:cubicBezTo>
                  <a:pt x="4790" y="3671"/>
                  <a:pt x="4796" y="3673"/>
                  <a:pt x="4762" y="3696"/>
                </a:cubicBezTo>
              </a:path>
              <a:path w="5806" h="2209">
                <a:moveTo>
                  <a:pt x="5457" y="2604"/>
                </a:moveTo>
                <a:cubicBezTo>
                  <a:pt x="5457" y="2637"/>
                  <a:pt x="5457" y="2671"/>
                  <a:pt x="5457" y="2704"/>
                </a:cubicBezTo>
                <a:cubicBezTo>
                  <a:pt x="5457" y="2631"/>
                  <a:pt x="5434" y="2510"/>
                  <a:pt x="5482" y="2456"/>
                </a:cubicBezTo>
                <a:cubicBezTo>
                  <a:pt x="5518" y="2416"/>
                  <a:pt x="5529" y="2406"/>
                  <a:pt x="5581" y="2406"/>
                </a:cubicBezTo>
                <a:cubicBezTo>
                  <a:pt x="5627" y="2406"/>
                  <a:pt x="5645" y="2400"/>
                  <a:pt x="5680" y="2431"/>
                </a:cubicBezTo>
                <a:cubicBezTo>
                  <a:pt x="5723" y="2469"/>
                  <a:pt x="5790" y="2522"/>
                  <a:pt x="5804" y="2580"/>
                </a:cubicBezTo>
                <a:cubicBezTo>
                  <a:pt x="5815" y="2626"/>
                  <a:pt x="5844" y="2702"/>
                  <a:pt x="5829" y="2753"/>
                </a:cubicBezTo>
                <a:cubicBezTo>
                  <a:pt x="5806" y="2832"/>
                  <a:pt x="5767" y="2906"/>
                  <a:pt x="5730" y="2977"/>
                </a:cubicBezTo>
                <a:cubicBezTo>
                  <a:pt x="5695" y="3044"/>
                  <a:pt x="5636" y="3079"/>
                  <a:pt x="5581" y="3125"/>
                </a:cubicBezTo>
                <a:cubicBezTo>
                  <a:pt x="5542" y="3157"/>
                  <a:pt x="5492" y="3177"/>
                  <a:pt x="5457" y="3200"/>
                </a:cubicBezTo>
                <a:cubicBezTo>
                  <a:pt x="5391" y="3244"/>
                  <a:pt x="5378" y="3217"/>
                  <a:pt x="5308" y="3200"/>
                </a:cubicBezTo>
                <a:cubicBezTo>
                  <a:pt x="5283" y="3200"/>
                  <a:pt x="5275" y="3200"/>
                  <a:pt x="5283" y="3175"/>
                </a:cubicBezTo>
                <a:cubicBezTo>
                  <a:pt x="5290" y="3154"/>
                  <a:pt x="5304" y="3121"/>
                  <a:pt x="5333" y="3101"/>
                </a:cubicBezTo>
                <a:cubicBezTo>
                  <a:pt x="5372" y="3074"/>
                  <a:pt x="5462" y="3058"/>
                  <a:pt x="5507" y="3076"/>
                </a:cubicBezTo>
                <a:cubicBezTo>
                  <a:pt x="5549" y="3092"/>
                  <a:pt x="5615" y="3105"/>
                  <a:pt x="5655" y="3125"/>
                </a:cubicBezTo>
                <a:cubicBezTo>
                  <a:pt x="5682" y="3138"/>
                  <a:pt x="5721" y="3171"/>
                  <a:pt x="5730" y="3175"/>
                </a:cubicBezTo>
                <a:cubicBezTo>
                  <a:pt x="5755" y="3175"/>
                  <a:pt x="5763" y="3175"/>
                  <a:pt x="5730" y="3175"/>
                </a:cubicBezTo>
              </a:path>
              <a:path w="5806" h="2209">
                <a:moveTo>
                  <a:pt x="5184" y="3373"/>
                </a:moveTo>
                <a:cubicBezTo>
                  <a:pt x="5385" y="3373"/>
                  <a:pt x="5581" y="3373"/>
                  <a:pt x="5779" y="3349"/>
                </a:cubicBezTo>
                <a:cubicBezTo>
                  <a:pt x="5843" y="3341"/>
                  <a:pt x="5913" y="3349"/>
                  <a:pt x="5978" y="3349"/>
                </a:cubicBezTo>
                <a:cubicBezTo>
                  <a:pt x="5950" y="3376"/>
                  <a:pt x="5936" y="3384"/>
                  <a:pt x="5904" y="3373"/>
                </a:cubicBezTo>
              </a:path>
              <a:path w="5806" h="2209">
                <a:moveTo>
                  <a:pt x="5432" y="3621"/>
                </a:moveTo>
                <a:cubicBezTo>
                  <a:pt x="5444" y="3586"/>
                  <a:pt x="5490" y="3597"/>
                  <a:pt x="5507" y="3572"/>
                </a:cubicBezTo>
                <a:cubicBezTo>
                  <a:pt x="5522" y="3550"/>
                  <a:pt x="5564" y="3527"/>
                  <a:pt x="5606" y="3522"/>
                </a:cubicBezTo>
                <a:cubicBezTo>
                  <a:pt x="5665" y="3515"/>
                  <a:pt x="5656" y="3536"/>
                  <a:pt x="5680" y="3572"/>
                </a:cubicBezTo>
                <a:cubicBezTo>
                  <a:pt x="5703" y="3606"/>
                  <a:pt x="5685" y="3649"/>
                  <a:pt x="5655" y="3696"/>
                </a:cubicBezTo>
                <a:cubicBezTo>
                  <a:pt x="5619" y="3752"/>
                  <a:pt x="5462" y="3771"/>
                  <a:pt x="5507" y="3820"/>
                </a:cubicBezTo>
                <a:cubicBezTo>
                  <a:pt x="5518" y="3832"/>
                  <a:pt x="5560" y="3777"/>
                  <a:pt x="5581" y="3770"/>
                </a:cubicBezTo>
                <a:cubicBezTo>
                  <a:pt x="5611" y="3760"/>
                  <a:pt x="5660" y="3782"/>
                  <a:pt x="5680" y="3795"/>
                </a:cubicBezTo>
                <a:cubicBezTo>
                  <a:pt x="5718" y="3821"/>
                  <a:pt x="5740" y="3858"/>
                  <a:pt x="5755" y="3894"/>
                </a:cubicBezTo>
                <a:cubicBezTo>
                  <a:pt x="5774" y="3938"/>
                  <a:pt x="5815" y="4022"/>
                  <a:pt x="5804" y="4068"/>
                </a:cubicBezTo>
                <a:cubicBezTo>
                  <a:pt x="5789" y="4132"/>
                  <a:pt x="5746" y="4158"/>
                  <a:pt x="5705" y="4192"/>
                </a:cubicBezTo>
                <a:cubicBezTo>
                  <a:pt x="5662" y="4227"/>
                  <a:pt x="5614" y="4239"/>
                  <a:pt x="5556" y="4242"/>
                </a:cubicBezTo>
                <a:cubicBezTo>
                  <a:pt x="5483" y="4246"/>
                  <a:pt x="5453" y="4249"/>
                  <a:pt x="5383" y="4242"/>
                </a:cubicBezTo>
                <a:cubicBezTo>
                  <a:pt x="5335" y="4237"/>
                  <a:pt x="5323" y="4231"/>
                  <a:pt x="5283" y="4217"/>
                </a:cubicBezTo>
                <a:cubicBezTo>
                  <a:pt x="5275" y="4217"/>
                  <a:pt x="5267" y="4217"/>
                  <a:pt x="5259" y="4217"/>
                </a:cubicBezTo>
              </a:path>
              <a:path w="5806" h="2209">
                <a:moveTo>
                  <a:pt x="6623" y="2977"/>
                </a:moveTo>
                <a:cubicBezTo>
                  <a:pt x="6610" y="2924"/>
                  <a:pt x="6585" y="2927"/>
                  <a:pt x="6548" y="2902"/>
                </a:cubicBezTo>
                <a:cubicBezTo>
                  <a:pt x="6525" y="2886"/>
                  <a:pt x="6484" y="2858"/>
                  <a:pt x="6449" y="2877"/>
                </a:cubicBezTo>
                <a:cubicBezTo>
                  <a:pt x="6410" y="2899"/>
                  <a:pt x="6366" y="2915"/>
                  <a:pt x="6325" y="2927"/>
                </a:cubicBezTo>
                <a:cubicBezTo>
                  <a:pt x="6307" y="2932"/>
                  <a:pt x="6264" y="2971"/>
                  <a:pt x="6251" y="3001"/>
                </a:cubicBezTo>
                <a:cubicBezTo>
                  <a:pt x="6251" y="3009"/>
                  <a:pt x="6251" y="3018"/>
                  <a:pt x="6251" y="3026"/>
                </a:cubicBezTo>
                <a:cubicBezTo>
                  <a:pt x="6284" y="3051"/>
                  <a:pt x="6295" y="3072"/>
                  <a:pt x="6325" y="3076"/>
                </a:cubicBezTo>
                <a:cubicBezTo>
                  <a:pt x="6366" y="3081"/>
                  <a:pt x="6414" y="3084"/>
                  <a:pt x="6449" y="3101"/>
                </a:cubicBezTo>
                <a:cubicBezTo>
                  <a:pt x="6486" y="3119"/>
                  <a:pt x="6547" y="3138"/>
                  <a:pt x="6573" y="3175"/>
                </a:cubicBezTo>
                <a:cubicBezTo>
                  <a:pt x="6588" y="3197"/>
                  <a:pt x="6665" y="3274"/>
                  <a:pt x="6672" y="3299"/>
                </a:cubicBezTo>
                <a:cubicBezTo>
                  <a:pt x="6686" y="3351"/>
                  <a:pt x="6673" y="3404"/>
                  <a:pt x="6648" y="3423"/>
                </a:cubicBezTo>
                <a:cubicBezTo>
                  <a:pt x="6602" y="3458"/>
                  <a:pt x="6584" y="3482"/>
                  <a:pt x="6524" y="3497"/>
                </a:cubicBezTo>
                <a:cubicBezTo>
                  <a:pt x="6479" y="3508"/>
                  <a:pt x="6256" y="3515"/>
                  <a:pt x="6251" y="3473"/>
                </a:cubicBezTo>
                <a:cubicBezTo>
                  <a:pt x="6251" y="3448"/>
                  <a:pt x="6251" y="3440"/>
                  <a:pt x="6276" y="3448"/>
                </a:cubicBezTo>
              </a:path>
              <a:path w="5806" h="2209">
                <a:moveTo>
                  <a:pt x="6921" y="2902"/>
                </a:moveTo>
                <a:cubicBezTo>
                  <a:pt x="6921" y="2985"/>
                  <a:pt x="6935" y="3049"/>
                  <a:pt x="6945" y="3125"/>
                </a:cubicBezTo>
                <a:cubicBezTo>
                  <a:pt x="6953" y="3191"/>
                  <a:pt x="6911" y="3428"/>
                  <a:pt x="6970" y="3448"/>
                </a:cubicBezTo>
                <a:cubicBezTo>
                  <a:pt x="6959" y="3403"/>
                  <a:pt x="6945" y="3378"/>
                  <a:pt x="6945" y="3324"/>
                </a:cubicBezTo>
              </a:path>
              <a:path w="5806" h="2209">
                <a:moveTo>
                  <a:pt x="6896" y="2629"/>
                </a:moveTo>
                <a:cubicBezTo>
                  <a:pt x="6904" y="2621"/>
                  <a:pt x="6913" y="2612"/>
                  <a:pt x="6921" y="2604"/>
                </a:cubicBezTo>
              </a:path>
              <a:path w="5806" h="2209">
                <a:moveTo>
                  <a:pt x="7218" y="3150"/>
                </a:moveTo>
                <a:cubicBezTo>
                  <a:pt x="7218" y="3213"/>
                  <a:pt x="7252" y="3369"/>
                  <a:pt x="7243" y="3423"/>
                </a:cubicBezTo>
                <a:cubicBezTo>
                  <a:pt x="7238" y="3452"/>
                  <a:pt x="7218" y="3458"/>
                  <a:pt x="7218" y="3497"/>
                </a:cubicBezTo>
                <a:cubicBezTo>
                  <a:pt x="7246" y="3488"/>
                  <a:pt x="7261" y="3441"/>
                  <a:pt x="7243" y="3398"/>
                </a:cubicBezTo>
                <a:cubicBezTo>
                  <a:pt x="7214" y="3329"/>
                  <a:pt x="7237" y="3324"/>
                  <a:pt x="7243" y="3249"/>
                </a:cubicBezTo>
                <a:cubicBezTo>
                  <a:pt x="7250" y="3161"/>
                  <a:pt x="7225" y="3074"/>
                  <a:pt x="7268" y="3001"/>
                </a:cubicBezTo>
                <a:cubicBezTo>
                  <a:pt x="7289" y="2964"/>
                  <a:pt x="7324" y="2896"/>
                  <a:pt x="7367" y="2877"/>
                </a:cubicBezTo>
                <a:cubicBezTo>
                  <a:pt x="7412" y="2857"/>
                  <a:pt x="7508" y="2872"/>
                  <a:pt x="7541" y="2902"/>
                </a:cubicBezTo>
                <a:cubicBezTo>
                  <a:pt x="7588" y="2945"/>
                  <a:pt x="7611" y="3020"/>
                  <a:pt x="7640" y="3076"/>
                </a:cubicBezTo>
                <a:cubicBezTo>
                  <a:pt x="7686" y="3167"/>
                  <a:pt x="7665" y="3273"/>
                  <a:pt x="7665" y="3373"/>
                </a:cubicBezTo>
                <a:cubicBezTo>
                  <a:pt x="7665" y="3423"/>
                  <a:pt x="7650" y="3459"/>
                  <a:pt x="7689" y="3473"/>
                </a:cubicBezTo>
                <a:cubicBezTo>
                  <a:pt x="7689" y="3541"/>
                  <a:pt x="7685" y="3429"/>
                  <a:pt x="7689" y="3423"/>
                </a:cubicBezTo>
                <a:cubicBezTo>
                  <a:pt x="7697" y="3415"/>
                  <a:pt x="7706" y="3406"/>
                  <a:pt x="7714" y="3398"/>
                </a:cubicBezTo>
              </a:path>
              <a:path w="5806" h="2209">
                <a:moveTo>
                  <a:pt x="8458" y="2431"/>
                </a:moveTo>
                <a:cubicBezTo>
                  <a:pt x="8505" y="2477"/>
                  <a:pt x="8529" y="2520"/>
                  <a:pt x="8558" y="2580"/>
                </a:cubicBezTo>
                <a:cubicBezTo>
                  <a:pt x="8597" y="2660"/>
                  <a:pt x="8650" y="2716"/>
                  <a:pt x="8682" y="2803"/>
                </a:cubicBezTo>
                <a:cubicBezTo>
                  <a:pt x="8709" y="2877"/>
                  <a:pt x="8735" y="2960"/>
                  <a:pt x="8781" y="3026"/>
                </a:cubicBezTo>
                <a:cubicBezTo>
                  <a:pt x="8802" y="3056"/>
                  <a:pt x="8849" y="3113"/>
                  <a:pt x="8855" y="3125"/>
                </a:cubicBezTo>
                <a:cubicBezTo>
                  <a:pt x="8857" y="3130"/>
                  <a:pt x="8855" y="3219"/>
                  <a:pt x="8855" y="3150"/>
                </a:cubicBezTo>
              </a:path>
              <a:path w="5806" h="2209">
                <a:moveTo>
                  <a:pt x="8830" y="2406"/>
                </a:moveTo>
                <a:cubicBezTo>
                  <a:pt x="8820" y="2437"/>
                  <a:pt x="8821" y="2460"/>
                  <a:pt x="8806" y="2505"/>
                </a:cubicBezTo>
                <a:cubicBezTo>
                  <a:pt x="8778" y="2589"/>
                  <a:pt x="8735" y="2669"/>
                  <a:pt x="8706" y="2753"/>
                </a:cubicBezTo>
                <a:cubicBezTo>
                  <a:pt x="8671" y="2856"/>
                  <a:pt x="8639" y="2914"/>
                  <a:pt x="8582" y="3001"/>
                </a:cubicBezTo>
                <a:cubicBezTo>
                  <a:pt x="8554" y="3043"/>
                  <a:pt x="8501" y="3106"/>
                  <a:pt x="8483" y="3150"/>
                </a:cubicBezTo>
                <a:cubicBezTo>
                  <a:pt x="8469" y="3185"/>
                  <a:pt x="8458" y="3207"/>
                  <a:pt x="8458" y="3249"/>
                </a:cubicBezTo>
              </a:path>
              <a:path w="5806" h="2209">
                <a:moveTo>
                  <a:pt x="8111" y="3398"/>
                </a:moveTo>
                <a:cubicBezTo>
                  <a:pt x="8149" y="3370"/>
                  <a:pt x="8162" y="3373"/>
                  <a:pt x="8210" y="3373"/>
                </a:cubicBezTo>
                <a:cubicBezTo>
                  <a:pt x="8273" y="3373"/>
                  <a:pt x="8319" y="3352"/>
                  <a:pt x="8384" y="3349"/>
                </a:cubicBezTo>
                <a:cubicBezTo>
                  <a:pt x="8469" y="3345"/>
                  <a:pt x="8542" y="3324"/>
                  <a:pt x="8632" y="3324"/>
                </a:cubicBezTo>
                <a:cubicBezTo>
                  <a:pt x="8716" y="3324"/>
                  <a:pt x="8793" y="3299"/>
                  <a:pt x="8880" y="3299"/>
                </a:cubicBezTo>
                <a:cubicBezTo>
                  <a:pt x="8884" y="3299"/>
                  <a:pt x="9190" y="3309"/>
                  <a:pt x="9178" y="3274"/>
                </a:cubicBezTo>
                <a:cubicBezTo>
                  <a:pt x="9153" y="3274"/>
                  <a:pt x="9145" y="3274"/>
                  <a:pt x="9128" y="3274"/>
                </a:cubicBezTo>
              </a:path>
              <a:path w="5806" h="2209">
                <a:moveTo>
                  <a:pt x="8458" y="3646"/>
                </a:moveTo>
                <a:cubicBezTo>
                  <a:pt x="8458" y="3718"/>
                  <a:pt x="8453" y="3781"/>
                  <a:pt x="8434" y="3820"/>
                </a:cubicBezTo>
                <a:cubicBezTo>
                  <a:pt x="8423" y="3843"/>
                  <a:pt x="8434" y="3921"/>
                  <a:pt x="8434" y="3944"/>
                </a:cubicBezTo>
                <a:cubicBezTo>
                  <a:pt x="8513" y="3944"/>
                  <a:pt x="8502" y="3928"/>
                  <a:pt x="8558" y="3894"/>
                </a:cubicBezTo>
                <a:cubicBezTo>
                  <a:pt x="8593" y="3872"/>
                  <a:pt x="8715" y="3883"/>
                  <a:pt x="8756" y="3870"/>
                </a:cubicBezTo>
                <a:cubicBezTo>
                  <a:pt x="8778" y="3863"/>
                  <a:pt x="8841" y="3883"/>
                  <a:pt x="8806" y="3870"/>
                </a:cubicBezTo>
                <a:cubicBezTo>
                  <a:pt x="8781" y="3870"/>
                  <a:pt x="8773" y="3870"/>
                  <a:pt x="8781" y="3845"/>
                </a:cubicBezTo>
              </a:path>
              <a:path w="5806" h="2209">
                <a:moveTo>
                  <a:pt x="8806" y="3398"/>
                </a:moveTo>
                <a:cubicBezTo>
                  <a:pt x="8806" y="3439"/>
                  <a:pt x="8828" y="3464"/>
                  <a:pt x="8830" y="3473"/>
                </a:cubicBezTo>
                <a:cubicBezTo>
                  <a:pt x="8847" y="3537"/>
                  <a:pt x="8844" y="3631"/>
                  <a:pt x="8855" y="3696"/>
                </a:cubicBezTo>
                <a:cubicBezTo>
                  <a:pt x="8862" y="3736"/>
                  <a:pt x="8883" y="3863"/>
                  <a:pt x="8880" y="3894"/>
                </a:cubicBezTo>
                <a:cubicBezTo>
                  <a:pt x="8873" y="3953"/>
                  <a:pt x="8872" y="4058"/>
                  <a:pt x="8855" y="4118"/>
                </a:cubicBezTo>
                <a:cubicBezTo>
                  <a:pt x="8837" y="4181"/>
                  <a:pt x="8830" y="4222"/>
                  <a:pt x="8830" y="4291"/>
                </a:cubicBezTo>
                <a:cubicBezTo>
                  <a:pt x="8830" y="4359"/>
                  <a:pt x="8839" y="4382"/>
                  <a:pt x="8855" y="4415"/>
                </a:cubicBezTo>
                <a:cubicBezTo>
                  <a:pt x="8857" y="4420"/>
                  <a:pt x="8855" y="4509"/>
                  <a:pt x="8855" y="44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1857240"/>
            <a:ext cx="411480" cy="241560"/>
          </a:xfrm>
          <a:custGeom>
            <a:avLst/>
            <a:gdLst/>
            <a:ahLst/>
            <a:rect l="l" t="t" r="r" b="b"/>
            <a:pathLst>
              <a:path w="1142" h="671">
                <a:moveTo>
                  <a:pt x="5308" y="5358"/>
                </a:moveTo>
                <a:cubicBezTo>
                  <a:pt x="5346" y="5345"/>
                  <a:pt x="5333" y="5328"/>
                  <a:pt x="5333" y="5283"/>
                </a:cubicBezTo>
                <a:cubicBezTo>
                  <a:pt x="5333" y="5249"/>
                  <a:pt x="5305" y="5209"/>
                  <a:pt x="5283" y="5184"/>
                </a:cubicBezTo>
                <a:cubicBezTo>
                  <a:pt x="5265" y="5163"/>
                  <a:pt x="5214" y="5142"/>
                  <a:pt x="5184" y="5159"/>
                </a:cubicBezTo>
                <a:cubicBezTo>
                  <a:pt x="5130" y="5189"/>
                  <a:pt x="5125" y="5207"/>
                  <a:pt x="5085" y="5259"/>
                </a:cubicBezTo>
                <a:cubicBezTo>
                  <a:pt x="5053" y="5301"/>
                  <a:pt x="5023" y="5399"/>
                  <a:pt x="5011" y="5457"/>
                </a:cubicBezTo>
                <a:cubicBezTo>
                  <a:pt x="4993" y="5543"/>
                  <a:pt x="5022" y="5627"/>
                  <a:pt x="5035" y="5705"/>
                </a:cubicBezTo>
                <a:cubicBezTo>
                  <a:pt x="5044" y="5761"/>
                  <a:pt x="5053" y="5785"/>
                  <a:pt x="5110" y="5804"/>
                </a:cubicBezTo>
                <a:cubicBezTo>
                  <a:pt x="5153" y="5818"/>
                  <a:pt x="5203" y="5803"/>
                  <a:pt x="5234" y="5779"/>
                </a:cubicBezTo>
                <a:cubicBezTo>
                  <a:pt x="5279" y="5744"/>
                  <a:pt x="5295" y="5695"/>
                  <a:pt x="5333" y="5655"/>
                </a:cubicBezTo>
                <a:cubicBezTo>
                  <a:pt x="5363" y="5623"/>
                  <a:pt x="5420" y="5550"/>
                  <a:pt x="5432" y="5507"/>
                </a:cubicBezTo>
                <a:cubicBezTo>
                  <a:pt x="5442" y="5471"/>
                  <a:pt x="5453" y="5415"/>
                  <a:pt x="5457" y="5383"/>
                </a:cubicBezTo>
                <a:cubicBezTo>
                  <a:pt x="5457" y="5375"/>
                  <a:pt x="5457" y="5366"/>
                  <a:pt x="5457" y="5358"/>
                </a:cubicBezTo>
                <a:cubicBezTo>
                  <a:pt x="5402" y="5376"/>
                  <a:pt x="5444" y="5393"/>
                  <a:pt x="5457" y="5432"/>
                </a:cubicBezTo>
                <a:cubicBezTo>
                  <a:pt x="5474" y="5484"/>
                  <a:pt x="5474" y="5599"/>
                  <a:pt x="5482" y="5655"/>
                </a:cubicBezTo>
                <a:cubicBezTo>
                  <a:pt x="5489" y="5703"/>
                  <a:pt x="5506" y="5741"/>
                  <a:pt x="5531" y="5779"/>
                </a:cubicBezTo>
                <a:cubicBezTo>
                  <a:pt x="5560" y="5821"/>
                  <a:pt x="5584" y="5829"/>
                  <a:pt x="5631" y="5829"/>
                </a:cubicBezTo>
              </a:path>
              <a:path w="1142" h="671">
                <a:moveTo>
                  <a:pt x="5854" y="5333"/>
                </a:moveTo>
                <a:cubicBezTo>
                  <a:pt x="5953" y="5333"/>
                  <a:pt x="6042" y="5334"/>
                  <a:pt x="6127" y="5308"/>
                </a:cubicBezTo>
                <a:cubicBezTo>
                  <a:pt x="6135" y="5308"/>
                  <a:pt x="6144" y="5308"/>
                  <a:pt x="6152" y="5308"/>
                </a:cubicBezTo>
              </a:path>
              <a:path w="1142" h="671">
                <a:moveTo>
                  <a:pt x="5854" y="5531"/>
                </a:moveTo>
                <a:cubicBezTo>
                  <a:pt x="5956" y="5547"/>
                  <a:pt x="5977" y="5546"/>
                  <a:pt x="6052" y="5531"/>
                </a:cubicBezTo>
                <a:cubicBezTo>
                  <a:pt x="6080" y="5525"/>
                  <a:pt x="6125" y="5531"/>
                  <a:pt x="6152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367000" y="1660680"/>
            <a:ext cx="339840" cy="438120"/>
          </a:xfrm>
          <a:custGeom>
            <a:avLst/>
            <a:gdLst/>
            <a:ahLst/>
            <a:rect l="l" t="t" r="r" b="b"/>
            <a:pathLst>
              <a:path w="944" h="1216">
                <a:moveTo>
                  <a:pt x="6573" y="4762"/>
                </a:moveTo>
                <a:cubicBezTo>
                  <a:pt x="6672" y="4694"/>
                  <a:pt x="6679" y="4701"/>
                  <a:pt x="6772" y="4663"/>
                </a:cubicBezTo>
                <a:cubicBezTo>
                  <a:pt x="6848" y="4632"/>
                  <a:pt x="6851" y="4642"/>
                  <a:pt x="6921" y="4663"/>
                </a:cubicBezTo>
                <a:cubicBezTo>
                  <a:pt x="6943" y="4670"/>
                  <a:pt x="6964" y="4704"/>
                  <a:pt x="6945" y="4738"/>
                </a:cubicBezTo>
                <a:cubicBezTo>
                  <a:pt x="6896" y="4827"/>
                  <a:pt x="6736" y="4883"/>
                  <a:pt x="6697" y="4961"/>
                </a:cubicBezTo>
                <a:cubicBezTo>
                  <a:pt x="6684" y="4987"/>
                  <a:pt x="6658" y="5055"/>
                  <a:pt x="6648" y="5085"/>
                </a:cubicBezTo>
                <a:cubicBezTo>
                  <a:pt x="6622" y="5166"/>
                  <a:pt x="6742" y="5149"/>
                  <a:pt x="6772" y="5135"/>
                </a:cubicBezTo>
                <a:cubicBezTo>
                  <a:pt x="6816" y="5114"/>
                  <a:pt x="6860" y="5071"/>
                  <a:pt x="6896" y="5035"/>
                </a:cubicBezTo>
              </a:path>
              <a:path w="944" h="1216">
                <a:moveTo>
                  <a:pt x="7193" y="4614"/>
                </a:moveTo>
                <a:cubicBezTo>
                  <a:pt x="7166" y="4650"/>
                  <a:pt x="7130" y="4715"/>
                  <a:pt x="7119" y="4762"/>
                </a:cubicBezTo>
                <a:cubicBezTo>
                  <a:pt x="7100" y="4845"/>
                  <a:pt x="7073" y="4927"/>
                  <a:pt x="7045" y="5011"/>
                </a:cubicBezTo>
                <a:cubicBezTo>
                  <a:pt x="7015" y="5101"/>
                  <a:pt x="6993" y="5201"/>
                  <a:pt x="6945" y="5283"/>
                </a:cubicBezTo>
                <a:cubicBezTo>
                  <a:pt x="6893" y="5373"/>
                  <a:pt x="6862" y="5461"/>
                  <a:pt x="6821" y="5556"/>
                </a:cubicBezTo>
                <a:cubicBezTo>
                  <a:pt x="6797" y="5611"/>
                  <a:pt x="6727" y="5691"/>
                  <a:pt x="6747" y="5755"/>
                </a:cubicBezTo>
                <a:cubicBezTo>
                  <a:pt x="6747" y="5779"/>
                  <a:pt x="6747" y="5787"/>
                  <a:pt x="6772" y="5779"/>
                </a:cubicBezTo>
              </a:path>
              <a:path w="944" h="1216">
                <a:moveTo>
                  <a:pt x="7193" y="5259"/>
                </a:moveTo>
                <a:cubicBezTo>
                  <a:pt x="7294" y="5212"/>
                  <a:pt x="7295" y="5209"/>
                  <a:pt x="7392" y="5209"/>
                </a:cubicBezTo>
                <a:cubicBezTo>
                  <a:pt x="7438" y="5209"/>
                  <a:pt x="7460" y="5208"/>
                  <a:pt x="7466" y="5259"/>
                </a:cubicBezTo>
                <a:cubicBezTo>
                  <a:pt x="7470" y="5294"/>
                  <a:pt x="7457" y="5333"/>
                  <a:pt x="7441" y="5358"/>
                </a:cubicBezTo>
                <a:cubicBezTo>
                  <a:pt x="7421" y="5389"/>
                  <a:pt x="7352" y="5416"/>
                  <a:pt x="7342" y="5432"/>
                </a:cubicBezTo>
                <a:cubicBezTo>
                  <a:pt x="7325" y="5457"/>
                  <a:pt x="7327" y="5452"/>
                  <a:pt x="7317" y="5482"/>
                </a:cubicBezTo>
                <a:cubicBezTo>
                  <a:pt x="7358" y="5451"/>
                  <a:pt x="7376" y="5444"/>
                  <a:pt x="7417" y="5482"/>
                </a:cubicBezTo>
                <a:cubicBezTo>
                  <a:pt x="7460" y="5521"/>
                  <a:pt x="7465" y="5563"/>
                  <a:pt x="7491" y="5606"/>
                </a:cubicBezTo>
                <a:cubicBezTo>
                  <a:pt x="7519" y="5652"/>
                  <a:pt x="7521" y="5685"/>
                  <a:pt x="7491" y="5730"/>
                </a:cubicBezTo>
                <a:cubicBezTo>
                  <a:pt x="7474" y="5755"/>
                  <a:pt x="7418" y="5798"/>
                  <a:pt x="7392" y="5804"/>
                </a:cubicBezTo>
                <a:cubicBezTo>
                  <a:pt x="7324" y="5819"/>
                  <a:pt x="7255" y="5860"/>
                  <a:pt x="7193" y="5829"/>
                </a:cubicBezTo>
                <a:cubicBezTo>
                  <a:pt x="7193" y="5821"/>
                  <a:pt x="7193" y="5812"/>
                  <a:pt x="7193" y="58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089160" y="1866960"/>
            <a:ext cx="411120" cy="339840"/>
          </a:xfrm>
          <a:custGeom>
            <a:avLst/>
            <a:gdLst/>
            <a:ahLst/>
            <a:rect l="l" t="t" r="r" b="b"/>
            <a:pathLst>
              <a:path w="1142" h="944">
                <a:moveTo>
                  <a:pt x="8706" y="5432"/>
                </a:moveTo>
                <a:cubicBezTo>
                  <a:pt x="8706" y="5511"/>
                  <a:pt x="8727" y="5578"/>
                  <a:pt x="8731" y="5655"/>
                </a:cubicBezTo>
                <a:cubicBezTo>
                  <a:pt x="8735" y="5738"/>
                  <a:pt x="8710" y="5801"/>
                  <a:pt x="8706" y="5879"/>
                </a:cubicBezTo>
                <a:cubicBezTo>
                  <a:pt x="8703" y="5931"/>
                  <a:pt x="8706" y="6133"/>
                  <a:pt x="8706" y="6102"/>
                </a:cubicBezTo>
              </a:path>
              <a:path w="1142" h="944">
                <a:moveTo>
                  <a:pt x="8582" y="5283"/>
                </a:moveTo>
                <a:cubicBezTo>
                  <a:pt x="8619" y="5219"/>
                  <a:pt x="8630" y="5188"/>
                  <a:pt x="8706" y="5184"/>
                </a:cubicBezTo>
                <a:cubicBezTo>
                  <a:pt x="8779" y="5180"/>
                  <a:pt x="8845" y="5187"/>
                  <a:pt x="8905" y="5234"/>
                </a:cubicBezTo>
                <a:cubicBezTo>
                  <a:pt x="8975" y="5289"/>
                  <a:pt x="9049" y="5372"/>
                  <a:pt x="9054" y="5457"/>
                </a:cubicBezTo>
                <a:cubicBezTo>
                  <a:pt x="9058" y="5525"/>
                  <a:pt x="9050" y="5535"/>
                  <a:pt x="9004" y="5581"/>
                </a:cubicBezTo>
                <a:cubicBezTo>
                  <a:pt x="8966" y="5619"/>
                  <a:pt x="8933" y="5662"/>
                  <a:pt x="8880" y="5680"/>
                </a:cubicBezTo>
                <a:cubicBezTo>
                  <a:pt x="8845" y="5691"/>
                  <a:pt x="8772" y="5740"/>
                  <a:pt x="8781" y="5705"/>
                </a:cubicBezTo>
                <a:cubicBezTo>
                  <a:pt x="8789" y="5697"/>
                  <a:pt x="8798" y="5688"/>
                  <a:pt x="8806" y="5680"/>
                </a:cubicBezTo>
              </a:path>
              <a:path w="1142" h="944">
                <a:moveTo>
                  <a:pt x="9376" y="5407"/>
                </a:moveTo>
                <a:cubicBezTo>
                  <a:pt x="9449" y="5407"/>
                  <a:pt x="9514" y="5395"/>
                  <a:pt x="9575" y="5383"/>
                </a:cubicBezTo>
                <a:cubicBezTo>
                  <a:pt x="9635" y="5371"/>
                  <a:pt x="9653" y="5392"/>
                  <a:pt x="9699" y="5407"/>
                </a:cubicBezTo>
                <a:cubicBezTo>
                  <a:pt x="9707" y="5407"/>
                  <a:pt x="9715" y="5407"/>
                  <a:pt x="9723" y="5407"/>
                </a:cubicBezTo>
              </a:path>
              <a:path w="1142" h="944">
                <a:moveTo>
                  <a:pt x="9451" y="5581"/>
                </a:moveTo>
                <a:cubicBezTo>
                  <a:pt x="9517" y="5581"/>
                  <a:pt x="9583" y="5581"/>
                  <a:pt x="9649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679920" y="1803240"/>
            <a:ext cx="446040" cy="277920"/>
          </a:xfrm>
          <a:custGeom>
            <a:avLst/>
            <a:gdLst/>
            <a:ahLst/>
            <a:rect l="l" t="t" r="r" b="b"/>
            <a:pathLst>
              <a:path w="1241" h="769">
                <a:moveTo>
                  <a:pt x="10567" y="5259"/>
                </a:moveTo>
                <a:cubicBezTo>
                  <a:pt x="10604" y="5178"/>
                  <a:pt x="10644" y="5138"/>
                  <a:pt x="10592" y="5060"/>
                </a:cubicBezTo>
                <a:cubicBezTo>
                  <a:pt x="10571" y="5028"/>
                  <a:pt x="10504" y="5013"/>
                  <a:pt x="10468" y="5011"/>
                </a:cubicBezTo>
                <a:cubicBezTo>
                  <a:pt x="10408" y="5007"/>
                  <a:pt x="10367" y="5026"/>
                  <a:pt x="10319" y="5035"/>
                </a:cubicBezTo>
                <a:cubicBezTo>
                  <a:pt x="10268" y="5045"/>
                  <a:pt x="10225" y="5045"/>
                  <a:pt x="10220" y="5110"/>
                </a:cubicBezTo>
                <a:cubicBezTo>
                  <a:pt x="10216" y="5162"/>
                  <a:pt x="10261" y="5240"/>
                  <a:pt x="10294" y="5283"/>
                </a:cubicBezTo>
                <a:cubicBezTo>
                  <a:pt x="10367" y="5376"/>
                  <a:pt x="10418" y="5450"/>
                  <a:pt x="10468" y="5556"/>
                </a:cubicBezTo>
                <a:cubicBezTo>
                  <a:pt x="10498" y="5621"/>
                  <a:pt x="10502" y="5659"/>
                  <a:pt x="10492" y="5705"/>
                </a:cubicBezTo>
                <a:cubicBezTo>
                  <a:pt x="10485" y="5736"/>
                  <a:pt x="10462" y="5779"/>
                  <a:pt x="10418" y="5755"/>
                </a:cubicBezTo>
                <a:cubicBezTo>
                  <a:pt x="10361" y="5723"/>
                  <a:pt x="10336" y="5685"/>
                  <a:pt x="10294" y="5631"/>
                </a:cubicBezTo>
                <a:cubicBezTo>
                  <a:pt x="10271" y="5601"/>
                  <a:pt x="10251" y="5525"/>
                  <a:pt x="10269" y="5482"/>
                </a:cubicBezTo>
                <a:cubicBezTo>
                  <a:pt x="10280" y="5455"/>
                  <a:pt x="10321" y="5377"/>
                  <a:pt x="10344" y="5358"/>
                </a:cubicBezTo>
                <a:cubicBezTo>
                  <a:pt x="10399" y="5311"/>
                  <a:pt x="10474" y="5261"/>
                  <a:pt x="10542" y="5234"/>
                </a:cubicBezTo>
                <a:cubicBezTo>
                  <a:pt x="10602" y="5214"/>
                  <a:pt x="10617" y="5215"/>
                  <a:pt x="10641" y="5184"/>
                </a:cubicBezTo>
              </a:path>
              <a:path w="1241" h="769">
                <a:moveTo>
                  <a:pt x="10988" y="5110"/>
                </a:moveTo>
                <a:cubicBezTo>
                  <a:pt x="11086" y="5110"/>
                  <a:pt x="11148" y="5108"/>
                  <a:pt x="11237" y="5085"/>
                </a:cubicBezTo>
                <a:cubicBezTo>
                  <a:pt x="11281" y="5074"/>
                  <a:pt x="11348" y="5067"/>
                  <a:pt x="11385" y="5060"/>
                </a:cubicBezTo>
                <a:cubicBezTo>
                  <a:pt x="11427" y="5060"/>
                  <a:pt x="11443" y="5068"/>
                  <a:pt x="11435" y="5035"/>
                </a:cubicBezTo>
              </a:path>
              <a:path w="1241" h="769">
                <a:moveTo>
                  <a:pt x="11088" y="5035"/>
                </a:moveTo>
                <a:cubicBezTo>
                  <a:pt x="11047" y="5151"/>
                  <a:pt x="11038" y="5193"/>
                  <a:pt x="11038" y="5308"/>
                </a:cubicBezTo>
                <a:cubicBezTo>
                  <a:pt x="11038" y="5382"/>
                  <a:pt x="11017" y="5436"/>
                  <a:pt x="11013" y="5507"/>
                </a:cubicBezTo>
                <a:cubicBezTo>
                  <a:pt x="11009" y="5572"/>
                  <a:pt x="11021" y="5581"/>
                  <a:pt x="11038" y="5631"/>
                </a:cubicBezTo>
                <a:cubicBezTo>
                  <a:pt x="11038" y="5655"/>
                  <a:pt x="11038" y="5663"/>
                  <a:pt x="11063" y="5655"/>
                </a:cubicBezTo>
                <a:cubicBezTo>
                  <a:pt x="11099" y="5609"/>
                  <a:pt x="11107" y="5572"/>
                  <a:pt x="11137" y="5507"/>
                </a:cubicBezTo>
              </a:path>
              <a:path w="1241" h="769">
                <a:moveTo>
                  <a:pt x="11311" y="5159"/>
                </a:moveTo>
                <a:cubicBezTo>
                  <a:pt x="11311" y="5260"/>
                  <a:pt x="11320" y="5340"/>
                  <a:pt x="11336" y="5432"/>
                </a:cubicBezTo>
                <a:cubicBezTo>
                  <a:pt x="11346" y="5493"/>
                  <a:pt x="11335" y="5553"/>
                  <a:pt x="11361" y="5606"/>
                </a:cubicBezTo>
                <a:cubicBezTo>
                  <a:pt x="11379" y="5642"/>
                  <a:pt x="11415" y="5700"/>
                  <a:pt x="11435" y="5730"/>
                </a:cubicBezTo>
                <a:cubicBezTo>
                  <a:pt x="11457" y="5752"/>
                  <a:pt x="11466" y="5757"/>
                  <a:pt x="11460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062000" y="2741760"/>
            <a:ext cx="509760" cy="527040"/>
          </a:xfrm>
          <a:custGeom>
            <a:avLst/>
            <a:gdLst/>
            <a:ahLst/>
            <a:rect l="l" t="t" r="r" b="b"/>
            <a:pathLst>
              <a:path w="1415" h="1465">
                <a:moveTo>
                  <a:pt x="3795" y="8830"/>
                </a:moveTo>
                <a:cubicBezTo>
                  <a:pt x="3896" y="8830"/>
                  <a:pt x="4030" y="8863"/>
                  <a:pt x="4118" y="8855"/>
                </a:cubicBezTo>
                <a:cubicBezTo>
                  <a:pt x="4187" y="8849"/>
                  <a:pt x="4244" y="8830"/>
                  <a:pt x="4316" y="8830"/>
                </a:cubicBezTo>
                <a:cubicBezTo>
                  <a:pt x="4341" y="8830"/>
                  <a:pt x="4349" y="8830"/>
                  <a:pt x="4366" y="8830"/>
                </a:cubicBezTo>
                <a:cubicBezTo>
                  <a:pt x="4308" y="8830"/>
                  <a:pt x="4272" y="8826"/>
                  <a:pt x="4217" y="8806"/>
                </a:cubicBezTo>
              </a:path>
              <a:path w="1415" h="1465">
                <a:moveTo>
                  <a:pt x="3175" y="8657"/>
                </a:moveTo>
                <a:cubicBezTo>
                  <a:pt x="3175" y="8710"/>
                  <a:pt x="3195" y="8727"/>
                  <a:pt x="3200" y="8781"/>
                </a:cubicBezTo>
                <a:cubicBezTo>
                  <a:pt x="3205" y="8839"/>
                  <a:pt x="3179" y="8876"/>
                  <a:pt x="3175" y="8930"/>
                </a:cubicBezTo>
                <a:cubicBezTo>
                  <a:pt x="3171" y="8983"/>
                  <a:pt x="3195" y="9064"/>
                  <a:pt x="3150" y="9079"/>
                </a:cubicBezTo>
              </a:path>
              <a:path w="1415" h="1465">
                <a:moveTo>
                  <a:pt x="3671" y="7838"/>
                </a:moveTo>
                <a:cubicBezTo>
                  <a:pt x="3869" y="7838"/>
                  <a:pt x="4068" y="7838"/>
                  <a:pt x="4266" y="7838"/>
                </a:cubicBezTo>
                <a:cubicBezTo>
                  <a:pt x="4251" y="7790"/>
                  <a:pt x="4220" y="7825"/>
                  <a:pt x="4167" y="7813"/>
                </a:cubicBezTo>
                <a:cubicBezTo>
                  <a:pt x="4142" y="7805"/>
                  <a:pt x="4118" y="7797"/>
                  <a:pt x="4093" y="7789"/>
                </a:cubicBezTo>
              </a:path>
              <a:path w="1415" h="1465">
                <a:moveTo>
                  <a:pt x="2952" y="7689"/>
                </a:moveTo>
                <a:cubicBezTo>
                  <a:pt x="2985" y="7670"/>
                  <a:pt x="3043" y="7622"/>
                  <a:pt x="3076" y="7615"/>
                </a:cubicBezTo>
                <a:cubicBezTo>
                  <a:pt x="3125" y="7604"/>
                  <a:pt x="3209" y="7616"/>
                  <a:pt x="3249" y="7640"/>
                </a:cubicBezTo>
                <a:cubicBezTo>
                  <a:pt x="3301" y="7672"/>
                  <a:pt x="3265" y="7749"/>
                  <a:pt x="3249" y="7789"/>
                </a:cubicBezTo>
                <a:cubicBezTo>
                  <a:pt x="3227" y="7844"/>
                  <a:pt x="3174" y="7905"/>
                  <a:pt x="3125" y="7938"/>
                </a:cubicBezTo>
                <a:cubicBezTo>
                  <a:pt x="3081" y="7967"/>
                  <a:pt x="3064" y="7958"/>
                  <a:pt x="3026" y="7987"/>
                </a:cubicBezTo>
                <a:cubicBezTo>
                  <a:pt x="3038" y="8037"/>
                  <a:pt x="3050" y="8037"/>
                  <a:pt x="3101" y="8037"/>
                </a:cubicBezTo>
                <a:cubicBezTo>
                  <a:pt x="3165" y="8037"/>
                  <a:pt x="3212" y="8017"/>
                  <a:pt x="3274" y="8012"/>
                </a:cubicBezTo>
                <a:cubicBezTo>
                  <a:pt x="3318" y="8009"/>
                  <a:pt x="3337" y="8002"/>
                  <a:pt x="3349" y="8037"/>
                </a:cubicBezTo>
              </a:path>
            </a:pathLst>
          </a:custGeom>
          <a:noFill/>
          <a:ln cap="rnd" w="349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50960" y="2840040"/>
            <a:ext cx="6018120" cy="1465200"/>
          </a:xfrm>
          <a:custGeom>
            <a:avLst/>
            <a:gdLst/>
            <a:ahLst/>
            <a:rect l="l" t="t" r="r" b="b"/>
            <a:pathLst>
              <a:path w="16719" h="4069">
                <a:moveTo>
                  <a:pt x="3969" y="7888"/>
                </a:moveTo>
                <a:cubicBezTo>
                  <a:pt x="3969" y="7913"/>
                  <a:pt x="3969" y="7921"/>
                  <a:pt x="3969" y="7938"/>
                </a:cubicBezTo>
                <a:cubicBezTo>
                  <a:pt x="3975" y="7953"/>
                  <a:pt x="3991" y="7967"/>
                  <a:pt x="3994" y="8012"/>
                </a:cubicBezTo>
                <a:cubicBezTo>
                  <a:pt x="3994" y="8020"/>
                  <a:pt x="3994" y="8029"/>
                  <a:pt x="3994" y="8037"/>
                </a:cubicBezTo>
                <a:cubicBezTo>
                  <a:pt x="3998" y="8049"/>
                  <a:pt x="4016" y="8069"/>
                  <a:pt x="4018" y="8111"/>
                </a:cubicBezTo>
                <a:cubicBezTo>
                  <a:pt x="4021" y="8177"/>
                  <a:pt x="4018" y="8244"/>
                  <a:pt x="4018" y="8310"/>
                </a:cubicBezTo>
                <a:cubicBezTo>
                  <a:pt x="4022" y="8323"/>
                  <a:pt x="4041" y="8340"/>
                  <a:pt x="4043" y="8384"/>
                </a:cubicBezTo>
                <a:cubicBezTo>
                  <a:pt x="4049" y="8532"/>
                  <a:pt x="4043" y="8682"/>
                  <a:pt x="4043" y="8830"/>
                </a:cubicBezTo>
                <a:cubicBezTo>
                  <a:pt x="4039" y="8843"/>
                  <a:pt x="4020" y="8861"/>
                  <a:pt x="4018" y="8905"/>
                </a:cubicBezTo>
                <a:cubicBezTo>
                  <a:pt x="4016" y="8959"/>
                  <a:pt x="3998" y="9013"/>
                  <a:pt x="3994" y="9054"/>
                </a:cubicBezTo>
                <a:cubicBezTo>
                  <a:pt x="3975" y="9233"/>
                  <a:pt x="4000" y="9435"/>
                  <a:pt x="4018" y="9599"/>
                </a:cubicBezTo>
                <a:cubicBezTo>
                  <a:pt x="4096" y="10325"/>
                  <a:pt x="3963" y="11094"/>
                  <a:pt x="4043" y="11807"/>
                </a:cubicBezTo>
                <a:cubicBezTo>
                  <a:pt x="4049" y="11865"/>
                  <a:pt x="4043" y="11873"/>
                  <a:pt x="4043" y="11931"/>
                </a:cubicBezTo>
              </a:path>
              <a:path w="16719" h="4069">
                <a:moveTo>
                  <a:pt x="2084" y="9872"/>
                </a:moveTo>
                <a:cubicBezTo>
                  <a:pt x="2679" y="9872"/>
                  <a:pt x="3261" y="9891"/>
                  <a:pt x="3845" y="9897"/>
                </a:cubicBezTo>
                <a:cubicBezTo>
                  <a:pt x="3913" y="9898"/>
                  <a:pt x="3998" y="9897"/>
                  <a:pt x="4043" y="9897"/>
                </a:cubicBezTo>
                <a:cubicBezTo>
                  <a:pt x="4355" y="9897"/>
                  <a:pt x="4680" y="9914"/>
                  <a:pt x="4961" y="9922"/>
                </a:cubicBezTo>
                <a:cubicBezTo>
                  <a:pt x="5145" y="9927"/>
                  <a:pt x="5327" y="9901"/>
                  <a:pt x="5482" y="9897"/>
                </a:cubicBezTo>
                <a:cubicBezTo>
                  <a:pt x="5849" y="9887"/>
                  <a:pt x="6212" y="9900"/>
                  <a:pt x="6573" y="9872"/>
                </a:cubicBezTo>
                <a:cubicBezTo>
                  <a:pt x="6692" y="9863"/>
                  <a:pt x="6801" y="9856"/>
                  <a:pt x="6921" y="9847"/>
                </a:cubicBezTo>
                <a:cubicBezTo>
                  <a:pt x="7047" y="9837"/>
                  <a:pt x="7175" y="9821"/>
                  <a:pt x="7293" y="9823"/>
                </a:cubicBezTo>
                <a:cubicBezTo>
                  <a:pt x="7517" y="9827"/>
                  <a:pt x="7762" y="9855"/>
                  <a:pt x="7987" y="9872"/>
                </a:cubicBezTo>
                <a:cubicBezTo>
                  <a:pt x="8106" y="9881"/>
                  <a:pt x="8219" y="9893"/>
                  <a:pt x="8334" y="9897"/>
                </a:cubicBezTo>
                <a:cubicBezTo>
                  <a:pt x="8518" y="9904"/>
                  <a:pt x="8698" y="9917"/>
                  <a:pt x="8880" y="9922"/>
                </a:cubicBezTo>
                <a:cubicBezTo>
                  <a:pt x="8994" y="9925"/>
                  <a:pt x="9131" y="9943"/>
                  <a:pt x="9227" y="9947"/>
                </a:cubicBezTo>
                <a:cubicBezTo>
                  <a:pt x="9421" y="9954"/>
                  <a:pt x="9610" y="9964"/>
                  <a:pt x="9798" y="9971"/>
                </a:cubicBezTo>
                <a:cubicBezTo>
                  <a:pt x="9962" y="9977"/>
                  <a:pt x="10117" y="9960"/>
                  <a:pt x="10269" y="9947"/>
                </a:cubicBezTo>
                <a:cubicBezTo>
                  <a:pt x="10358" y="9939"/>
                  <a:pt x="10426" y="9931"/>
                  <a:pt x="10517" y="9922"/>
                </a:cubicBezTo>
                <a:cubicBezTo>
                  <a:pt x="10573" y="9916"/>
                  <a:pt x="10647" y="9900"/>
                  <a:pt x="10716" y="9897"/>
                </a:cubicBezTo>
                <a:cubicBezTo>
                  <a:pt x="11129" y="9879"/>
                  <a:pt x="11527" y="9918"/>
                  <a:pt x="11931" y="9922"/>
                </a:cubicBezTo>
                <a:cubicBezTo>
                  <a:pt x="12135" y="9924"/>
                  <a:pt x="12326" y="9932"/>
                  <a:pt x="12526" y="9947"/>
                </a:cubicBezTo>
                <a:cubicBezTo>
                  <a:pt x="12629" y="9955"/>
                  <a:pt x="12719" y="9972"/>
                  <a:pt x="12824" y="9971"/>
                </a:cubicBezTo>
                <a:cubicBezTo>
                  <a:pt x="12943" y="9970"/>
                  <a:pt x="13053" y="9955"/>
                  <a:pt x="13171" y="9947"/>
                </a:cubicBezTo>
                <a:cubicBezTo>
                  <a:pt x="13258" y="9941"/>
                  <a:pt x="13336" y="9929"/>
                  <a:pt x="13419" y="9922"/>
                </a:cubicBezTo>
                <a:cubicBezTo>
                  <a:pt x="13539" y="9912"/>
                  <a:pt x="13645" y="9902"/>
                  <a:pt x="13767" y="9897"/>
                </a:cubicBezTo>
                <a:cubicBezTo>
                  <a:pt x="14212" y="9879"/>
                  <a:pt x="14651" y="9933"/>
                  <a:pt x="15081" y="9971"/>
                </a:cubicBezTo>
                <a:cubicBezTo>
                  <a:pt x="15198" y="9981"/>
                  <a:pt x="15312" y="9979"/>
                  <a:pt x="15429" y="9996"/>
                </a:cubicBezTo>
                <a:cubicBezTo>
                  <a:pt x="15531" y="10011"/>
                  <a:pt x="15664" y="10041"/>
                  <a:pt x="15776" y="10046"/>
                </a:cubicBezTo>
                <a:cubicBezTo>
                  <a:pt x="15926" y="10052"/>
                  <a:pt x="16055" y="10032"/>
                  <a:pt x="16197" y="10021"/>
                </a:cubicBezTo>
                <a:cubicBezTo>
                  <a:pt x="16270" y="10015"/>
                  <a:pt x="16331" y="9999"/>
                  <a:pt x="16396" y="9996"/>
                </a:cubicBezTo>
                <a:cubicBezTo>
                  <a:pt x="16543" y="9990"/>
                  <a:pt x="16682" y="9977"/>
                  <a:pt x="16818" y="9971"/>
                </a:cubicBezTo>
                <a:cubicBezTo>
                  <a:pt x="17139" y="9957"/>
                  <a:pt x="17449" y="9971"/>
                  <a:pt x="17760" y="9947"/>
                </a:cubicBezTo>
                <a:cubicBezTo>
                  <a:pt x="17878" y="9938"/>
                  <a:pt x="17992" y="9926"/>
                  <a:pt x="18107" y="9922"/>
                </a:cubicBezTo>
                <a:cubicBezTo>
                  <a:pt x="18313" y="9916"/>
                  <a:pt x="18664" y="9939"/>
                  <a:pt x="18777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938160" y="3276720"/>
            <a:ext cx="6875640" cy="1054080"/>
          </a:xfrm>
          <a:custGeom>
            <a:avLst/>
            <a:gdLst/>
            <a:ahLst/>
            <a:rect l="l" t="t" r="r" b="b"/>
            <a:pathLst>
              <a:path w="19101" h="2928">
                <a:moveTo>
                  <a:pt x="5978" y="9525"/>
                </a:moveTo>
                <a:cubicBezTo>
                  <a:pt x="5978" y="9624"/>
                  <a:pt x="5987" y="9706"/>
                  <a:pt x="6003" y="9798"/>
                </a:cubicBezTo>
                <a:cubicBezTo>
                  <a:pt x="6013" y="9857"/>
                  <a:pt x="6017" y="9921"/>
                  <a:pt x="6028" y="9971"/>
                </a:cubicBezTo>
                <a:cubicBezTo>
                  <a:pt x="6039" y="10022"/>
                  <a:pt x="6028" y="10093"/>
                  <a:pt x="6028" y="10145"/>
                </a:cubicBezTo>
              </a:path>
              <a:path w="19101" h="2928">
                <a:moveTo>
                  <a:pt x="5680" y="10468"/>
                </a:moveTo>
                <a:cubicBezTo>
                  <a:pt x="5705" y="10434"/>
                  <a:pt x="5712" y="10408"/>
                  <a:pt x="5755" y="10393"/>
                </a:cubicBezTo>
                <a:cubicBezTo>
                  <a:pt x="5815" y="10373"/>
                  <a:pt x="5799" y="10378"/>
                  <a:pt x="5829" y="10393"/>
                </a:cubicBezTo>
                <a:cubicBezTo>
                  <a:pt x="5859" y="10408"/>
                  <a:pt x="5895" y="10427"/>
                  <a:pt x="5904" y="10468"/>
                </a:cubicBezTo>
                <a:cubicBezTo>
                  <a:pt x="5917" y="10529"/>
                  <a:pt x="5888" y="10593"/>
                  <a:pt x="5854" y="10641"/>
                </a:cubicBezTo>
                <a:cubicBezTo>
                  <a:pt x="5816" y="10695"/>
                  <a:pt x="5778" y="10742"/>
                  <a:pt x="5730" y="10790"/>
                </a:cubicBezTo>
                <a:cubicBezTo>
                  <a:pt x="5680" y="10840"/>
                  <a:pt x="5679" y="10803"/>
                  <a:pt x="5655" y="10790"/>
                </a:cubicBezTo>
                <a:cubicBezTo>
                  <a:pt x="5629" y="10777"/>
                  <a:pt x="5650" y="10749"/>
                  <a:pt x="5680" y="10716"/>
                </a:cubicBezTo>
                <a:cubicBezTo>
                  <a:pt x="5725" y="10666"/>
                  <a:pt x="5735" y="10701"/>
                  <a:pt x="5779" y="10716"/>
                </a:cubicBezTo>
                <a:cubicBezTo>
                  <a:pt x="5816" y="10728"/>
                  <a:pt x="5836" y="10740"/>
                  <a:pt x="5879" y="10740"/>
                </a:cubicBezTo>
                <a:cubicBezTo>
                  <a:pt x="5907" y="10740"/>
                  <a:pt x="5917" y="10738"/>
                  <a:pt x="5928" y="10716"/>
                </a:cubicBezTo>
              </a:path>
              <a:path w="19101" h="2928">
                <a:moveTo>
                  <a:pt x="6077" y="10492"/>
                </a:moveTo>
                <a:cubicBezTo>
                  <a:pt x="6127" y="10492"/>
                  <a:pt x="6212" y="10509"/>
                  <a:pt x="6226" y="10468"/>
                </a:cubicBezTo>
              </a:path>
              <a:path w="19101" h="2928">
                <a:moveTo>
                  <a:pt x="6077" y="10492"/>
                </a:moveTo>
                <a:cubicBezTo>
                  <a:pt x="6102" y="10509"/>
                  <a:pt x="6127" y="10525"/>
                  <a:pt x="6152" y="10542"/>
                </a:cubicBezTo>
              </a:path>
              <a:path w="19101" h="2928">
                <a:moveTo>
                  <a:pt x="6152" y="10542"/>
                </a:moveTo>
                <a:cubicBezTo>
                  <a:pt x="6135" y="10615"/>
                  <a:pt x="6127" y="10649"/>
                  <a:pt x="6127" y="10716"/>
                </a:cubicBezTo>
                <a:cubicBezTo>
                  <a:pt x="6127" y="10798"/>
                  <a:pt x="6172" y="10675"/>
                  <a:pt x="6176" y="10666"/>
                </a:cubicBezTo>
              </a:path>
              <a:path w="19101" h="2928">
                <a:moveTo>
                  <a:pt x="6276" y="10468"/>
                </a:moveTo>
                <a:cubicBezTo>
                  <a:pt x="6276" y="10558"/>
                  <a:pt x="6259" y="10588"/>
                  <a:pt x="6251" y="10666"/>
                </a:cubicBezTo>
                <a:cubicBezTo>
                  <a:pt x="6248" y="10697"/>
                  <a:pt x="6271" y="10729"/>
                  <a:pt x="6276" y="10765"/>
                </a:cubicBezTo>
              </a:path>
              <a:path w="19101" h="2928">
                <a:moveTo>
                  <a:pt x="7962" y="9500"/>
                </a:moveTo>
                <a:cubicBezTo>
                  <a:pt x="7962" y="9567"/>
                  <a:pt x="7976" y="9612"/>
                  <a:pt x="7987" y="9674"/>
                </a:cubicBezTo>
                <a:cubicBezTo>
                  <a:pt x="8006" y="9789"/>
                  <a:pt x="7987" y="9929"/>
                  <a:pt x="7987" y="10046"/>
                </a:cubicBezTo>
              </a:path>
              <a:path w="19101" h="2928">
                <a:moveTo>
                  <a:pt x="7615" y="10418"/>
                </a:moveTo>
                <a:cubicBezTo>
                  <a:pt x="7615" y="10478"/>
                  <a:pt x="7596" y="10561"/>
                  <a:pt x="7665" y="10592"/>
                </a:cubicBezTo>
                <a:cubicBezTo>
                  <a:pt x="7706" y="10611"/>
                  <a:pt x="7735" y="10577"/>
                  <a:pt x="7764" y="10567"/>
                </a:cubicBezTo>
                <a:cubicBezTo>
                  <a:pt x="7789" y="10567"/>
                  <a:pt x="7797" y="10567"/>
                  <a:pt x="7789" y="10542"/>
                </a:cubicBezTo>
              </a:path>
              <a:path w="19101" h="2928">
                <a:moveTo>
                  <a:pt x="7838" y="10344"/>
                </a:moveTo>
                <a:cubicBezTo>
                  <a:pt x="7838" y="10442"/>
                  <a:pt x="7834" y="10503"/>
                  <a:pt x="7813" y="10592"/>
                </a:cubicBezTo>
                <a:cubicBezTo>
                  <a:pt x="7798" y="10656"/>
                  <a:pt x="7822" y="10692"/>
                  <a:pt x="7838" y="10740"/>
                </a:cubicBezTo>
                <a:cubicBezTo>
                  <a:pt x="7848" y="10770"/>
                  <a:pt x="7833" y="10755"/>
                  <a:pt x="7863" y="10716"/>
                </a:cubicBezTo>
              </a:path>
              <a:path w="19101" h="2928">
                <a:moveTo>
                  <a:pt x="8012" y="10393"/>
                </a:moveTo>
                <a:cubicBezTo>
                  <a:pt x="8089" y="10393"/>
                  <a:pt x="8197" y="10415"/>
                  <a:pt x="8260" y="10368"/>
                </a:cubicBezTo>
              </a:path>
              <a:path w="19101" h="2928">
                <a:moveTo>
                  <a:pt x="8136" y="10368"/>
                </a:moveTo>
                <a:cubicBezTo>
                  <a:pt x="8118" y="10450"/>
                  <a:pt x="8092" y="10517"/>
                  <a:pt x="8086" y="10592"/>
                </a:cubicBezTo>
                <a:cubicBezTo>
                  <a:pt x="8083" y="10633"/>
                  <a:pt x="8086" y="10675"/>
                  <a:pt x="8086" y="10716"/>
                </a:cubicBezTo>
              </a:path>
              <a:path w="19101" h="2928">
                <a:moveTo>
                  <a:pt x="8235" y="10418"/>
                </a:moveTo>
                <a:cubicBezTo>
                  <a:pt x="8251" y="10501"/>
                  <a:pt x="8264" y="10572"/>
                  <a:pt x="8285" y="10641"/>
                </a:cubicBezTo>
                <a:cubicBezTo>
                  <a:pt x="8300" y="10692"/>
                  <a:pt x="8320" y="10682"/>
                  <a:pt x="8359" y="10716"/>
                </a:cubicBezTo>
                <a:cubicBezTo>
                  <a:pt x="8367" y="10724"/>
                  <a:pt x="8376" y="10732"/>
                  <a:pt x="8384" y="10740"/>
                </a:cubicBezTo>
              </a:path>
              <a:path w="19101" h="2928">
                <a:moveTo>
                  <a:pt x="9996" y="9699"/>
                </a:moveTo>
                <a:cubicBezTo>
                  <a:pt x="9977" y="9804"/>
                  <a:pt x="9948" y="9938"/>
                  <a:pt x="9971" y="10046"/>
                </a:cubicBezTo>
                <a:cubicBezTo>
                  <a:pt x="9982" y="10099"/>
                  <a:pt x="9996" y="10116"/>
                  <a:pt x="9996" y="10170"/>
                </a:cubicBezTo>
                <a:cubicBezTo>
                  <a:pt x="9996" y="10214"/>
                  <a:pt x="9994" y="10209"/>
                  <a:pt x="10021" y="10244"/>
                </a:cubicBezTo>
              </a:path>
              <a:path w="19101" h="2928">
                <a:moveTo>
                  <a:pt x="9872" y="10443"/>
                </a:moveTo>
                <a:cubicBezTo>
                  <a:pt x="9844" y="10513"/>
                  <a:pt x="9823" y="10543"/>
                  <a:pt x="9823" y="10616"/>
                </a:cubicBezTo>
                <a:cubicBezTo>
                  <a:pt x="9823" y="10657"/>
                  <a:pt x="9823" y="10699"/>
                  <a:pt x="9823" y="10740"/>
                </a:cubicBezTo>
                <a:cubicBezTo>
                  <a:pt x="9892" y="10740"/>
                  <a:pt x="9847" y="10753"/>
                  <a:pt x="9897" y="10740"/>
                </a:cubicBezTo>
                <a:cubicBezTo>
                  <a:pt x="9935" y="10731"/>
                  <a:pt x="9958" y="10705"/>
                  <a:pt x="9971" y="10666"/>
                </a:cubicBezTo>
                <a:cubicBezTo>
                  <a:pt x="9983" y="10629"/>
                  <a:pt x="9996" y="10610"/>
                  <a:pt x="9996" y="10567"/>
                </a:cubicBezTo>
                <a:cubicBezTo>
                  <a:pt x="9946" y="10580"/>
                  <a:pt x="9947" y="10624"/>
                  <a:pt x="9922" y="10641"/>
                </a:cubicBezTo>
                <a:cubicBezTo>
                  <a:pt x="9904" y="10653"/>
                  <a:pt x="9867" y="10688"/>
                  <a:pt x="9922" y="10716"/>
                </a:cubicBezTo>
                <a:cubicBezTo>
                  <a:pt x="9950" y="10716"/>
                  <a:pt x="9961" y="10714"/>
                  <a:pt x="9971" y="10691"/>
                </a:cubicBezTo>
              </a:path>
              <a:path w="19101" h="2928">
                <a:moveTo>
                  <a:pt x="10170" y="10393"/>
                </a:moveTo>
                <a:cubicBezTo>
                  <a:pt x="10228" y="10393"/>
                  <a:pt x="10286" y="10393"/>
                  <a:pt x="10344" y="10393"/>
                </a:cubicBezTo>
              </a:path>
              <a:path w="19101" h="2928">
                <a:moveTo>
                  <a:pt x="10220" y="10418"/>
                </a:moveTo>
                <a:cubicBezTo>
                  <a:pt x="10202" y="10501"/>
                  <a:pt x="10195" y="10559"/>
                  <a:pt x="10195" y="10641"/>
                </a:cubicBezTo>
                <a:cubicBezTo>
                  <a:pt x="10195" y="10683"/>
                  <a:pt x="10210" y="10682"/>
                  <a:pt x="10244" y="10691"/>
                </a:cubicBezTo>
              </a:path>
              <a:path w="19101" h="2928">
                <a:moveTo>
                  <a:pt x="10344" y="10468"/>
                </a:moveTo>
                <a:cubicBezTo>
                  <a:pt x="10358" y="10557"/>
                  <a:pt x="10368" y="10610"/>
                  <a:pt x="10368" y="10691"/>
                </a:cubicBezTo>
                <a:cubicBezTo>
                  <a:pt x="10368" y="10716"/>
                  <a:pt x="10368" y="10724"/>
                  <a:pt x="10393" y="10716"/>
                </a:cubicBezTo>
              </a:path>
              <a:path w="19101" h="2928">
                <a:moveTo>
                  <a:pt x="12055" y="9674"/>
                </a:moveTo>
                <a:cubicBezTo>
                  <a:pt x="12055" y="9756"/>
                  <a:pt x="12044" y="9829"/>
                  <a:pt x="12030" y="9897"/>
                </a:cubicBezTo>
                <a:cubicBezTo>
                  <a:pt x="12019" y="9951"/>
                  <a:pt x="12055" y="9991"/>
                  <a:pt x="12055" y="10046"/>
                </a:cubicBezTo>
                <a:cubicBezTo>
                  <a:pt x="12055" y="10090"/>
                  <a:pt x="12053" y="10085"/>
                  <a:pt x="12080" y="10120"/>
                </a:cubicBezTo>
              </a:path>
              <a:path w="19101" h="2928">
                <a:moveTo>
                  <a:pt x="11981" y="10616"/>
                </a:moveTo>
                <a:cubicBezTo>
                  <a:pt x="12005" y="10558"/>
                  <a:pt x="12023" y="10521"/>
                  <a:pt x="11981" y="10468"/>
                </a:cubicBezTo>
                <a:cubicBezTo>
                  <a:pt x="11949" y="10428"/>
                  <a:pt x="11904" y="10443"/>
                  <a:pt x="11857" y="10443"/>
                </a:cubicBezTo>
                <a:cubicBezTo>
                  <a:pt x="11786" y="10443"/>
                  <a:pt x="11803" y="10487"/>
                  <a:pt x="11807" y="10517"/>
                </a:cubicBezTo>
                <a:cubicBezTo>
                  <a:pt x="11817" y="10587"/>
                  <a:pt x="11867" y="10601"/>
                  <a:pt x="11906" y="10666"/>
                </a:cubicBezTo>
                <a:cubicBezTo>
                  <a:pt x="11935" y="10715"/>
                  <a:pt x="11956" y="10735"/>
                  <a:pt x="11956" y="10790"/>
                </a:cubicBezTo>
                <a:cubicBezTo>
                  <a:pt x="11956" y="10798"/>
                  <a:pt x="11956" y="10807"/>
                  <a:pt x="11956" y="10815"/>
                </a:cubicBezTo>
                <a:cubicBezTo>
                  <a:pt x="11896" y="10845"/>
                  <a:pt x="11915" y="10807"/>
                  <a:pt x="11881" y="10790"/>
                </a:cubicBezTo>
                <a:cubicBezTo>
                  <a:pt x="11856" y="10777"/>
                  <a:pt x="11836" y="10735"/>
                  <a:pt x="11857" y="10691"/>
                </a:cubicBezTo>
                <a:cubicBezTo>
                  <a:pt x="11876" y="10652"/>
                  <a:pt x="11948" y="10626"/>
                  <a:pt x="11981" y="10592"/>
                </a:cubicBezTo>
                <a:cubicBezTo>
                  <a:pt x="12006" y="10567"/>
                  <a:pt x="12030" y="10542"/>
                  <a:pt x="12055" y="10517"/>
                </a:cubicBezTo>
              </a:path>
              <a:path w="19101" h="2928">
                <a:moveTo>
                  <a:pt x="12179" y="10393"/>
                </a:moveTo>
                <a:cubicBezTo>
                  <a:pt x="12245" y="10393"/>
                  <a:pt x="12312" y="10393"/>
                  <a:pt x="12378" y="10393"/>
                </a:cubicBezTo>
              </a:path>
              <a:path w="19101" h="2928">
                <a:moveTo>
                  <a:pt x="12204" y="10418"/>
                </a:moveTo>
                <a:cubicBezTo>
                  <a:pt x="12165" y="10529"/>
                  <a:pt x="12154" y="10560"/>
                  <a:pt x="12154" y="10666"/>
                </a:cubicBezTo>
                <a:cubicBezTo>
                  <a:pt x="12154" y="10714"/>
                  <a:pt x="12132" y="10746"/>
                  <a:pt x="12179" y="10716"/>
                </a:cubicBezTo>
              </a:path>
              <a:path w="19101" h="2928">
                <a:moveTo>
                  <a:pt x="12303" y="10468"/>
                </a:moveTo>
                <a:cubicBezTo>
                  <a:pt x="12321" y="10556"/>
                  <a:pt x="12346" y="10635"/>
                  <a:pt x="12353" y="10716"/>
                </a:cubicBezTo>
                <a:cubicBezTo>
                  <a:pt x="12355" y="10742"/>
                  <a:pt x="12359" y="10802"/>
                  <a:pt x="12378" y="10815"/>
                </a:cubicBezTo>
                <a:cubicBezTo>
                  <a:pt x="12402" y="10815"/>
                  <a:pt x="12411" y="10815"/>
                  <a:pt x="12427" y="10815"/>
                </a:cubicBezTo>
              </a:path>
              <a:path w="19101" h="2928">
                <a:moveTo>
                  <a:pt x="13940" y="9575"/>
                </a:moveTo>
                <a:cubicBezTo>
                  <a:pt x="13935" y="9670"/>
                  <a:pt x="13915" y="9754"/>
                  <a:pt x="13915" y="9847"/>
                </a:cubicBezTo>
                <a:cubicBezTo>
                  <a:pt x="13915" y="9918"/>
                  <a:pt x="13912" y="9957"/>
                  <a:pt x="13940" y="10021"/>
                </a:cubicBezTo>
              </a:path>
              <a:path w="19101" h="2928">
                <a:moveTo>
                  <a:pt x="13717" y="10517"/>
                </a:moveTo>
                <a:cubicBezTo>
                  <a:pt x="13712" y="10611"/>
                  <a:pt x="13692" y="10680"/>
                  <a:pt x="13692" y="10765"/>
                </a:cubicBezTo>
                <a:cubicBezTo>
                  <a:pt x="13692" y="10773"/>
                  <a:pt x="13692" y="10782"/>
                  <a:pt x="13692" y="10790"/>
                </a:cubicBezTo>
              </a:path>
              <a:path w="19101" h="2928">
                <a:moveTo>
                  <a:pt x="13816" y="10592"/>
                </a:moveTo>
                <a:cubicBezTo>
                  <a:pt x="13816" y="10683"/>
                  <a:pt x="13799" y="10686"/>
                  <a:pt x="13841" y="10740"/>
                </a:cubicBezTo>
                <a:cubicBezTo>
                  <a:pt x="13879" y="10731"/>
                  <a:pt x="13903" y="10705"/>
                  <a:pt x="13915" y="10666"/>
                </a:cubicBezTo>
                <a:cubicBezTo>
                  <a:pt x="13936" y="10602"/>
                  <a:pt x="13904" y="10526"/>
                  <a:pt x="13891" y="10468"/>
                </a:cubicBezTo>
                <a:cubicBezTo>
                  <a:pt x="13883" y="10431"/>
                  <a:pt x="13870" y="10422"/>
                  <a:pt x="13841" y="10393"/>
                </a:cubicBezTo>
              </a:path>
              <a:path w="19101" h="2928">
                <a:moveTo>
                  <a:pt x="13940" y="10344"/>
                </a:moveTo>
                <a:cubicBezTo>
                  <a:pt x="14031" y="10344"/>
                  <a:pt x="14122" y="10344"/>
                  <a:pt x="14213" y="10344"/>
                </a:cubicBezTo>
              </a:path>
              <a:path w="19101" h="2928">
                <a:moveTo>
                  <a:pt x="14064" y="10368"/>
                </a:moveTo>
                <a:cubicBezTo>
                  <a:pt x="14045" y="10458"/>
                  <a:pt x="14039" y="10525"/>
                  <a:pt x="14039" y="10616"/>
                </a:cubicBezTo>
                <a:cubicBezTo>
                  <a:pt x="14039" y="10621"/>
                  <a:pt x="14035" y="10730"/>
                  <a:pt x="14064" y="10691"/>
                </a:cubicBezTo>
                <a:cubicBezTo>
                  <a:pt x="14064" y="10683"/>
                  <a:pt x="14064" y="10674"/>
                  <a:pt x="14064" y="10666"/>
                </a:cubicBezTo>
              </a:path>
              <a:path w="19101" h="2928">
                <a:moveTo>
                  <a:pt x="14213" y="10393"/>
                </a:moveTo>
                <a:cubicBezTo>
                  <a:pt x="14213" y="10437"/>
                  <a:pt x="14186" y="10658"/>
                  <a:pt x="14238" y="10691"/>
                </a:cubicBezTo>
                <a:cubicBezTo>
                  <a:pt x="14263" y="10691"/>
                  <a:pt x="14271" y="10691"/>
                  <a:pt x="14288" y="10691"/>
                </a:cubicBezTo>
              </a:path>
              <a:path w="19101" h="2928">
                <a:moveTo>
                  <a:pt x="15949" y="9798"/>
                </a:moveTo>
                <a:cubicBezTo>
                  <a:pt x="15949" y="9919"/>
                  <a:pt x="15945" y="10032"/>
                  <a:pt x="15974" y="10145"/>
                </a:cubicBezTo>
                <a:cubicBezTo>
                  <a:pt x="15983" y="10181"/>
                  <a:pt x="15974" y="10232"/>
                  <a:pt x="15974" y="10269"/>
                </a:cubicBezTo>
              </a:path>
              <a:path w="19101" h="2928">
                <a:moveTo>
                  <a:pt x="15577" y="10393"/>
                </a:moveTo>
                <a:cubicBezTo>
                  <a:pt x="15581" y="10453"/>
                  <a:pt x="15578" y="10580"/>
                  <a:pt x="15602" y="10641"/>
                </a:cubicBezTo>
                <a:cubicBezTo>
                  <a:pt x="15617" y="10680"/>
                  <a:pt x="15627" y="10669"/>
                  <a:pt x="15627" y="10716"/>
                </a:cubicBezTo>
              </a:path>
              <a:path w="19101" h="2928">
                <a:moveTo>
                  <a:pt x="15726" y="10492"/>
                </a:moveTo>
                <a:cubicBezTo>
                  <a:pt x="15774" y="10507"/>
                  <a:pt x="15869" y="10518"/>
                  <a:pt x="15875" y="10567"/>
                </a:cubicBezTo>
                <a:cubicBezTo>
                  <a:pt x="15879" y="10596"/>
                  <a:pt x="15854" y="10676"/>
                  <a:pt x="15825" y="10691"/>
                </a:cubicBezTo>
                <a:cubicBezTo>
                  <a:pt x="15796" y="10706"/>
                  <a:pt x="15787" y="10707"/>
                  <a:pt x="15776" y="10740"/>
                </a:cubicBezTo>
                <a:cubicBezTo>
                  <a:pt x="15821" y="10740"/>
                  <a:pt x="15840" y="10746"/>
                  <a:pt x="15875" y="10716"/>
                </a:cubicBezTo>
                <a:cubicBezTo>
                  <a:pt x="15912" y="10684"/>
                  <a:pt x="15925" y="10659"/>
                  <a:pt x="15949" y="10616"/>
                </a:cubicBezTo>
              </a:path>
              <a:path w="19101" h="2928">
                <a:moveTo>
                  <a:pt x="16049" y="10368"/>
                </a:moveTo>
                <a:cubicBezTo>
                  <a:pt x="16123" y="10368"/>
                  <a:pt x="16198" y="10368"/>
                  <a:pt x="16272" y="10368"/>
                </a:cubicBezTo>
              </a:path>
              <a:path w="19101" h="2928">
                <a:moveTo>
                  <a:pt x="16098" y="10492"/>
                </a:moveTo>
                <a:cubicBezTo>
                  <a:pt x="16073" y="10602"/>
                  <a:pt x="16072" y="10605"/>
                  <a:pt x="16098" y="10666"/>
                </a:cubicBezTo>
                <a:cubicBezTo>
                  <a:pt x="16098" y="10691"/>
                  <a:pt x="16098" y="10699"/>
                  <a:pt x="16123" y="10691"/>
                </a:cubicBezTo>
              </a:path>
              <a:path w="19101" h="2928">
                <a:moveTo>
                  <a:pt x="16247" y="10517"/>
                </a:moveTo>
                <a:cubicBezTo>
                  <a:pt x="16247" y="10532"/>
                  <a:pt x="16217" y="10738"/>
                  <a:pt x="16272" y="10765"/>
                </a:cubicBezTo>
                <a:cubicBezTo>
                  <a:pt x="16280" y="10765"/>
                  <a:pt x="16289" y="10765"/>
                  <a:pt x="16297" y="10765"/>
                </a:cubicBezTo>
              </a:path>
              <a:path w="19101" h="2928">
                <a:moveTo>
                  <a:pt x="17909" y="9674"/>
                </a:moveTo>
                <a:cubicBezTo>
                  <a:pt x="17901" y="9782"/>
                  <a:pt x="17903" y="9842"/>
                  <a:pt x="17909" y="9947"/>
                </a:cubicBezTo>
                <a:cubicBezTo>
                  <a:pt x="17914" y="10040"/>
                  <a:pt x="17913" y="10109"/>
                  <a:pt x="17934" y="10195"/>
                </a:cubicBezTo>
                <a:cubicBezTo>
                  <a:pt x="17939" y="10216"/>
                  <a:pt x="17934" y="10247"/>
                  <a:pt x="17934" y="10269"/>
                </a:cubicBezTo>
              </a:path>
              <a:path w="19101" h="2928">
                <a:moveTo>
                  <a:pt x="17686" y="10443"/>
                </a:moveTo>
                <a:cubicBezTo>
                  <a:pt x="17686" y="10487"/>
                  <a:pt x="17664" y="10650"/>
                  <a:pt x="17711" y="10666"/>
                </a:cubicBezTo>
              </a:path>
              <a:path w="19101" h="2928">
                <a:moveTo>
                  <a:pt x="17835" y="10468"/>
                </a:moveTo>
                <a:cubicBezTo>
                  <a:pt x="17855" y="10508"/>
                  <a:pt x="17863" y="10515"/>
                  <a:pt x="17859" y="10542"/>
                </a:cubicBezTo>
                <a:cubicBezTo>
                  <a:pt x="17897" y="10555"/>
                  <a:pt x="17880" y="10567"/>
                  <a:pt x="17934" y="10567"/>
                </a:cubicBezTo>
                <a:cubicBezTo>
                  <a:pt x="17985" y="10567"/>
                  <a:pt x="18020" y="10582"/>
                  <a:pt x="18033" y="10542"/>
                </a:cubicBezTo>
              </a:path>
              <a:path w="19101" h="2928">
                <a:moveTo>
                  <a:pt x="18058" y="10393"/>
                </a:moveTo>
                <a:cubicBezTo>
                  <a:pt x="18044" y="10502"/>
                  <a:pt x="18033" y="10586"/>
                  <a:pt x="18033" y="10691"/>
                </a:cubicBezTo>
                <a:cubicBezTo>
                  <a:pt x="18033" y="10736"/>
                  <a:pt x="18016" y="10743"/>
                  <a:pt x="18058" y="10716"/>
                </a:cubicBezTo>
              </a:path>
              <a:path w="19101" h="2928">
                <a:moveTo>
                  <a:pt x="18231" y="10418"/>
                </a:moveTo>
                <a:cubicBezTo>
                  <a:pt x="18312" y="10418"/>
                  <a:pt x="18364" y="10415"/>
                  <a:pt x="18430" y="10393"/>
                </a:cubicBezTo>
                <a:cubicBezTo>
                  <a:pt x="18438" y="10393"/>
                  <a:pt x="18447" y="10393"/>
                  <a:pt x="18455" y="10393"/>
                </a:cubicBezTo>
              </a:path>
              <a:path w="19101" h="2928">
                <a:moveTo>
                  <a:pt x="18331" y="10393"/>
                </a:moveTo>
                <a:cubicBezTo>
                  <a:pt x="18266" y="10529"/>
                  <a:pt x="18256" y="10511"/>
                  <a:pt x="18256" y="10616"/>
                </a:cubicBezTo>
                <a:cubicBezTo>
                  <a:pt x="18256" y="10641"/>
                  <a:pt x="18256" y="10649"/>
                  <a:pt x="18256" y="10666"/>
                </a:cubicBezTo>
              </a:path>
              <a:path w="19101" h="2928">
                <a:moveTo>
                  <a:pt x="18380" y="10517"/>
                </a:moveTo>
                <a:cubicBezTo>
                  <a:pt x="18366" y="10607"/>
                  <a:pt x="18334" y="10673"/>
                  <a:pt x="18380" y="10740"/>
                </a:cubicBezTo>
                <a:cubicBezTo>
                  <a:pt x="18414" y="10790"/>
                  <a:pt x="18440" y="10750"/>
                  <a:pt x="18479" y="10740"/>
                </a:cubicBezTo>
              </a:path>
              <a:path w="19101" h="2928">
                <a:moveTo>
                  <a:pt x="18653" y="9897"/>
                </a:moveTo>
                <a:cubicBezTo>
                  <a:pt x="18688" y="9897"/>
                  <a:pt x="18670" y="9897"/>
                  <a:pt x="18728" y="9897"/>
                </a:cubicBezTo>
                <a:cubicBezTo>
                  <a:pt x="18790" y="9897"/>
                  <a:pt x="18820" y="9881"/>
                  <a:pt x="18876" y="9872"/>
                </a:cubicBezTo>
                <a:cubicBezTo>
                  <a:pt x="18938" y="9862"/>
                  <a:pt x="19007" y="9897"/>
                  <a:pt x="19075" y="9897"/>
                </a:cubicBezTo>
                <a:cubicBezTo>
                  <a:pt x="19386" y="9897"/>
                  <a:pt x="19716" y="9874"/>
                  <a:pt x="20017" y="9922"/>
                </a:cubicBezTo>
                <a:cubicBezTo>
                  <a:pt x="20274" y="9963"/>
                  <a:pt x="20613" y="9937"/>
                  <a:pt x="20861" y="9897"/>
                </a:cubicBezTo>
                <a:cubicBezTo>
                  <a:pt x="21063" y="9865"/>
                  <a:pt x="21309" y="9894"/>
                  <a:pt x="21506" y="9922"/>
                </a:cubicBezTo>
                <a:cubicBezTo>
                  <a:pt x="21577" y="9932"/>
                  <a:pt x="21737" y="9959"/>
                  <a:pt x="21654" y="9897"/>
                </a:cubicBezTo>
              </a:path>
              <a:path w="19101" h="2928">
                <a:moveTo>
                  <a:pt x="19918" y="9525"/>
                </a:moveTo>
                <a:cubicBezTo>
                  <a:pt x="19929" y="9581"/>
                  <a:pt x="19943" y="9615"/>
                  <a:pt x="19943" y="9674"/>
                </a:cubicBezTo>
                <a:cubicBezTo>
                  <a:pt x="19943" y="9768"/>
                  <a:pt x="19968" y="9853"/>
                  <a:pt x="19968" y="9947"/>
                </a:cubicBezTo>
                <a:cubicBezTo>
                  <a:pt x="19968" y="9980"/>
                  <a:pt x="19968" y="10013"/>
                  <a:pt x="19968" y="10046"/>
                </a:cubicBezTo>
              </a:path>
              <a:path w="19101" h="2928">
                <a:moveTo>
                  <a:pt x="19745" y="10319"/>
                </a:moveTo>
                <a:cubicBezTo>
                  <a:pt x="19764" y="10450"/>
                  <a:pt x="19775" y="10489"/>
                  <a:pt x="19745" y="10592"/>
                </a:cubicBezTo>
                <a:cubicBezTo>
                  <a:pt x="19739" y="10612"/>
                  <a:pt x="19745" y="10645"/>
                  <a:pt x="19745" y="10666"/>
                </a:cubicBezTo>
                <a:cubicBezTo>
                  <a:pt x="19701" y="10651"/>
                  <a:pt x="19718" y="10628"/>
                  <a:pt x="19745" y="10592"/>
                </a:cubicBezTo>
              </a:path>
              <a:path w="19101" h="2928">
                <a:moveTo>
                  <a:pt x="19844" y="10468"/>
                </a:moveTo>
                <a:cubicBezTo>
                  <a:pt x="19831" y="10543"/>
                  <a:pt x="19790" y="10630"/>
                  <a:pt x="19844" y="10691"/>
                </a:cubicBezTo>
                <a:cubicBezTo>
                  <a:pt x="19875" y="10726"/>
                  <a:pt x="19911" y="10694"/>
                  <a:pt x="19943" y="10666"/>
                </a:cubicBezTo>
                <a:cubicBezTo>
                  <a:pt x="19993" y="10621"/>
                  <a:pt x="19993" y="10609"/>
                  <a:pt x="19993" y="10542"/>
                </a:cubicBezTo>
                <a:cubicBezTo>
                  <a:pt x="19993" y="10517"/>
                  <a:pt x="19993" y="10509"/>
                  <a:pt x="19993" y="10492"/>
                </a:cubicBezTo>
                <a:cubicBezTo>
                  <a:pt x="19961" y="10524"/>
                  <a:pt x="19923" y="10548"/>
                  <a:pt x="19918" y="10592"/>
                </a:cubicBezTo>
                <a:cubicBezTo>
                  <a:pt x="19913" y="10633"/>
                  <a:pt x="19912" y="10631"/>
                  <a:pt x="19943" y="10641"/>
                </a:cubicBezTo>
              </a:path>
              <a:path w="19101" h="2928">
                <a:moveTo>
                  <a:pt x="20117" y="10344"/>
                </a:moveTo>
                <a:cubicBezTo>
                  <a:pt x="20193" y="10344"/>
                  <a:pt x="20253" y="10356"/>
                  <a:pt x="20315" y="10368"/>
                </a:cubicBezTo>
                <a:cubicBezTo>
                  <a:pt x="20364" y="10377"/>
                  <a:pt x="20374" y="10354"/>
                  <a:pt x="20414" y="10344"/>
                </a:cubicBezTo>
              </a:path>
              <a:path w="19101" h="2928">
                <a:moveTo>
                  <a:pt x="20241" y="10492"/>
                </a:moveTo>
                <a:cubicBezTo>
                  <a:pt x="20241" y="10567"/>
                  <a:pt x="20241" y="10641"/>
                  <a:pt x="20241" y="10716"/>
                </a:cubicBezTo>
              </a:path>
              <a:path w="19101" h="2928">
                <a:moveTo>
                  <a:pt x="20340" y="10443"/>
                </a:moveTo>
                <a:cubicBezTo>
                  <a:pt x="20356" y="10527"/>
                  <a:pt x="20383" y="10609"/>
                  <a:pt x="20389" y="10691"/>
                </a:cubicBezTo>
                <a:cubicBezTo>
                  <a:pt x="20389" y="10699"/>
                  <a:pt x="20389" y="10708"/>
                  <a:pt x="20389" y="10716"/>
                </a:cubicBezTo>
              </a:path>
              <a:path w="19101" h="2928">
                <a:moveTo>
                  <a:pt x="4018" y="9897"/>
                </a:moveTo>
                <a:cubicBezTo>
                  <a:pt x="4066" y="9897"/>
                  <a:pt x="4127" y="9896"/>
                  <a:pt x="4167" y="9872"/>
                </a:cubicBezTo>
                <a:cubicBezTo>
                  <a:pt x="4195" y="9844"/>
                  <a:pt x="4204" y="9831"/>
                  <a:pt x="4192" y="9798"/>
                </a:cubicBezTo>
                <a:cubicBezTo>
                  <a:pt x="4183" y="9770"/>
                  <a:pt x="4158" y="9753"/>
                  <a:pt x="4118" y="9748"/>
                </a:cubicBezTo>
                <a:cubicBezTo>
                  <a:pt x="4083" y="9744"/>
                  <a:pt x="4042" y="9757"/>
                  <a:pt x="4018" y="9773"/>
                </a:cubicBezTo>
                <a:cubicBezTo>
                  <a:pt x="3983" y="9797"/>
                  <a:pt x="3994" y="9835"/>
                  <a:pt x="3994" y="9872"/>
                </a:cubicBezTo>
                <a:cubicBezTo>
                  <a:pt x="3994" y="9900"/>
                  <a:pt x="3996" y="9911"/>
                  <a:pt x="4018" y="9922"/>
                </a:cubicBezTo>
                <a:cubicBezTo>
                  <a:pt x="4075" y="9922"/>
                  <a:pt x="4096" y="9912"/>
                  <a:pt x="4142" y="9897"/>
                </a:cubicBezTo>
                <a:cubicBezTo>
                  <a:pt x="4150" y="9897"/>
                  <a:pt x="4159" y="9897"/>
                  <a:pt x="4167" y="9897"/>
                </a:cubicBezTo>
                <a:cubicBezTo>
                  <a:pt x="4167" y="9841"/>
                  <a:pt x="4173" y="9822"/>
                  <a:pt x="4142" y="9798"/>
                </a:cubicBezTo>
                <a:cubicBezTo>
                  <a:pt x="4120" y="9781"/>
                  <a:pt x="4077" y="9754"/>
                  <a:pt x="4043" y="9773"/>
                </a:cubicBezTo>
                <a:cubicBezTo>
                  <a:pt x="3995" y="9799"/>
                  <a:pt x="4005" y="9809"/>
                  <a:pt x="3969" y="9847"/>
                </a:cubicBezTo>
                <a:cubicBezTo>
                  <a:pt x="3921" y="9898"/>
                  <a:pt x="3895" y="9917"/>
                  <a:pt x="3944" y="9971"/>
                </a:cubicBezTo>
                <a:cubicBezTo>
                  <a:pt x="3952" y="9979"/>
                  <a:pt x="3961" y="9988"/>
                  <a:pt x="3969" y="9996"/>
                </a:cubicBezTo>
                <a:cubicBezTo>
                  <a:pt x="4023" y="9996"/>
                  <a:pt x="4051" y="9980"/>
                  <a:pt x="4093" y="9971"/>
                </a:cubicBezTo>
                <a:cubicBezTo>
                  <a:pt x="4143" y="9960"/>
                  <a:pt x="4160" y="9959"/>
                  <a:pt x="4167" y="9897"/>
                </a:cubicBezTo>
                <a:cubicBezTo>
                  <a:pt x="4167" y="9889"/>
                  <a:pt x="4167" y="9880"/>
                  <a:pt x="4167" y="9872"/>
                </a:cubicBezTo>
                <a:cubicBezTo>
                  <a:pt x="4157" y="9843"/>
                  <a:pt x="4134" y="9827"/>
                  <a:pt x="4093" y="9823"/>
                </a:cubicBezTo>
                <a:cubicBezTo>
                  <a:pt x="4037" y="9817"/>
                  <a:pt x="4012" y="9823"/>
                  <a:pt x="3969" y="9847"/>
                </a:cubicBezTo>
                <a:cubicBezTo>
                  <a:pt x="3879" y="9898"/>
                  <a:pt x="3884" y="9894"/>
                  <a:pt x="3845" y="9971"/>
                </a:cubicBezTo>
                <a:cubicBezTo>
                  <a:pt x="3837" y="9979"/>
                  <a:pt x="3828" y="9988"/>
                  <a:pt x="3820" y="9996"/>
                </a:cubicBezTo>
                <a:cubicBezTo>
                  <a:pt x="3852" y="10028"/>
                  <a:pt x="3891" y="10072"/>
                  <a:pt x="3944" y="10046"/>
                </a:cubicBezTo>
                <a:cubicBezTo>
                  <a:pt x="3956" y="10040"/>
                  <a:pt x="4040" y="10000"/>
                  <a:pt x="4043" y="9996"/>
                </a:cubicBezTo>
                <a:cubicBezTo>
                  <a:pt x="4057" y="9976"/>
                  <a:pt x="4043" y="9897"/>
                  <a:pt x="4043" y="9872"/>
                </a:cubicBezTo>
                <a:cubicBezTo>
                  <a:pt x="3997" y="9872"/>
                  <a:pt x="3979" y="9866"/>
                  <a:pt x="3944" y="9897"/>
                </a:cubicBezTo>
                <a:cubicBezTo>
                  <a:pt x="3909" y="9928"/>
                  <a:pt x="3900" y="9961"/>
                  <a:pt x="3870" y="9971"/>
                </a:cubicBezTo>
                <a:cubicBezTo>
                  <a:pt x="3915" y="10018"/>
                  <a:pt x="3928" y="10021"/>
                  <a:pt x="3994" y="10021"/>
                </a:cubicBezTo>
                <a:cubicBezTo>
                  <a:pt x="4034" y="10021"/>
                  <a:pt x="4137" y="10005"/>
                  <a:pt x="4167" y="9971"/>
                </a:cubicBezTo>
                <a:cubicBezTo>
                  <a:pt x="4167" y="9943"/>
                  <a:pt x="4170" y="9933"/>
                  <a:pt x="4192" y="9922"/>
                </a:cubicBezTo>
                <a:cubicBezTo>
                  <a:pt x="4187" y="9900"/>
                  <a:pt x="4170" y="9831"/>
                  <a:pt x="4142" y="9823"/>
                </a:cubicBezTo>
                <a:cubicBezTo>
                  <a:pt x="4088" y="9807"/>
                  <a:pt x="4035" y="9835"/>
                  <a:pt x="3994" y="9847"/>
                </a:cubicBezTo>
                <a:cubicBezTo>
                  <a:pt x="3954" y="9859"/>
                  <a:pt x="3928" y="9871"/>
                  <a:pt x="3894" y="9897"/>
                </a:cubicBezTo>
              </a:path>
              <a:path w="19101" h="2928">
                <a:moveTo>
                  <a:pt x="12154" y="9947"/>
                </a:moveTo>
                <a:cubicBezTo>
                  <a:pt x="12204" y="9913"/>
                  <a:pt x="12215" y="9905"/>
                  <a:pt x="12229" y="9847"/>
                </a:cubicBezTo>
                <a:cubicBezTo>
                  <a:pt x="12179" y="9831"/>
                  <a:pt x="12228" y="9798"/>
                  <a:pt x="12154" y="9798"/>
                </a:cubicBezTo>
                <a:cubicBezTo>
                  <a:pt x="12089" y="9798"/>
                  <a:pt x="12076" y="9802"/>
                  <a:pt x="12030" y="9847"/>
                </a:cubicBezTo>
                <a:cubicBezTo>
                  <a:pt x="11993" y="9883"/>
                  <a:pt x="12005" y="9920"/>
                  <a:pt x="12005" y="9971"/>
                </a:cubicBezTo>
                <a:cubicBezTo>
                  <a:pt x="12036" y="9994"/>
                  <a:pt x="12066" y="10017"/>
                  <a:pt x="12105" y="10021"/>
                </a:cubicBezTo>
                <a:cubicBezTo>
                  <a:pt x="12136" y="10024"/>
                  <a:pt x="12213" y="10019"/>
                  <a:pt x="12229" y="9996"/>
                </a:cubicBezTo>
                <a:cubicBezTo>
                  <a:pt x="12237" y="9983"/>
                  <a:pt x="12258" y="9881"/>
                  <a:pt x="12254" y="9872"/>
                </a:cubicBezTo>
                <a:cubicBezTo>
                  <a:pt x="12232" y="9850"/>
                  <a:pt x="12223" y="9845"/>
                  <a:pt x="12229" y="9823"/>
                </a:cubicBezTo>
                <a:cubicBezTo>
                  <a:pt x="12174" y="9823"/>
                  <a:pt x="12124" y="9812"/>
                  <a:pt x="12080" y="9847"/>
                </a:cubicBezTo>
                <a:cubicBezTo>
                  <a:pt x="12050" y="9871"/>
                  <a:pt x="12008" y="9896"/>
                  <a:pt x="12005" y="9922"/>
                </a:cubicBezTo>
                <a:cubicBezTo>
                  <a:pt x="12005" y="9947"/>
                  <a:pt x="12005" y="9955"/>
                  <a:pt x="12005" y="9971"/>
                </a:cubicBezTo>
                <a:cubicBezTo>
                  <a:pt x="12044" y="9981"/>
                  <a:pt x="12060" y="9996"/>
                  <a:pt x="12105" y="9996"/>
                </a:cubicBezTo>
                <a:cubicBezTo>
                  <a:pt x="12138" y="9996"/>
                  <a:pt x="12179" y="9969"/>
                  <a:pt x="12204" y="9947"/>
                </a:cubicBezTo>
                <a:cubicBezTo>
                  <a:pt x="12238" y="9917"/>
                  <a:pt x="12229" y="9890"/>
                  <a:pt x="12229" y="9847"/>
                </a:cubicBezTo>
                <a:cubicBezTo>
                  <a:pt x="12229" y="9839"/>
                  <a:pt x="12229" y="9831"/>
                  <a:pt x="12229" y="9823"/>
                </a:cubicBezTo>
                <a:cubicBezTo>
                  <a:pt x="12176" y="9810"/>
                  <a:pt x="12119" y="9800"/>
                  <a:pt x="12055" y="9823"/>
                </a:cubicBezTo>
                <a:cubicBezTo>
                  <a:pt x="12023" y="9835"/>
                  <a:pt x="12016" y="9863"/>
                  <a:pt x="11981" y="9872"/>
                </a:cubicBezTo>
                <a:cubicBezTo>
                  <a:pt x="11981" y="9918"/>
                  <a:pt x="11987" y="9944"/>
                  <a:pt x="12030" y="9971"/>
                </a:cubicBezTo>
                <a:cubicBezTo>
                  <a:pt x="12081" y="10003"/>
                  <a:pt x="12121" y="9996"/>
                  <a:pt x="12179" y="9996"/>
                </a:cubicBezTo>
                <a:cubicBezTo>
                  <a:pt x="12221" y="9996"/>
                  <a:pt x="12220" y="9981"/>
                  <a:pt x="12229" y="9947"/>
                </a:cubicBezTo>
                <a:cubicBezTo>
                  <a:pt x="12229" y="9891"/>
                  <a:pt x="12225" y="9892"/>
                  <a:pt x="12179" y="9872"/>
                </a:cubicBezTo>
                <a:cubicBezTo>
                  <a:pt x="12114" y="9844"/>
                  <a:pt x="12051" y="9831"/>
                  <a:pt x="11981" y="9823"/>
                </a:cubicBezTo>
              </a:path>
              <a:path w="19101" h="2928">
                <a:moveTo>
                  <a:pt x="7962" y="9922"/>
                </a:moveTo>
                <a:cubicBezTo>
                  <a:pt x="8028" y="9922"/>
                  <a:pt x="8085" y="9935"/>
                  <a:pt x="8136" y="9897"/>
                </a:cubicBezTo>
                <a:cubicBezTo>
                  <a:pt x="8136" y="9846"/>
                  <a:pt x="8125" y="9839"/>
                  <a:pt x="8111" y="9798"/>
                </a:cubicBezTo>
                <a:cubicBezTo>
                  <a:pt x="8095" y="9749"/>
                  <a:pt x="8075" y="9765"/>
                  <a:pt x="8037" y="9773"/>
                </a:cubicBezTo>
                <a:cubicBezTo>
                  <a:pt x="7989" y="9784"/>
                  <a:pt x="7955" y="9820"/>
                  <a:pt x="7938" y="9872"/>
                </a:cubicBezTo>
                <a:cubicBezTo>
                  <a:pt x="7918" y="9932"/>
                  <a:pt x="7922" y="9916"/>
                  <a:pt x="7938" y="9947"/>
                </a:cubicBezTo>
                <a:cubicBezTo>
                  <a:pt x="7961" y="9991"/>
                  <a:pt x="7955" y="9996"/>
                  <a:pt x="8012" y="9996"/>
                </a:cubicBezTo>
                <a:cubicBezTo>
                  <a:pt x="8052" y="9996"/>
                  <a:pt x="8092" y="9990"/>
                  <a:pt x="8111" y="9947"/>
                </a:cubicBezTo>
                <a:cubicBezTo>
                  <a:pt x="8128" y="9909"/>
                  <a:pt x="8109" y="9849"/>
                  <a:pt x="8086" y="9823"/>
                </a:cubicBezTo>
                <a:cubicBezTo>
                  <a:pt x="8078" y="9815"/>
                  <a:pt x="8070" y="9806"/>
                  <a:pt x="8062" y="9798"/>
                </a:cubicBezTo>
                <a:cubicBezTo>
                  <a:pt x="8014" y="9805"/>
                  <a:pt x="7976" y="9822"/>
                  <a:pt x="7938" y="9847"/>
                </a:cubicBezTo>
                <a:cubicBezTo>
                  <a:pt x="7886" y="9882"/>
                  <a:pt x="7888" y="9914"/>
                  <a:pt x="7888" y="9971"/>
                </a:cubicBezTo>
                <a:cubicBezTo>
                  <a:pt x="7939" y="9984"/>
                  <a:pt x="7951" y="9996"/>
                  <a:pt x="8012" y="9996"/>
                </a:cubicBezTo>
                <a:cubicBezTo>
                  <a:pt x="8052" y="9996"/>
                  <a:pt x="8092" y="9990"/>
                  <a:pt x="8111" y="9947"/>
                </a:cubicBezTo>
                <a:cubicBezTo>
                  <a:pt x="8130" y="9905"/>
                  <a:pt x="8096" y="9876"/>
                  <a:pt x="8086" y="9847"/>
                </a:cubicBezTo>
                <a:cubicBezTo>
                  <a:pt x="8086" y="9839"/>
                  <a:pt x="8086" y="9831"/>
                  <a:pt x="8086" y="9823"/>
                </a:cubicBezTo>
                <a:cubicBezTo>
                  <a:pt x="8015" y="9823"/>
                  <a:pt x="8015" y="9857"/>
                  <a:pt x="7962" y="9872"/>
                </a:cubicBezTo>
                <a:cubicBezTo>
                  <a:pt x="7940" y="9878"/>
                  <a:pt x="7836" y="9888"/>
                  <a:pt x="7863" y="9947"/>
                </a:cubicBezTo>
                <a:cubicBezTo>
                  <a:pt x="7878" y="9980"/>
                  <a:pt x="7939" y="9980"/>
                  <a:pt x="7962" y="9996"/>
                </a:cubicBezTo>
                <a:cubicBezTo>
                  <a:pt x="7985" y="10019"/>
                  <a:pt x="7993" y="10023"/>
                  <a:pt x="7987" y="10046"/>
                </a:cubicBezTo>
              </a:path>
              <a:path w="19101" h="2928">
                <a:moveTo>
                  <a:pt x="3969" y="9897"/>
                </a:moveTo>
                <a:cubicBezTo>
                  <a:pt x="4011" y="9928"/>
                  <a:pt x="4026" y="9934"/>
                  <a:pt x="4068" y="9897"/>
                </a:cubicBezTo>
                <a:cubicBezTo>
                  <a:pt x="4107" y="9862"/>
                  <a:pt x="4118" y="9849"/>
                  <a:pt x="4118" y="9798"/>
                </a:cubicBezTo>
                <a:cubicBezTo>
                  <a:pt x="4118" y="9767"/>
                  <a:pt x="4092" y="9756"/>
                  <a:pt x="4068" y="9748"/>
                </a:cubicBezTo>
                <a:cubicBezTo>
                  <a:pt x="4053" y="9753"/>
                  <a:pt x="4002" y="9794"/>
                  <a:pt x="3994" y="9823"/>
                </a:cubicBezTo>
                <a:cubicBezTo>
                  <a:pt x="3983" y="9861"/>
                  <a:pt x="3978" y="9886"/>
                  <a:pt x="3969" y="9922"/>
                </a:cubicBezTo>
                <a:cubicBezTo>
                  <a:pt x="4007" y="9960"/>
                  <a:pt x="4015" y="9971"/>
                  <a:pt x="4068" y="9971"/>
                </a:cubicBezTo>
                <a:cubicBezTo>
                  <a:pt x="4121" y="9971"/>
                  <a:pt x="4129" y="9960"/>
                  <a:pt x="4167" y="9922"/>
                </a:cubicBezTo>
                <a:cubicBezTo>
                  <a:pt x="4186" y="9903"/>
                  <a:pt x="4223" y="9851"/>
                  <a:pt x="4217" y="9823"/>
                </a:cubicBezTo>
                <a:cubicBezTo>
                  <a:pt x="4209" y="9798"/>
                  <a:pt x="4200" y="9773"/>
                  <a:pt x="4192" y="9748"/>
                </a:cubicBezTo>
                <a:cubicBezTo>
                  <a:pt x="4119" y="9730"/>
                  <a:pt x="4150" y="9727"/>
                  <a:pt x="4068" y="9748"/>
                </a:cubicBezTo>
                <a:cubicBezTo>
                  <a:pt x="4011" y="9762"/>
                  <a:pt x="3986" y="9782"/>
                  <a:pt x="3944" y="9823"/>
                </a:cubicBezTo>
                <a:cubicBezTo>
                  <a:pt x="3911" y="9855"/>
                  <a:pt x="3919" y="9878"/>
                  <a:pt x="3919" y="9922"/>
                </a:cubicBezTo>
                <a:cubicBezTo>
                  <a:pt x="3957" y="9950"/>
                  <a:pt x="3970" y="9947"/>
                  <a:pt x="4018" y="9947"/>
                </a:cubicBezTo>
                <a:cubicBezTo>
                  <a:pt x="4067" y="9947"/>
                  <a:pt x="4118" y="9952"/>
                  <a:pt x="4142" y="9897"/>
                </a:cubicBezTo>
                <a:cubicBezTo>
                  <a:pt x="4149" y="9881"/>
                  <a:pt x="4142" y="9841"/>
                  <a:pt x="4142" y="9823"/>
                </a:cubicBezTo>
                <a:cubicBezTo>
                  <a:pt x="4129" y="9770"/>
                  <a:pt x="4112" y="9758"/>
                  <a:pt x="4068" y="9798"/>
                </a:cubicBezTo>
                <a:cubicBezTo>
                  <a:pt x="4032" y="9831"/>
                  <a:pt x="3974" y="9873"/>
                  <a:pt x="3969" y="9922"/>
                </a:cubicBezTo>
                <a:cubicBezTo>
                  <a:pt x="3969" y="9930"/>
                  <a:pt x="3969" y="9939"/>
                  <a:pt x="3969" y="9947"/>
                </a:cubicBezTo>
                <a:cubicBezTo>
                  <a:pt x="4032" y="9947"/>
                  <a:pt x="4067" y="9950"/>
                  <a:pt x="4118" y="9922"/>
                </a:cubicBezTo>
                <a:cubicBezTo>
                  <a:pt x="4197" y="9879"/>
                  <a:pt x="4180" y="9908"/>
                  <a:pt x="4217" y="9823"/>
                </a:cubicBezTo>
                <a:cubicBezTo>
                  <a:pt x="4197" y="9745"/>
                  <a:pt x="4180" y="9766"/>
                  <a:pt x="4118" y="9773"/>
                </a:cubicBezTo>
                <a:cubicBezTo>
                  <a:pt x="4060" y="9780"/>
                  <a:pt x="4037" y="9759"/>
                  <a:pt x="3994" y="9798"/>
                </a:cubicBezTo>
                <a:cubicBezTo>
                  <a:pt x="3986" y="9806"/>
                  <a:pt x="3977" y="9815"/>
                  <a:pt x="3969" y="9823"/>
                </a:cubicBezTo>
              </a:path>
              <a:path w="19101" h="2928">
                <a:moveTo>
                  <a:pt x="12229" y="9798"/>
                </a:moveTo>
                <a:cubicBezTo>
                  <a:pt x="12216" y="9811"/>
                  <a:pt x="12131" y="9874"/>
                  <a:pt x="12154" y="9897"/>
                </a:cubicBezTo>
                <a:cubicBezTo>
                  <a:pt x="12162" y="9897"/>
                  <a:pt x="12171" y="9897"/>
                  <a:pt x="12179" y="9897"/>
                </a:cubicBezTo>
                <a:cubicBezTo>
                  <a:pt x="12198" y="9955"/>
                  <a:pt x="12212" y="9905"/>
                  <a:pt x="12229" y="9897"/>
                </a:cubicBezTo>
                <a:cubicBezTo>
                  <a:pt x="12256" y="9884"/>
                  <a:pt x="12273" y="9866"/>
                  <a:pt x="12278" y="9823"/>
                </a:cubicBezTo>
                <a:cubicBezTo>
                  <a:pt x="12281" y="9799"/>
                  <a:pt x="12278" y="9772"/>
                  <a:pt x="12278" y="9748"/>
                </a:cubicBezTo>
                <a:cubicBezTo>
                  <a:pt x="12219" y="9748"/>
                  <a:pt x="12200" y="9747"/>
                  <a:pt x="12154" y="9773"/>
                </a:cubicBezTo>
                <a:cubicBezTo>
                  <a:pt x="12108" y="9800"/>
                  <a:pt x="12062" y="9789"/>
                  <a:pt x="12055" y="9847"/>
                </a:cubicBezTo>
                <a:cubicBezTo>
                  <a:pt x="12052" y="9873"/>
                  <a:pt x="12064" y="9936"/>
                  <a:pt x="12080" y="9947"/>
                </a:cubicBezTo>
                <a:cubicBezTo>
                  <a:pt x="12114" y="9970"/>
                  <a:pt x="12206" y="9943"/>
                  <a:pt x="12229" y="9922"/>
                </a:cubicBezTo>
                <a:cubicBezTo>
                  <a:pt x="12255" y="9899"/>
                  <a:pt x="12274" y="9856"/>
                  <a:pt x="12278" y="9823"/>
                </a:cubicBezTo>
                <a:cubicBezTo>
                  <a:pt x="12278" y="9815"/>
                  <a:pt x="12278" y="9806"/>
                  <a:pt x="12278" y="9798"/>
                </a:cubicBezTo>
                <a:cubicBezTo>
                  <a:pt x="12235" y="9765"/>
                  <a:pt x="12212" y="9773"/>
                  <a:pt x="12154" y="9773"/>
                </a:cubicBezTo>
                <a:cubicBezTo>
                  <a:pt x="12113" y="9773"/>
                  <a:pt x="12048" y="9806"/>
                  <a:pt x="12030" y="9847"/>
                </a:cubicBezTo>
                <a:cubicBezTo>
                  <a:pt x="12006" y="9899"/>
                  <a:pt x="12034" y="9955"/>
                  <a:pt x="12080" y="9971"/>
                </a:cubicBezTo>
                <a:cubicBezTo>
                  <a:pt x="12120" y="9985"/>
                  <a:pt x="12176" y="9971"/>
                  <a:pt x="12204" y="9947"/>
                </a:cubicBezTo>
                <a:cubicBezTo>
                  <a:pt x="12244" y="9912"/>
                  <a:pt x="12254" y="9898"/>
                  <a:pt x="12254" y="9847"/>
                </a:cubicBezTo>
                <a:cubicBezTo>
                  <a:pt x="12240" y="9808"/>
                  <a:pt x="12205" y="9802"/>
                  <a:pt x="12154" y="9798"/>
                </a:cubicBezTo>
                <a:cubicBezTo>
                  <a:pt x="12059" y="9790"/>
                  <a:pt x="11997" y="9798"/>
                  <a:pt x="11906" y="9773"/>
                </a:cubicBezTo>
              </a:path>
              <a:path w="19101" h="2928">
                <a:moveTo>
                  <a:pt x="8012" y="9872"/>
                </a:moveTo>
                <a:cubicBezTo>
                  <a:pt x="7986" y="9907"/>
                  <a:pt x="7987" y="9903"/>
                  <a:pt x="7987" y="9947"/>
                </a:cubicBezTo>
                <a:cubicBezTo>
                  <a:pt x="8038" y="9947"/>
                  <a:pt x="8073" y="9956"/>
                  <a:pt x="8111" y="9922"/>
                </a:cubicBezTo>
                <a:cubicBezTo>
                  <a:pt x="8154" y="9883"/>
                  <a:pt x="8126" y="9810"/>
                  <a:pt x="8086" y="9773"/>
                </a:cubicBezTo>
                <a:cubicBezTo>
                  <a:pt x="8074" y="9762"/>
                  <a:pt x="8011" y="9735"/>
                  <a:pt x="7987" y="9748"/>
                </a:cubicBezTo>
                <a:cubicBezTo>
                  <a:pt x="7964" y="9761"/>
                  <a:pt x="7898" y="9824"/>
                  <a:pt x="7888" y="9847"/>
                </a:cubicBezTo>
                <a:cubicBezTo>
                  <a:pt x="7881" y="9863"/>
                  <a:pt x="7888" y="9904"/>
                  <a:pt x="7888" y="9922"/>
                </a:cubicBezTo>
                <a:cubicBezTo>
                  <a:pt x="7931" y="9954"/>
                  <a:pt x="7955" y="9966"/>
                  <a:pt x="8012" y="9971"/>
                </a:cubicBezTo>
                <a:cubicBezTo>
                  <a:pt x="8059" y="9975"/>
                  <a:pt x="8150" y="9963"/>
                  <a:pt x="8161" y="9897"/>
                </a:cubicBezTo>
                <a:cubicBezTo>
                  <a:pt x="8133" y="9869"/>
                  <a:pt x="8124" y="9856"/>
                  <a:pt x="8136" y="9823"/>
                </a:cubicBezTo>
                <a:cubicBezTo>
                  <a:pt x="8106" y="9801"/>
                  <a:pt x="8055" y="9780"/>
                  <a:pt x="8012" y="9798"/>
                </a:cubicBezTo>
                <a:cubicBezTo>
                  <a:pt x="7991" y="9807"/>
                  <a:pt x="7922" y="9876"/>
                  <a:pt x="7913" y="9897"/>
                </a:cubicBezTo>
                <a:cubicBezTo>
                  <a:pt x="7913" y="9922"/>
                  <a:pt x="7913" y="9930"/>
                  <a:pt x="7913" y="9947"/>
                </a:cubicBezTo>
                <a:cubicBezTo>
                  <a:pt x="7975" y="9947"/>
                  <a:pt x="7976" y="9954"/>
                  <a:pt x="8037" y="9947"/>
                </a:cubicBezTo>
                <a:cubicBezTo>
                  <a:pt x="8103" y="9939"/>
                  <a:pt x="8114" y="9919"/>
                  <a:pt x="8161" y="9872"/>
                </a:cubicBezTo>
                <a:cubicBezTo>
                  <a:pt x="8157" y="9844"/>
                  <a:pt x="8148" y="9760"/>
                  <a:pt x="8111" y="9748"/>
                </a:cubicBezTo>
                <a:cubicBezTo>
                  <a:pt x="8047" y="9728"/>
                  <a:pt x="7944" y="9761"/>
                  <a:pt x="7888" y="9773"/>
                </a:cubicBezTo>
              </a:path>
              <a:path w="19101" h="2928">
                <a:moveTo>
                  <a:pt x="19943" y="9823"/>
                </a:moveTo>
                <a:cubicBezTo>
                  <a:pt x="19914" y="9873"/>
                  <a:pt x="19893" y="9892"/>
                  <a:pt x="19893" y="9947"/>
                </a:cubicBezTo>
                <a:cubicBezTo>
                  <a:pt x="19906" y="9956"/>
                  <a:pt x="19972" y="9996"/>
                  <a:pt x="19993" y="9971"/>
                </a:cubicBezTo>
                <a:cubicBezTo>
                  <a:pt x="20008" y="9953"/>
                  <a:pt x="20060" y="9879"/>
                  <a:pt x="20042" y="9847"/>
                </a:cubicBezTo>
                <a:cubicBezTo>
                  <a:pt x="20017" y="9804"/>
                  <a:pt x="20017" y="9798"/>
                  <a:pt x="19968" y="9798"/>
                </a:cubicBezTo>
                <a:cubicBezTo>
                  <a:pt x="19922" y="9798"/>
                  <a:pt x="19866" y="9823"/>
                  <a:pt x="19844" y="9872"/>
                </a:cubicBezTo>
                <a:cubicBezTo>
                  <a:pt x="19828" y="9908"/>
                  <a:pt x="19848" y="9948"/>
                  <a:pt x="19869" y="9971"/>
                </a:cubicBezTo>
                <a:cubicBezTo>
                  <a:pt x="19899" y="10005"/>
                  <a:pt x="19925" y="9996"/>
                  <a:pt x="19968" y="9996"/>
                </a:cubicBezTo>
                <a:cubicBezTo>
                  <a:pt x="20029" y="9996"/>
                  <a:pt x="20044" y="9978"/>
                  <a:pt x="20067" y="9947"/>
                </a:cubicBezTo>
                <a:cubicBezTo>
                  <a:pt x="20094" y="9912"/>
                  <a:pt x="20092" y="9916"/>
                  <a:pt x="20092" y="9872"/>
                </a:cubicBezTo>
                <a:cubicBezTo>
                  <a:pt x="20053" y="9862"/>
                  <a:pt x="20037" y="9847"/>
                  <a:pt x="19993" y="9847"/>
                </a:cubicBezTo>
                <a:cubicBezTo>
                  <a:pt x="19957" y="9847"/>
                  <a:pt x="19928" y="9865"/>
                  <a:pt x="19893" y="9872"/>
                </a:cubicBezTo>
              </a:path>
              <a:path w="19101" h="2928">
                <a:moveTo>
                  <a:pt x="15999" y="9971"/>
                </a:moveTo>
                <a:cubicBezTo>
                  <a:pt x="15964" y="10053"/>
                  <a:pt x="15979" y="10030"/>
                  <a:pt x="15999" y="10071"/>
                </a:cubicBezTo>
                <a:cubicBezTo>
                  <a:pt x="15999" y="10079"/>
                  <a:pt x="15999" y="10088"/>
                  <a:pt x="15999" y="10096"/>
                </a:cubicBezTo>
                <a:cubicBezTo>
                  <a:pt x="16017" y="10092"/>
                  <a:pt x="16091" y="10057"/>
                  <a:pt x="16098" y="10046"/>
                </a:cubicBezTo>
                <a:cubicBezTo>
                  <a:pt x="16104" y="10037"/>
                  <a:pt x="16056" y="9928"/>
                  <a:pt x="16049" y="9922"/>
                </a:cubicBezTo>
                <a:cubicBezTo>
                  <a:pt x="16010" y="9888"/>
                  <a:pt x="15949" y="9895"/>
                  <a:pt x="15900" y="9922"/>
                </a:cubicBezTo>
                <a:cubicBezTo>
                  <a:pt x="15861" y="9943"/>
                  <a:pt x="15814" y="10006"/>
                  <a:pt x="15801" y="10046"/>
                </a:cubicBezTo>
                <a:cubicBezTo>
                  <a:pt x="15789" y="10082"/>
                  <a:pt x="15851" y="10112"/>
                  <a:pt x="15875" y="10120"/>
                </a:cubicBezTo>
                <a:cubicBezTo>
                  <a:pt x="15920" y="10134"/>
                  <a:pt x="15941" y="10107"/>
                  <a:pt x="15974" y="10096"/>
                </a:cubicBezTo>
                <a:cubicBezTo>
                  <a:pt x="16015" y="10083"/>
                  <a:pt x="15999" y="10046"/>
                  <a:pt x="15999" y="9996"/>
                </a:cubicBezTo>
                <a:cubicBezTo>
                  <a:pt x="15999" y="9955"/>
                  <a:pt x="15987" y="9983"/>
                  <a:pt x="15974" y="9947"/>
                </a:cubicBezTo>
                <a:cubicBezTo>
                  <a:pt x="15961" y="9949"/>
                  <a:pt x="15856" y="9963"/>
                  <a:pt x="15850" y="9971"/>
                </a:cubicBezTo>
                <a:cubicBezTo>
                  <a:pt x="15831" y="9995"/>
                  <a:pt x="15825" y="10003"/>
                  <a:pt x="15825" y="10046"/>
                </a:cubicBezTo>
                <a:cubicBezTo>
                  <a:pt x="15825" y="10054"/>
                  <a:pt x="15825" y="10063"/>
                  <a:pt x="15825" y="10071"/>
                </a:cubicBezTo>
              </a:path>
              <a:path w="19101" h="2928">
                <a:moveTo>
                  <a:pt x="3671" y="10815"/>
                </a:moveTo>
                <a:cubicBezTo>
                  <a:pt x="3759" y="10839"/>
                  <a:pt x="3827" y="10840"/>
                  <a:pt x="3919" y="10840"/>
                </a:cubicBezTo>
                <a:cubicBezTo>
                  <a:pt x="4060" y="10840"/>
                  <a:pt x="4432" y="10840"/>
                  <a:pt x="4291" y="10840"/>
                </a:cubicBezTo>
                <a:cubicBezTo>
                  <a:pt x="4283" y="10840"/>
                  <a:pt x="4274" y="10840"/>
                  <a:pt x="4266" y="10840"/>
                </a:cubicBezTo>
              </a:path>
              <a:path w="19101" h="2928">
                <a:moveTo>
                  <a:pt x="2877" y="10864"/>
                </a:moveTo>
                <a:cubicBezTo>
                  <a:pt x="2929" y="10870"/>
                  <a:pt x="3000" y="10874"/>
                  <a:pt x="3051" y="10889"/>
                </a:cubicBezTo>
                <a:cubicBezTo>
                  <a:pt x="3136" y="10914"/>
                  <a:pt x="3158" y="10904"/>
                  <a:pt x="3249" y="10889"/>
                </a:cubicBezTo>
              </a:path>
              <a:path w="19101" h="2928">
                <a:moveTo>
                  <a:pt x="3398" y="10740"/>
                </a:moveTo>
                <a:cubicBezTo>
                  <a:pt x="3398" y="10837"/>
                  <a:pt x="3407" y="10928"/>
                  <a:pt x="3398" y="11013"/>
                </a:cubicBezTo>
                <a:cubicBezTo>
                  <a:pt x="3390" y="11086"/>
                  <a:pt x="3397" y="11082"/>
                  <a:pt x="3373" y="11162"/>
                </a:cubicBezTo>
              </a:path>
              <a:path w="19101" h="2928">
                <a:moveTo>
                  <a:pt x="3795" y="11782"/>
                </a:moveTo>
                <a:cubicBezTo>
                  <a:pt x="3937" y="11789"/>
                  <a:pt x="4075" y="11807"/>
                  <a:pt x="4217" y="11807"/>
                </a:cubicBezTo>
                <a:cubicBezTo>
                  <a:pt x="4290" y="11807"/>
                  <a:pt x="4348" y="11825"/>
                  <a:pt x="4415" y="11832"/>
                </a:cubicBezTo>
                <a:cubicBezTo>
                  <a:pt x="4423" y="11832"/>
                  <a:pt x="4432" y="11832"/>
                  <a:pt x="4440" y="11832"/>
                </a:cubicBezTo>
              </a:path>
              <a:path w="19101" h="2928">
                <a:moveTo>
                  <a:pt x="2604" y="11807"/>
                </a:moveTo>
                <a:cubicBezTo>
                  <a:pt x="2667" y="11831"/>
                  <a:pt x="2709" y="11832"/>
                  <a:pt x="2778" y="11832"/>
                </a:cubicBezTo>
              </a:path>
              <a:path w="19101" h="2928">
                <a:moveTo>
                  <a:pt x="3125" y="11658"/>
                </a:moveTo>
                <a:cubicBezTo>
                  <a:pt x="3178" y="11669"/>
                  <a:pt x="3278" y="11691"/>
                  <a:pt x="3249" y="11782"/>
                </a:cubicBezTo>
                <a:cubicBezTo>
                  <a:pt x="3235" y="11827"/>
                  <a:pt x="3160" y="11885"/>
                  <a:pt x="3125" y="11906"/>
                </a:cubicBezTo>
                <a:cubicBezTo>
                  <a:pt x="3075" y="11936"/>
                  <a:pt x="3043" y="11964"/>
                  <a:pt x="3001" y="12005"/>
                </a:cubicBezTo>
                <a:cubicBezTo>
                  <a:pt x="3035" y="12039"/>
                  <a:pt x="3107" y="12030"/>
                  <a:pt x="3175" y="12030"/>
                </a:cubicBezTo>
                <a:cubicBezTo>
                  <a:pt x="3261" y="12030"/>
                  <a:pt x="3318" y="12016"/>
                  <a:pt x="3398" y="11981"/>
                </a:cubicBezTo>
              </a:path>
              <a:path w="19101" h="2928">
                <a:moveTo>
                  <a:pt x="5978" y="9227"/>
                </a:moveTo>
                <a:cubicBezTo>
                  <a:pt x="5978" y="9162"/>
                  <a:pt x="5987" y="9133"/>
                  <a:pt x="5928" y="9178"/>
                </a:cubicBezTo>
                <a:cubicBezTo>
                  <a:pt x="5937" y="9206"/>
                  <a:pt x="5979" y="9225"/>
                  <a:pt x="6003" y="9178"/>
                </a:cubicBezTo>
                <a:cubicBezTo>
                  <a:pt x="6003" y="9153"/>
                  <a:pt x="6003" y="9145"/>
                  <a:pt x="6003" y="9128"/>
                </a:cubicBezTo>
                <a:cubicBezTo>
                  <a:pt x="5965" y="9099"/>
                  <a:pt x="5929" y="9095"/>
                  <a:pt x="5904" y="9153"/>
                </a:cubicBezTo>
                <a:cubicBezTo>
                  <a:pt x="5890" y="9186"/>
                  <a:pt x="5900" y="9224"/>
                  <a:pt x="5928" y="9227"/>
                </a:cubicBezTo>
                <a:cubicBezTo>
                  <a:pt x="5974" y="9233"/>
                  <a:pt x="5998" y="9225"/>
                  <a:pt x="6003" y="9178"/>
                </a:cubicBezTo>
                <a:cubicBezTo>
                  <a:pt x="6003" y="9153"/>
                  <a:pt x="6003" y="9145"/>
                  <a:pt x="6003" y="9128"/>
                </a:cubicBezTo>
                <a:cubicBezTo>
                  <a:pt x="5972" y="9128"/>
                  <a:pt x="5936" y="9136"/>
                  <a:pt x="5928" y="9153"/>
                </a:cubicBezTo>
                <a:cubicBezTo>
                  <a:pt x="5921" y="9168"/>
                  <a:pt x="5928" y="9210"/>
                  <a:pt x="5928" y="9227"/>
                </a:cubicBezTo>
              </a:path>
              <a:path w="19101" h="2928">
                <a:moveTo>
                  <a:pt x="10120" y="10592"/>
                </a:moveTo>
                <a:cubicBezTo>
                  <a:pt x="10172" y="10592"/>
                  <a:pt x="10170" y="10594"/>
                  <a:pt x="10170" y="10542"/>
                </a:cubicBezTo>
                <a:cubicBezTo>
                  <a:pt x="10170" y="10534"/>
                  <a:pt x="10170" y="10525"/>
                  <a:pt x="10170" y="10517"/>
                </a:cubicBezTo>
                <a:cubicBezTo>
                  <a:pt x="10103" y="10562"/>
                  <a:pt x="10109" y="10547"/>
                  <a:pt x="10120" y="10592"/>
                </a:cubicBezTo>
                <a:cubicBezTo>
                  <a:pt x="10124" y="10607"/>
                  <a:pt x="10173" y="10643"/>
                  <a:pt x="10195" y="10616"/>
                </a:cubicBezTo>
                <a:cubicBezTo>
                  <a:pt x="10220" y="10586"/>
                  <a:pt x="10184" y="10572"/>
                  <a:pt x="10170" y="10567"/>
                </a:cubicBezTo>
                <a:cubicBezTo>
                  <a:pt x="10145" y="10567"/>
                  <a:pt x="10137" y="10567"/>
                  <a:pt x="10145" y="10592"/>
                </a:cubicBezTo>
                <a:cubicBezTo>
                  <a:pt x="10166" y="10599"/>
                  <a:pt x="10184" y="10636"/>
                  <a:pt x="10220" y="10616"/>
                </a:cubicBezTo>
                <a:cubicBezTo>
                  <a:pt x="10277" y="10585"/>
                  <a:pt x="10210" y="10562"/>
                  <a:pt x="10170" y="10592"/>
                </a:cubicBezTo>
              </a:path>
              <a:path w="19101" h="2928">
                <a:moveTo>
                  <a:pt x="3572" y="10195"/>
                </a:moveTo>
                <a:cubicBezTo>
                  <a:pt x="3611" y="10172"/>
                  <a:pt x="3655" y="10143"/>
                  <a:pt x="3696" y="10120"/>
                </a:cubicBezTo>
                <a:cubicBezTo>
                  <a:pt x="3723" y="10105"/>
                  <a:pt x="3721" y="10113"/>
                  <a:pt x="3746" y="10096"/>
                </a:cubicBezTo>
                <a:cubicBezTo>
                  <a:pt x="3761" y="10084"/>
                  <a:pt x="3795" y="10071"/>
                  <a:pt x="3820" y="10046"/>
                </a:cubicBezTo>
                <a:cubicBezTo>
                  <a:pt x="3820" y="10038"/>
                  <a:pt x="3820" y="10029"/>
                  <a:pt x="3820" y="10021"/>
                </a:cubicBezTo>
                <a:cubicBezTo>
                  <a:pt x="3860" y="10004"/>
                  <a:pt x="3863" y="10013"/>
                  <a:pt x="3894" y="9996"/>
                </a:cubicBezTo>
                <a:cubicBezTo>
                  <a:pt x="3932" y="9975"/>
                  <a:pt x="3956" y="9941"/>
                  <a:pt x="3994" y="9922"/>
                </a:cubicBezTo>
                <a:cubicBezTo>
                  <a:pt x="4025" y="9907"/>
                  <a:pt x="4061" y="9887"/>
                  <a:pt x="4093" y="9872"/>
                </a:cubicBezTo>
                <a:cubicBezTo>
                  <a:pt x="4129" y="9856"/>
                  <a:pt x="4157" y="9845"/>
                  <a:pt x="4192" y="9823"/>
                </a:cubicBezTo>
                <a:cubicBezTo>
                  <a:pt x="4226" y="9802"/>
                  <a:pt x="4259" y="9791"/>
                  <a:pt x="4291" y="9773"/>
                </a:cubicBezTo>
                <a:cubicBezTo>
                  <a:pt x="4329" y="9752"/>
                  <a:pt x="4352" y="9717"/>
                  <a:pt x="4390" y="9699"/>
                </a:cubicBezTo>
                <a:cubicBezTo>
                  <a:pt x="4431" y="9679"/>
                  <a:pt x="4474" y="9669"/>
                  <a:pt x="4514" y="9649"/>
                </a:cubicBezTo>
                <a:cubicBezTo>
                  <a:pt x="4568" y="9622"/>
                  <a:pt x="4640" y="9579"/>
                  <a:pt x="4688" y="9550"/>
                </a:cubicBezTo>
                <a:cubicBezTo>
                  <a:pt x="4756" y="9509"/>
                  <a:pt x="4788" y="9507"/>
                  <a:pt x="4862" y="9475"/>
                </a:cubicBezTo>
                <a:cubicBezTo>
                  <a:pt x="4907" y="9456"/>
                  <a:pt x="4939" y="9416"/>
                  <a:pt x="4986" y="9401"/>
                </a:cubicBezTo>
                <a:cubicBezTo>
                  <a:pt x="5029" y="9387"/>
                  <a:pt x="5068" y="9366"/>
                  <a:pt x="5110" y="9351"/>
                </a:cubicBezTo>
                <a:cubicBezTo>
                  <a:pt x="5160" y="9333"/>
                  <a:pt x="5207" y="9319"/>
                  <a:pt x="5259" y="9302"/>
                </a:cubicBezTo>
                <a:cubicBezTo>
                  <a:pt x="5300" y="9288"/>
                  <a:pt x="5339" y="9263"/>
                  <a:pt x="5383" y="9252"/>
                </a:cubicBezTo>
                <a:cubicBezTo>
                  <a:pt x="5426" y="9241"/>
                  <a:pt x="5488" y="9223"/>
                  <a:pt x="5531" y="9203"/>
                </a:cubicBezTo>
                <a:cubicBezTo>
                  <a:pt x="5568" y="9186"/>
                  <a:pt x="5591" y="9165"/>
                  <a:pt x="5631" y="9153"/>
                </a:cubicBezTo>
                <a:cubicBezTo>
                  <a:pt x="5671" y="9140"/>
                  <a:pt x="5715" y="9138"/>
                  <a:pt x="5755" y="9128"/>
                </a:cubicBezTo>
                <a:cubicBezTo>
                  <a:pt x="5805" y="9115"/>
                  <a:pt x="5854" y="9108"/>
                  <a:pt x="5904" y="9103"/>
                </a:cubicBezTo>
                <a:cubicBezTo>
                  <a:pt x="5991" y="9095"/>
                  <a:pt x="6080" y="9121"/>
                  <a:pt x="6152" y="9128"/>
                </a:cubicBezTo>
                <a:cubicBezTo>
                  <a:pt x="6217" y="9134"/>
                  <a:pt x="6291" y="9149"/>
                  <a:pt x="6350" y="9153"/>
                </a:cubicBezTo>
                <a:cubicBezTo>
                  <a:pt x="6418" y="9158"/>
                  <a:pt x="6458" y="9159"/>
                  <a:pt x="6524" y="9178"/>
                </a:cubicBezTo>
                <a:cubicBezTo>
                  <a:pt x="6575" y="9193"/>
                  <a:pt x="6619" y="9190"/>
                  <a:pt x="6672" y="9203"/>
                </a:cubicBezTo>
                <a:cubicBezTo>
                  <a:pt x="6744" y="9221"/>
                  <a:pt x="6787" y="9236"/>
                  <a:pt x="6846" y="9252"/>
                </a:cubicBezTo>
                <a:cubicBezTo>
                  <a:pt x="6893" y="9265"/>
                  <a:pt x="6930" y="9288"/>
                  <a:pt x="6970" y="9302"/>
                </a:cubicBezTo>
                <a:cubicBezTo>
                  <a:pt x="7003" y="9314"/>
                  <a:pt x="7037" y="9316"/>
                  <a:pt x="7069" y="9327"/>
                </a:cubicBezTo>
                <a:cubicBezTo>
                  <a:pt x="7096" y="9336"/>
                  <a:pt x="7144" y="9338"/>
                  <a:pt x="7169" y="9351"/>
                </a:cubicBezTo>
                <a:cubicBezTo>
                  <a:pt x="7202" y="9368"/>
                  <a:pt x="7236" y="9385"/>
                  <a:pt x="7268" y="9401"/>
                </a:cubicBezTo>
                <a:cubicBezTo>
                  <a:pt x="7300" y="9418"/>
                  <a:pt x="7355" y="9469"/>
                  <a:pt x="7367" y="9475"/>
                </a:cubicBezTo>
                <a:cubicBezTo>
                  <a:pt x="7404" y="9493"/>
                  <a:pt x="7448" y="9509"/>
                  <a:pt x="7491" y="9525"/>
                </a:cubicBezTo>
                <a:cubicBezTo>
                  <a:pt x="7539" y="9542"/>
                  <a:pt x="7595" y="9559"/>
                  <a:pt x="7640" y="9575"/>
                </a:cubicBezTo>
                <a:cubicBezTo>
                  <a:pt x="7679" y="9589"/>
                  <a:pt x="7727" y="9606"/>
                  <a:pt x="7764" y="9624"/>
                </a:cubicBezTo>
                <a:cubicBezTo>
                  <a:pt x="7800" y="9642"/>
                  <a:pt x="7826" y="9681"/>
                  <a:pt x="7863" y="9699"/>
                </a:cubicBezTo>
                <a:cubicBezTo>
                  <a:pt x="7894" y="9714"/>
                  <a:pt x="7931" y="9710"/>
                  <a:pt x="7962" y="9723"/>
                </a:cubicBezTo>
                <a:cubicBezTo>
                  <a:pt x="7978" y="9739"/>
                  <a:pt x="7986" y="9747"/>
                  <a:pt x="8012" y="9773"/>
                </a:cubicBezTo>
              </a:path>
              <a:path w="19101" h="2928">
                <a:moveTo>
                  <a:pt x="8012" y="9748"/>
                </a:moveTo>
                <a:cubicBezTo>
                  <a:pt x="8035" y="9771"/>
                  <a:pt x="8043" y="9775"/>
                  <a:pt x="8037" y="9798"/>
                </a:cubicBezTo>
                <a:cubicBezTo>
                  <a:pt x="8067" y="9813"/>
                  <a:pt x="8105" y="9832"/>
                  <a:pt x="8136" y="9847"/>
                </a:cubicBezTo>
                <a:cubicBezTo>
                  <a:pt x="8161" y="9882"/>
                  <a:pt x="8167" y="9896"/>
                  <a:pt x="8210" y="9922"/>
                </a:cubicBezTo>
                <a:cubicBezTo>
                  <a:pt x="8251" y="9946"/>
                  <a:pt x="8286" y="9959"/>
                  <a:pt x="8334" y="9971"/>
                </a:cubicBezTo>
                <a:cubicBezTo>
                  <a:pt x="8360" y="9991"/>
                  <a:pt x="8333" y="9988"/>
                  <a:pt x="8384" y="9996"/>
                </a:cubicBezTo>
                <a:cubicBezTo>
                  <a:pt x="8410" y="10016"/>
                  <a:pt x="8383" y="10013"/>
                  <a:pt x="8434" y="10021"/>
                </a:cubicBezTo>
                <a:cubicBezTo>
                  <a:pt x="8451" y="10035"/>
                  <a:pt x="8476" y="10053"/>
                  <a:pt x="8508" y="10071"/>
                </a:cubicBezTo>
                <a:cubicBezTo>
                  <a:pt x="8525" y="10085"/>
                  <a:pt x="8547" y="10101"/>
                  <a:pt x="8582" y="10120"/>
                </a:cubicBezTo>
                <a:cubicBezTo>
                  <a:pt x="8614" y="10137"/>
                  <a:pt x="8647" y="10133"/>
                  <a:pt x="8682" y="10145"/>
                </a:cubicBezTo>
                <a:cubicBezTo>
                  <a:pt x="8717" y="10157"/>
                  <a:pt x="8715" y="10165"/>
                  <a:pt x="8756" y="10170"/>
                </a:cubicBezTo>
                <a:cubicBezTo>
                  <a:pt x="8782" y="10190"/>
                  <a:pt x="8755" y="10187"/>
                  <a:pt x="8806" y="10195"/>
                </a:cubicBezTo>
                <a:cubicBezTo>
                  <a:pt x="8836" y="10215"/>
                  <a:pt x="8849" y="10225"/>
                  <a:pt x="8905" y="10244"/>
                </a:cubicBezTo>
                <a:cubicBezTo>
                  <a:pt x="8933" y="10253"/>
                  <a:pt x="8978" y="10281"/>
                  <a:pt x="9004" y="10294"/>
                </a:cubicBezTo>
                <a:cubicBezTo>
                  <a:pt x="9046" y="10315"/>
                  <a:pt x="9086" y="10326"/>
                  <a:pt x="9128" y="10344"/>
                </a:cubicBezTo>
                <a:cubicBezTo>
                  <a:pt x="9152" y="10354"/>
                  <a:pt x="9178" y="10359"/>
                  <a:pt x="9203" y="10368"/>
                </a:cubicBezTo>
                <a:cubicBezTo>
                  <a:pt x="9218" y="10380"/>
                  <a:pt x="9242" y="10406"/>
                  <a:pt x="9277" y="10418"/>
                </a:cubicBezTo>
                <a:cubicBezTo>
                  <a:pt x="9318" y="10432"/>
                  <a:pt x="9388" y="10460"/>
                  <a:pt x="9426" y="10468"/>
                </a:cubicBezTo>
                <a:cubicBezTo>
                  <a:pt x="9467" y="10477"/>
                  <a:pt x="9510" y="10477"/>
                  <a:pt x="9550" y="10492"/>
                </a:cubicBezTo>
                <a:cubicBezTo>
                  <a:pt x="9592" y="10508"/>
                  <a:pt x="9630" y="10502"/>
                  <a:pt x="9674" y="10517"/>
                </a:cubicBezTo>
                <a:cubicBezTo>
                  <a:pt x="9715" y="10531"/>
                  <a:pt x="9754" y="10529"/>
                  <a:pt x="9798" y="10542"/>
                </a:cubicBezTo>
                <a:cubicBezTo>
                  <a:pt x="9848" y="10556"/>
                  <a:pt x="9862" y="10564"/>
                  <a:pt x="9922" y="10567"/>
                </a:cubicBezTo>
                <a:cubicBezTo>
                  <a:pt x="9972" y="10570"/>
                  <a:pt x="9998" y="10584"/>
                  <a:pt x="10046" y="10592"/>
                </a:cubicBezTo>
                <a:cubicBezTo>
                  <a:pt x="10146" y="10609"/>
                  <a:pt x="10266" y="10592"/>
                  <a:pt x="10368" y="10592"/>
                </a:cubicBezTo>
              </a:path>
              <a:path w="19101" h="2928">
                <a:moveTo>
                  <a:pt x="10269" y="10492"/>
                </a:moveTo>
                <a:cubicBezTo>
                  <a:pt x="10304" y="10492"/>
                  <a:pt x="10343" y="10495"/>
                  <a:pt x="10393" y="10492"/>
                </a:cubicBezTo>
                <a:cubicBezTo>
                  <a:pt x="10437" y="10489"/>
                  <a:pt x="10486" y="10471"/>
                  <a:pt x="10517" y="10468"/>
                </a:cubicBezTo>
                <a:cubicBezTo>
                  <a:pt x="10575" y="10463"/>
                  <a:pt x="10646" y="10449"/>
                  <a:pt x="10691" y="10443"/>
                </a:cubicBezTo>
                <a:cubicBezTo>
                  <a:pt x="10724" y="10443"/>
                  <a:pt x="10740" y="10443"/>
                  <a:pt x="10765" y="10443"/>
                </a:cubicBezTo>
                <a:cubicBezTo>
                  <a:pt x="10774" y="10439"/>
                  <a:pt x="10833" y="10402"/>
                  <a:pt x="10864" y="10393"/>
                </a:cubicBezTo>
                <a:cubicBezTo>
                  <a:pt x="10907" y="10380"/>
                  <a:pt x="10950" y="10357"/>
                  <a:pt x="10988" y="10344"/>
                </a:cubicBezTo>
                <a:cubicBezTo>
                  <a:pt x="11038" y="10327"/>
                  <a:pt x="11088" y="10319"/>
                  <a:pt x="11137" y="10294"/>
                </a:cubicBezTo>
                <a:cubicBezTo>
                  <a:pt x="11180" y="10272"/>
                  <a:pt x="11213" y="10258"/>
                  <a:pt x="11261" y="10244"/>
                </a:cubicBezTo>
                <a:cubicBezTo>
                  <a:pt x="11296" y="10234"/>
                  <a:pt x="11355" y="10200"/>
                  <a:pt x="11385" y="10195"/>
                </a:cubicBezTo>
                <a:cubicBezTo>
                  <a:pt x="11438" y="10186"/>
                  <a:pt x="11489" y="10181"/>
                  <a:pt x="11534" y="10170"/>
                </a:cubicBezTo>
                <a:cubicBezTo>
                  <a:pt x="11586" y="10158"/>
                  <a:pt x="11638" y="10134"/>
                  <a:pt x="11683" y="10120"/>
                </a:cubicBezTo>
                <a:cubicBezTo>
                  <a:pt x="11724" y="10108"/>
                  <a:pt x="11767" y="10106"/>
                  <a:pt x="11807" y="10096"/>
                </a:cubicBezTo>
                <a:cubicBezTo>
                  <a:pt x="11850" y="10085"/>
                  <a:pt x="11915" y="10065"/>
                  <a:pt x="11956" y="10046"/>
                </a:cubicBezTo>
                <a:cubicBezTo>
                  <a:pt x="11985" y="10032"/>
                  <a:pt x="12030" y="10010"/>
                  <a:pt x="12055" y="9996"/>
                </a:cubicBezTo>
                <a:cubicBezTo>
                  <a:pt x="12089" y="9977"/>
                  <a:pt x="12121" y="9964"/>
                  <a:pt x="12154" y="9947"/>
                </a:cubicBezTo>
                <a:cubicBezTo>
                  <a:pt x="12195" y="9926"/>
                  <a:pt x="12237" y="9896"/>
                  <a:pt x="12278" y="9872"/>
                </a:cubicBezTo>
                <a:cubicBezTo>
                  <a:pt x="12328" y="9842"/>
                  <a:pt x="12416" y="9800"/>
                  <a:pt x="12452" y="9773"/>
                </a:cubicBezTo>
                <a:cubicBezTo>
                  <a:pt x="12498" y="9739"/>
                  <a:pt x="12567" y="9679"/>
                  <a:pt x="12601" y="9649"/>
                </a:cubicBezTo>
                <a:cubicBezTo>
                  <a:pt x="12660" y="9597"/>
                  <a:pt x="12713" y="9564"/>
                  <a:pt x="12774" y="9525"/>
                </a:cubicBezTo>
                <a:cubicBezTo>
                  <a:pt x="12810" y="9502"/>
                  <a:pt x="12836" y="9490"/>
                  <a:pt x="12874" y="9475"/>
                </a:cubicBezTo>
                <a:cubicBezTo>
                  <a:pt x="12924" y="9455"/>
                  <a:pt x="12971" y="9440"/>
                  <a:pt x="13022" y="9426"/>
                </a:cubicBezTo>
                <a:cubicBezTo>
                  <a:pt x="13094" y="9406"/>
                  <a:pt x="13158" y="9392"/>
                  <a:pt x="13221" y="9376"/>
                </a:cubicBezTo>
                <a:cubicBezTo>
                  <a:pt x="13287" y="9359"/>
                  <a:pt x="13350" y="9361"/>
                  <a:pt x="13419" y="9351"/>
                </a:cubicBezTo>
                <a:cubicBezTo>
                  <a:pt x="13467" y="9344"/>
                  <a:pt x="13519" y="9337"/>
                  <a:pt x="13568" y="9327"/>
                </a:cubicBezTo>
                <a:cubicBezTo>
                  <a:pt x="13609" y="9319"/>
                  <a:pt x="13647" y="9312"/>
                  <a:pt x="13692" y="9302"/>
                </a:cubicBezTo>
                <a:cubicBezTo>
                  <a:pt x="13745" y="9290"/>
                  <a:pt x="13787" y="9287"/>
                  <a:pt x="13841" y="9277"/>
                </a:cubicBezTo>
                <a:cubicBezTo>
                  <a:pt x="13875" y="9271"/>
                  <a:pt x="13922" y="9259"/>
                  <a:pt x="13965" y="9252"/>
                </a:cubicBezTo>
                <a:cubicBezTo>
                  <a:pt x="14008" y="9246"/>
                  <a:pt x="14076" y="9225"/>
                  <a:pt x="14114" y="9227"/>
                </a:cubicBezTo>
                <a:cubicBezTo>
                  <a:pt x="14174" y="9230"/>
                  <a:pt x="14262" y="9271"/>
                  <a:pt x="14312" y="9277"/>
                </a:cubicBezTo>
                <a:cubicBezTo>
                  <a:pt x="14345" y="9281"/>
                  <a:pt x="14379" y="9275"/>
                  <a:pt x="14412" y="9277"/>
                </a:cubicBezTo>
              </a:path>
              <a:path w="19101" h="2928">
                <a:moveTo>
                  <a:pt x="14387" y="9227"/>
                </a:moveTo>
                <a:cubicBezTo>
                  <a:pt x="14476" y="9227"/>
                  <a:pt x="14560" y="9241"/>
                  <a:pt x="14635" y="9252"/>
                </a:cubicBezTo>
                <a:cubicBezTo>
                  <a:pt x="14683" y="9259"/>
                  <a:pt x="14716" y="9270"/>
                  <a:pt x="14759" y="9277"/>
                </a:cubicBezTo>
                <a:cubicBezTo>
                  <a:pt x="14818" y="9287"/>
                  <a:pt x="14856" y="9300"/>
                  <a:pt x="14908" y="9327"/>
                </a:cubicBezTo>
                <a:cubicBezTo>
                  <a:pt x="14961" y="9355"/>
                  <a:pt x="14983" y="9369"/>
                  <a:pt x="15032" y="9401"/>
                </a:cubicBezTo>
                <a:cubicBezTo>
                  <a:pt x="15081" y="9433"/>
                  <a:pt x="15131" y="9470"/>
                  <a:pt x="15180" y="9500"/>
                </a:cubicBezTo>
                <a:cubicBezTo>
                  <a:pt x="15224" y="9527"/>
                  <a:pt x="15279" y="9568"/>
                  <a:pt x="15329" y="9599"/>
                </a:cubicBezTo>
                <a:cubicBezTo>
                  <a:pt x="15380" y="9630"/>
                  <a:pt x="15411" y="9657"/>
                  <a:pt x="15453" y="9699"/>
                </a:cubicBezTo>
                <a:cubicBezTo>
                  <a:pt x="15492" y="9738"/>
                  <a:pt x="15539" y="9741"/>
                  <a:pt x="15577" y="9773"/>
                </a:cubicBezTo>
                <a:cubicBezTo>
                  <a:pt x="15585" y="9781"/>
                  <a:pt x="15594" y="9790"/>
                  <a:pt x="15602" y="9798"/>
                </a:cubicBezTo>
              </a:path>
              <a:path w="19101" h="2928">
                <a:moveTo>
                  <a:pt x="15602" y="9748"/>
                </a:moveTo>
                <a:cubicBezTo>
                  <a:pt x="15611" y="9755"/>
                  <a:pt x="15659" y="9784"/>
                  <a:pt x="15677" y="9798"/>
                </a:cubicBezTo>
                <a:cubicBezTo>
                  <a:pt x="15724" y="9834"/>
                  <a:pt x="15752" y="9862"/>
                  <a:pt x="15801" y="9897"/>
                </a:cubicBezTo>
                <a:cubicBezTo>
                  <a:pt x="15850" y="9932"/>
                  <a:pt x="15898" y="9964"/>
                  <a:pt x="15949" y="9996"/>
                </a:cubicBezTo>
                <a:cubicBezTo>
                  <a:pt x="15984" y="10018"/>
                  <a:pt x="16032" y="10047"/>
                  <a:pt x="16073" y="10071"/>
                </a:cubicBezTo>
                <a:cubicBezTo>
                  <a:pt x="16115" y="10095"/>
                  <a:pt x="16157" y="10124"/>
                  <a:pt x="16197" y="10145"/>
                </a:cubicBezTo>
                <a:cubicBezTo>
                  <a:pt x="16245" y="10170"/>
                  <a:pt x="16319" y="10201"/>
                  <a:pt x="16371" y="10220"/>
                </a:cubicBezTo>
                <a:cubicBezTo>
                  <a:pt x="16405" y="10232"/>
                  <a:pt x="16434" y="10234"/>
                  <a:pt x="16470" y="10244"/>
                </a:cubicBezTo>
                <a:cubicBezTo>
                  <a:pt x="16529" y="10260"/>
                  <a:pt x="16585" y="10279"/>
                  <a:pt x="16644" y="10294"/>
                </a:cubicBezTo>
                <a:cubicBezTo>
                  <a:pt x="16689" y="10305"/>
                  <a:pt x="16727" y="10309"/>
                  <a:pt x="16768" y="10319"/>
                </a:cubicBezTo>
                <a:cubicBezTo>
                  <a:pt x="16814" y="10330"/>
                  <a:pt x="16850" y="10334"/>
                  <a:pt x="16892" y="10344"/>
                </a:cubicBezTo>
                <a:cubicBezTo>
                  <a:pt x="16936" y="10355"/>
                  <a:pt x="16976" y="10359"/>
                  <a:pt x="17016" y="10368"/>
                </a:cubicBezTo>
                <a:cubicBezTo>
                  <a:pt x="17074" y="10380"/>
                  <a:pt x="17112" y="10400"/>
                  <a:pt x="17165" y="10418"/>
                </a:cubicBezTo>
                <a:cubicBezTo>
                  <a:pt x="17218" y="10436"/>
                  <a:pt x="17284" y="10453"/>
                  <a:pt x="17338" y="10468"/>
                </a:cubicBezTo>
                <a:cubicBezTo>
                  <a:pt x="17376" y="10479"/>
                  <a:pt x="17426" y="10488"/>
                  <a:pt x="17462" y="10492"/>
                </a:cubicBezTo>
                <a:cubicBezTo>
                  <a:pt x="17503" y="10496"/>
                  <a:pt x="17558" y="10514"/>
                  <a:pt x="17587" y="10517"/>
                </a:cubicBezTo>
                <a:cubicBezTo>
                  <a:pt x="17716" y="10529"/>
                  <a:pt x="17860" y="10532"/>
                  <a:pt x="17983" y="10542"/>
                </a:cubicBezTo>
                <a:cubicBezTo>
                  <a:pt x="18150" y="10555"/>
                  <a:pt x="18329" y="10529"/>
                  <a:pt x="18479" y="10517"/>
                </a:cubicBezTo>
                <a:cubicBezTo>
                  <a:pt x="18542" y="10512"/>
                  <a:pt x="18628" y="10496"/>
                  <a:pt x="18678" y="10492"/>
                </a:cubicBezTo>
                <a:cubicBezTo>
                  <a:pt x="18763" y="10486"/>
                  <a:pt x="18842" y="10483"/>
                  <a:pt x="18926" y="10468"/>
                </a:cubicBezTo>
                <a:cubicBezTo>
                  <a:pt x="18986" y="10457"/>
                  <a:pt x="19060" y="10431"/>
                  <a:pt x="19124" y="10418"/>
                </a:cubicBezTo>
                <a:cubicBezTo>
                  <a:pt x="19173" y="10408"/>
                  <a:pt x="19250" y="10389"/>
                  <a:pt x="19298" y="10368"/>
                </a:cubicBezTo>
                <a:cubicBezTo>
                  <a:pt x="19342" y="10348"/>
                  <a:pt x="19374" y="10317"/>
                  <a:pt x="19422" y="10294"/>
                </a:cubicBezTo>
                <a:cubicBezTo>
                  <a:pt x="19455" y="10278"/>
                  <a:pt x="19487" y="10261"/>
                  <a:pt x="19521" y="10244"/>
                </a:cubicBezTo>
                <a:cubicBezTo>
                  <a:pt x="19577" y="10216"/>
                  <a:pt x="19619" y="10180"/>
                  <a:pt x="19670" y="10145"/>
                </a:cubicBezTo>
                <a:cubicBezTo>
                  <a:pt x="19699" y="10125"/>
                  <a:pt x="19736" y="10097"/>
                  <a:pt x="19769" y="10071"/>
                </a:cubicBezTo>
                <a:cubicBezTo>
                  <a:pt x="19812" y="10038"/>
                  <a:pt x="19852" y="10008"/>
                  <a:pt x="19893" y="9971"/>
                </a:cubicBezTo>
                <a:cubicBezTo>
                  <a:pt x="19933" y="9935"/>
                  <a:pt x="19930" y="9934"/>
                  <a:pt x="19968" y="9897"/>
                </a:cubicBezTo>
                <a:cubicBezTo>
                  <a:pt x="20010" y="9857"/>
                  <a:pt x="20051" y="9826"/>
                  <a:pt x="20092" y="9798"/>
                </a:cubicBezTo>
                <a:cubicBezTo>
                  <a:pt x="20132" y="9771"/>
                  <a:pt x="20179" y="9752"/>
                  <a:pt x="20216" y="9723"/>
                </a:cubicBezTo>
                <a:cubicBezTo>
                  <a:pt x="20249" y="9697"/>
                  <a:pt x="20287" y="9669"/>
                  <a:pt x="20315" y="9649"/>
                </a:cubicBezTo>
                <a:cubicBezTo>
                  <a:pt x="20354" y="9621"/>
                  <a:pt x="20431" y="9577"/>
                  <a:pt x="20464" y="9550"/>
                </a:cubicBezTo>
                <a:cubicBezTo>
                  <a:pt x="20516" y="9507"/>
                  <a:pt x="20574" y="9434"/>
                  <a:pt x="20613" y="9401"/>
                </a:cubicBezTo>
                <a:cubicBezTo>
                  <a:pt x="20638" y="9380"/>
                  <a:pt x="20681" y="9357"/>
                  <a:pt x="20712" y="9327"/>
                </a:cubicBezTo>
                <a:cubicBezTo>
                  <a:pt x="20733" y="9307"/>
                  <a:pt x="20778" y="9256"/>
                  <a:pt x="20786" y="9252"/>
                </a:cubicBezTo>
                <a:cubicBezTo>
                  <a:pt x="20821" y="9233"/>
                  <a:pt x="20798" y="9265"/>
                  <a:pt x="20836" y="9252"/>
                </a:cubicBezTo>
              </a:path>
              <a:path w="19101" h="2928">
                <a:moveTo>
                  <a:pt x="20563" y="9153"/>
                </a:moveTo>
                <a:cubicBezTo>
                  <a:pt x="20684" y="9153"/>
                  <a:pt x="20797" y="9149"/>
                  <a:pt x="20910" y="9178"/>
                </a:cubicBezTo>
                <a:cubicBezTo>
                  <a:pt x="20981" y="9196"/>
                  <a:pt x="21085" y="9178"/>
                  <a:pt x="21158" y="9178"/>
                </a:cubicBezTo>
                <a:cubicBezTo>
                  <a:pt x="21151" y="9201"/>
                  <a:pt x="21149" y="9225"/>
                  <a:pt x="21134" y="9252"/>
                </a:cubicBezTo>
                <a:cubicBezTo>
                  <a:pt x="21111" y="9293"/>
                  <a:pt x="21097" y="9351"/>
                  <a:pt x="21084" y="9401"/>
                </a:cubicBezTo>
                <a:cubicBezTo>
                  <a:pt x="21075" y="9438"/>
                  <a:pt x="21084" y="9487"/>
                  <a:pt x="21084" y="9525"/>
                </a:cubicBezTo>
              </a:path>
              <a:path w="19101" h="2928">
                <a:moveTo>
                  <a:pt x="3497" y="9847"/>
                </a:moveTo>
                <a:cubicBezTo>
                  <a:pt x="3487" y="9890"/>
                  <a:pt x="3460" y="9931"/>
                  <a:pt x="3448" y="9971"/>
                </a:cubicBezTo>
                <a:cubicBezTo>
                  <a:pt x="3435" y="10013"/>
                  <a:pt x="3423" y="10050"/>
                  <a:pt x="3423" y="10096"/>
                </a:cubicBezTo>
                <a:cubicBezTo>
                  <a:pt x="3423" y="10153"/>
                  <a:pt x="3432" y="10174"/>
                  <a:pt x="3448" y="10220"/>
                </a:cubicBezTo>
                <a:cubicBezTo>
                  <a:pt x="3460" y="10256"/>
                  <a:pt x="3479" y="10244"/>
                  <a:pt x="3522" y="10244"/>
                </a:cubicBezTo>
                <a:cubicBezTo>
                  <a:pt x="3640" y="10244"/>
                  <a:pt x="3753" y="10239"/>
                  <a:pt x="3870" y="10269"/>
                </a:cubicBezTo>
                <a:cubicBezTo>
                  <a:pt x="3924" y="10296"/>
                  <a:pt x="3944" y="10308"/>
                  <a:pt x="3969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8BF3-E36E-4FE3-A753-80FC3D6B09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7613F-87F6-480B-B4D1-36C87C5BD3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18640" y="7467120"/>
            <a:ext cx="255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operties of Sine and Cosine Fun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68560" y="4923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6. The cycle repeats itself indefinitely in both directions of the</a:t>
            </a:r>
            <a:br>
              <a:rPr sz="2400"/>
            </a:b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axi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3964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operties of Sine and Cosine Functi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247760"/>
            <a:ext cx="87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graphs of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sin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and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cos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have similar propertie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68560" y="3048120"/>
            <a:ext cx="87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The maximum value is 1 and the minimum value is –1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68560" y="3587760"/>
            <a:ext cx="87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. The graph is a smooth curve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68560" y="1968480"/>
            <a:ext cx="87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 The domain is the set of real number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68560" y="4127400"/>
            <a:ext cx="8777160" cy="825480"/>
            <a:chOff x="1168560" y="4127400"/>
            <a:chExt cx="8777160" cy="825480"/>
          </a:xfrm>
        </p:grpSpPr>
        <p:sp>
          <p:nvSpPr>
            <p:cNvPr id="88" name=""/>
            <p:cNvSpPr/>
            <p:nvPr/>
          </p:nvSpPr>
          <p:spPr>
            <a:xfrm>
              <a:off x="1168560" y="4127400"/>
              <a:ext cx="877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5. Each function cycles through all the values of the range </a:t>
              </a:r>
              <a:br>
                <a:rPr sz="2400"/>
              </a:b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   over an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-interval of      .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4102200" y="4559400"/>
                  <a:ext cx="43488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68560" y="2508120"/>
            <a:ext cx="8777160" cy="459720"/>
            <a:chOff x="1168560" y="2508120"/>
            <a:chExt cx="8777160" cy="459720"/>
          </a:xfrm>
        </p:grpSpPr>
        <p:sp>
          <p:nvSpPr>
            <p:cNvPr id="91" name=""/>
            <p:cNvSpPr/>
            <p:nvPr/>
          </p:nvSpPr>
          <p:spPr>
            <a:xfrm>
              <a:off x="1168560" y="2508120"/>
              <a:ext cx="877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2. The range is the set of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values such that                .  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6553440" y="2577960"/>
                  <a:ext cx="11984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y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F36B-1BEE-46C0-9DA6-EBB2B62A1A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18640" y="7467120"/>
            <a:ext cx="255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e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0492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Graph of the Sine Fun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5120" y="888840"/>
            <a:ext cx="84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sketch the graph of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sin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first locate the key points.</a:t>
            </a:r>
            <a:br>
              <a:rPr sz="2400"/>
            </a:b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se are the maximum points, the minimum points, and the intercept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2362320" y="1822320"/>
            <a:ext cx="5014800" cy="1121040"/>
            <a:chOff x="2362320" y="1822320"/>
            <a:chExt cx="5014800" cy="1121040"/>
          </a:xfrm>
        </p:grpSpPr>
        <p:sp>
          <p:nvSpPr>
            <p:cNvPr id="98" name=""/>
            <p:cNvSpPr/>
            <p:nvPr/>
          </p:nvSpPr>
          <p:spPr>
            <a:xfrm>
              <a:off x="6589800" y="2413080"/>
              <a:ext cx="738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50000" y="2413080"/>
              <a:ext cx="7398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11640" y="2413080"/>
              <a:ext cx="73836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73640" y="2413080"/>
              <a:ext cx="738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3840" y="2413080"/>
              <a:ext cx="7398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2320" y="2413080"/>
              <a:ext cx="12715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sin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89800" y="1868400"/>
              <a:ext cx="738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50000" y="1868400"/>
              <a:ext cx="739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11640" y="1868400"/>
              <a:ext cx="738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73640" y="1868400"/>
              <a:ext cx="738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3840" y="1868400"/>
              <a:ext cx="739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62320" y="1868400"/>
              <a:ext cx="1271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11280" y="2425680"/>
              <a:ext cx="496584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11280" y="2943360"/>
              <a:ext cx="496584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11280" y="1868400"/>
              <a:ext cx="0" cy="107496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33840" y="1868400"/>
              <a:ext cx="0" cy="1074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73640" y="1868400"/>
              <a:ext cx="0" cy="1074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11640" y="1868400"/>
              <a:ext cx="0" cy="1074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50000" y="1868400"/>
              <a:ext cx="0" cy="1074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89800" y="1868400"/>
              <a:ext cx="0" cy="1074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77120" y="1868400"/>
              <a:ext cx="0" cy="107496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22600" y="1868400"/>
              <a:ext cx="7383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11280" y="1868400"/>
              <a:ext cx="201132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60960" y="1868400"/>
              <a:ext cx="221616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4616280" y="1822320"/>
                  <a:ext cx="24768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6051600" y="1847880"/>
                  <a:ext cx="36180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6756480" y="2062080"/>
                  <a:ext cx="34272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365800" y="2070000"/>
                  <a:ext cx="2095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" name=""/>
          <p:cNvSpPr/>
          <p:nvPr/>
        </p:nvSpPr>
        <p:spPr>
          <a:xfrm>
            <a:off x="685800" y="3149640"/>
            <a:ext cx="74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n, connect the points on the graph with a smooth curve that extends in both directions beyond the five points. A single cycle is called a </a:t>
            </a: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eriod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822320" y="4314960"/>
            <a:ext cx="6878880" cy="1800000"/>
            <a:chOff x="1822320" y="4314960"/>
            <a:chExt cx="6878880" cy="1800000"/>
          </a:xfrm>
        </p:grpSpPr>
        <p:sp>
          <p:nvSpPr>
            <p:cNvPr id="128" name=""/>
            <p:cNvSpPr/>
            <p:nvPr/>
          </p:nvSpPr>
          <p:spPr>
            <a:xfrm>
              <a:off x="4035600" y="431496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1822320" y="4727520"/>
                  <a:ext cx="51444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2652840" y="5097600"/>
                  <a:ext cx="38088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303720" y="4740120"/>
                  <a:ext cx="41904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7000920" y="5025960"/>
                  <a:ext cx="342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6308640" y="4680000"/>
                  <a:ext cx="36216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665680" y="5072040"/>
                  <a:ext cx="20952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923000" y="4718160"/>
                  <a:ext cx="24732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7734240" y="4689360"/>
                  <a:ext cx="36216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3844800" y="5851440"/>
                  <a:ext cx="2635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3978360" y="4762440"/>
                  <a:ext cx="114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8381880" y="505152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4552920" y="5519880"/>
                  <a:ext cx="114480" cy="16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41" name=""/>
            <p:cNvSpPr/>
            <p:nvPr/>
          </p:nvSpPr>
          <p:spPr>
            <a:xfrm>
              <a:off x="4305240" y="4495680"/>
              <a:ext cx="1800" cy="1619280"/>
            </a:xfrm>
            <a:custGeom>
              <a:avLst/>
              <a:gdLst/>
              <a:ahLst/>
              <a:rect l="l" t="t" r="r" b="b"/>
              <a:pathLst>
                <a:path w="1" h="1908">
                  <a:moveTo>
                    <a:pt x="0" y="1908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00160" y="5435640"/>
              <a:ext cx="6508800" cy="1440"/>
            </a:xfrm>
            <a:custGeom>
              <a:avLst/>
              <a:gdLst/>
              <a:ahLst/>
              <a:rect l="l" t="t" r="r" b="b"/>
              <a:pathLst>
                <a:path w="4100" h="1">
                  <a:moveTo>
                    <a:pt x="0" y="1"/>
                  </a:moveTo>
                  <a:lnTo>
                    <a:pt x="4100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4800" y="4889520"/>
              <a:ext cx="3603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14800" y="5975280"/>
              <a:ext cx="3603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84520" y="53197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0280" y="53197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46320" y="53197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560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9136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6740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6252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3856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133720" y="4813200"/>
            <a:ext cx="6083280" cy="1168560"/>
            <a:chOff x="2133720" y="4813200"/>
            <a:chExt cx="6083280" cy="1168560"/>
          </a:xfrm>
        </p:grpSpPr>
        <p:sp>
          <p:nvSpPr>
            <p:cNvPr id="154" name=""/>
            <p:cNvSpPr/>
            <p:nvPr/>
          </p:nvSpPr>
          <p:spPr>
            <a:xfrm>
              <a:off x="4292640" y="4902120"/>
              <a:ext cx="2882880" cy="1079640"/>
            </a:xfrm>
            <a:custGeom>
              <a:avLst/>
              <a:gdLst/>
              <a:ahLst/>
              <a:rect l="l" t="t" r="r" b="b"/>
              <a:pathLst>
                <a:path w="1816" h="680">
                  <a:moveTo>
                    <a:pt x="0" y="344"/>
                  </a:moveTo>
                  <a:cubicBezTo>
                    <a:pt x="60" y="276"/>
                    <a:pt x="176" y="16"/>
                    <a:pt x="448" y="8"/>
                  </a:cubicBezTo>
                  <a:cubicBezTo>
                    <a:pt x="720" y="0"/>
                    <a:pt x="1216" y="680"/>
                    <a:pt x="1400" y="680"/>
                  </a:cubicBezTo>
                  <a:cubicBezTo>
                    <a:pt x="1584" y="680"/>
                    <a:pt x="1732" y="416"/>
                    <a:pt x="1816" y="3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4889520"/>
              <a:ext cx="2158920" cy="1054080"/>
            </a:xfrm>
            <a:custGeom>
              <a:avLst/>
              <a:gdLst/>
              <a:ahLst/>
              <a:rect l="l" t="t" r="r" b="b"/>
              <a:pathLst>
                <a:path w="1360" h="664">
                  <a:moveTo>
                    <a:pt x="0" y="0"/>
                  </a:moveTo>
                  <a:cubicBezTo>
                    <a:pt x="200" y="8"/>
                    <a:pt x="688" y="664"/>
                    <a:pt x="928" y="664"/>
                  </a:cubicBezTo>
                  <a:cubicBezTo>
                    <a:pt x="1168" y="664"/>
                    <a:pt x="1276" y="428"/>
                    <a:pt x="1360" y="352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9040" y="4813200"/>
              <a:ext cx="1047960" cy="609840"/>
            </a:xfrm>
            <a:custGeom>
              <a:avLst/>
              <a:gdLst/>
              <a:ahLst/>
              <a:rect l="l" t="t" r="r" b="b"/>
              <a:pathLst>
                <a:path w="660" h="384">
                  <a:moveTo>
                    <a:pt x="0" y="384"/>
                  </a:moveTo>
                  <a:cubicBezTo>
                    <a:pt x="60" y="308"/>
                    <a:pt x="292" y="0"/>
                    <a:pt x="444" y="0"/>
                  </a:cubicBezTo>
                  <a:cubicBezTo>
                    <a:pt x="596" y="0"/>
                    <a:pt x="604" y="72"/>
                    <a:pt x="660" y="116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135400" y="4292640"/>
            <a:ext cx="1209600" cy="635040"/>
            <a:chOff x="5135400" y="4292640"/>
            <a:chExt cx="1209600" cy="635040"/>
          </a:xfrm>
        </p:grpSpPr>
        <p:sp>
          <p:nvSpPr>
            <p:cNvPr id="158" name=""/>
            <p:cNvSpPr/>
            <p:nvPr/>
          </p:nvSpPr>
          <p:spPr>
            <a:xfrm>
              <a:off x="5135400" y="4292640"/>
              <a:ext cx="120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= sin </a:t>
              </a:r>
              <a:r>
                <a:rPr b="0" i="1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346720" y="4635360"/>
              <a:ext cx="241200" cy="292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42A1-6B09-44D6-907E-ECDB324E05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8640" y="7467120"/>
            <a:ext cx="255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ine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0492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Graph of the Cosine Fun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5120" y="888840"/>
            <a:ext cx="84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sketch the graph of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cos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first locate the key points.</a:t>
            </a:r>
            <a:br>
              <a:rPr sz="2400"/>
            </a:b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se are the maximum points, the minimum points, and the intercept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349360" y="1809720"/>
            <a:ext cx="5015160" cy="1095480"/>
            <a:chOff x="2349360" y="1809720"/>
            <a:chExt cx="5015160" cy="1095480"/>
          </a:xfrm>
        </p:grpSpPr>
        <p:sp>
          <p:nvSpPr>
            <p:cNvPr id="164" name=""/>
            <p:cNvSpPr/>
            <p:nvPr/>
          </p:nvSpPr>
          <p:spPr>
            <a:xfrm>
              <a:off x="6576840" y="2387520"/>
              <a:ext cx="738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37400" y="2387520"/>
              <a:ext cx="739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99040" y="2387520"/>
              <a:ext cx="738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61040" y="2387520"/>
              <a:ext cx="738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21240" y="2387520"/>
              <a:ext cx="739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49360" y="2387520"/>
              <a:ext cx="1271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cos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76840" y="1854360"/>
              <a:ext cx="738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37400" y="1854360"/>
              <a:ext cx="739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99040" y="1854360"/>
              <a:ext cx="738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61040" y="1854360"/>
              <a:ext cx="738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21240" y="1854360"/>
              <a:ext cx="739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49360" y="1854360"/>
              <a:ext cx="1271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98680" y="2400480"/>
              <a:ext cx="496584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98680" y="2905200"/>
              <a:ext cx="496584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98680" y="1854360"/>
              <a:ext cx="0" cy="105084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21240" y="1854360"/>
              <a:ext cx="0" cy="10508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61040" y="1854360"/>
              <a:ext cx="0" cy="10508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99040" y="1854360"/>
              <a:ext cx="0" cy="10508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37400" y="1854360"/>
              <a:ext cx="0" cy="10508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76840" y="1854360"/>
              <a:ext cx="0" cy="10508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64520" y="1854360"/>
              <a:ext cx="0" cy="105084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10000" y="1854360"/>
              <a:ext cx="7383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98680" y="1854360"/>
              <a:ext cx="201132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48360" y="1854360"/>
              <a:ext cx="221616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4603680" y="1809720"/>
                  <a:ext cx="24768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039000" y="1835280"/>
                  <a:ext cx="36180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6743880" y="2044800"/>
                  <a:ext cx="342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353200" y="2050920"/>
                  <a:ext cx="20952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685800" y="3149640"/>
            <a:ext cx="74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n, connect the points on the graph with a smooth curve that extends in both directions beyond the five points. A single cycle is called a </a:t>
            </a: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eriod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22320" y="4314960"/>
            <a:ext cx="6878880" cy="1800000"/>
            <a:chOff x="1822320" y="4314960"/>
            <a:chExt cx="6878880" cy="1800000"/>
          </a:xfrm>
        </p:grpSpPr>
        <p:sp>
          <p:nvSpPr>
            <p:cNvPr id="194" name=""/>
            <p:cNvSpPr/>
            <p:nvPr/>
          </p:nvSpPr>
          <p:spPr>
            <a:xfrm>
              <a:off x="4035600" y="431496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1822320" y="4727520"/>
                  <a:ext cx="51444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2652840" y="5097600"/>
                  <a:ext cx="38088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3303720" y="4740120"/>
                  <a:ext cx="41904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7000920" y="5025960"/>
                  <a:ext cx="342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6308640" y="4680000"/>
                  <a:ext cx="36216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5665680" y="5072040"/>
                  <a:ext cx="20952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4923000" y="4718160"/>
                  <a:ext cx="24732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7734240" y="4689360"/>
                  <a:ext cx="36216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3844800" y="5851440"/>
                  <a:ext cx="2635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3978360" y="4762440"/>
                  <a:ext cx="114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"/>
            <p:cNvSpPr/>
            <p:nvPr/>
          </p:nvSpPr>
          <p:spPr>
            <a:xfrm>
              <a:off x="8381880" y="505152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552920" y="5519880"/>
                  <a:ext cx="114480" cy="16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4305240" y="4495680"/>
              <a:ext cx="1800" cy="1619280"/>
            </a:xfrm>
            <a:custGeom>
              <a:avLst/>
              <a:gdLst/>
              <a:ahLst/>
              <a:rect l="l" t="t" r="r" b="b"/>
              <a:pathLst>
                <a:path w="1" h="1908">
                  <a:moveTo>
                    <a:pt x="0" y="1908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00160" y="5435640"/>
              <a:ext cx="6508800" cy="1440"/>
            </a:xfrm>
            <a:custGeom>
              <a:avLst/>
              <a:gdLst/>
              <a:ahLst/>
              <a:rect l="l" t="t" r="r" b="b"/>
              <a:pathLst>
                <a:path w="4100" h="1">
                  <a:moveTo>
                    <a:pt x="0" y="1"/>
                  </a:moveTo>
                  <a:lnTo>
                    <a:pt x="4100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14800" y="4889520"/>
              <a:ext cx="3603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14800" y="5975280"/>
              <a:ext cx="3603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84520" y="53197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70280" y="53197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46320" y="53197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0560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9136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6740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6252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3856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994040" y="4838760"/>
            <a:ext cx="6298920" cy="1155600"/>
            <a:chOff x="1994040" y="4838760"/>
            <a:chExt cx="6298920" cy="1155600"/>
          </a:xfrm>
        </p:grpSpPr>
        <p:sp>
          <p:nvSpPr>
            <p:cNvPr id="220" name=""/>
            <p:cNvSpPr/>
            <p:nvPr/>
          </p:nvSpPr>
          <p:spPr>
            <a:xfrm>
              <a:off x="4280040" y="4876920"/>
              <a:ext cx="2201760" cy="1104840"/>
            </a:xfrm>
            <a:custGeom>
              <a:avLst/>
              <a:gdLst/>
              <a:ahLst/>
              <a:rect l="l" t="t" r="r" b="b"/>
              <a:pathLst>
                <a:path w="1387" h="696">
                  <a:moveTo>
                    <a:pt x="0" y="0"/>
                  </a:moveTo>
                  <a:cubicBezTo>
                    <a:pt x="214" y="3"/>
                    <a:pt x="751" y="696"/>
                    <a:pt x="968" y="688"/>
                  </a:cubicBezTo>
                  <a:cubicBezTo>
                    <a:pt x="1185" y="680"/>
                    <a:pt x="1303" y="413"/>
                    <a:pt x="1387" y="32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94040" y="4876920"/>
              <a:ext cx="2306520" cy="1117440"/>
            </a:xfrm>
            <a:custGeom>
              <a:avLst/>
              <a:gdLst/>
              <a:ahLst/>
              <a:rect l="l" t="t" r="r" b="b"/>
              <a:pathLst>
                <a:path w="1453" h="704">
                  <a:moveTo>
                    <a:pt x="0" y="240"/>
                  </a:moveTo>
                  <a:cubicBezTo>
                    <a:pt x="104" y="352"/>
                    <a:pt x="336" y="704"/>
                    <a:pt x="560" y="704"/>
                  </a:cubicBezTo>
                  <a:cubicBezTo>
                    <a:pt x="784" y="704"/>
                    <a:pt x="1213" y="0"/>
                    <a:pt x="1453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67400" y="4838760"/>
              <a:ext cx="1825560" cy="990720"/>
            </a:xfrm>
            <a:custGeom>
              <a:avLst/>
              <a:gdLst/>
              <a:ahLst/>
              <a:rect l="l" t="t" r="r" b="b"/>
              <a:pathLst>
                <a:path w="1150" h="624">
                  <a:moveTo>
                    <a:pt x="0" y="357"/>
                  </a:moveTo>
                  <a:cubicBezTo>
                    <a:pt x="60" y="281"/>
                    <a:pt x="278" y="0"/>
                    <a:pt x="438" y="8"/>
                  </a:cubicBezTo>
                  <a:cubicBezTo>
                    <a:pt x="598" y="16"/>
                    <a:pt x="1094" y="580"/>
                    <a:pt x="1150" y="624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110200" y="4292640"/>
            <a:ext cx="1260000" cy="635040"/>
            <a:chOff x="5110200" y="4292640"/>
            <a:chExt cx="1260000" cy="635040"/>
          </a:xfrm>
        </p:grpSpPr>
        <p:sp>
          <p:nvSpPr>
            <p:cNvPr id="224" name=""/>
            <p:cNvSpPr/>
            <p:nvPr/>
          </p:nvSpPr>
          <p:spPr>
            <a:xfrm>
              <a:off x="5110200" y="4292640"/>
              <a:ext cx="12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= cos </a:t>
              </a:r>
              <a:r>
                <a:rPr b="0" i="1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346720" y="4635360"/>
              <a:ext cx="241200" cy="292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24C0-35D8-47CE-B90A-F00C6D2B01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831960" y="3095640"/>
            <a:ext cx="7972200" cy="3073320"/>
            <a:chOff x="831960" y="3095640"/>
            <a:chExt cx="7972200" cy="3073320"/>
          </a:xfrm>
        </p:grpSpPr>
        <p:sp>
          <p:nvSpPr>
            <p:cNvPr id="227" name=""/>
            <p:cNvSpPr/>
            <p:nvPr/>
          </p:nvSpPr>
          <p:spPr>
            <a:xfrm>
              <a:off x="2200320" y="309564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924200" y="3289320"/>
              <a:ext cx="759960" cy="2879640"/>
              <a:chOff x="1924200" y="3289320"/>
              <a:chExt cx="759960" cy="2879640"/>
            </a:xfrm>
          </p:grpSpPr>
          <p:sp>
            <p:nvSpPr>
              <p:cNvPr id="229" name=""/>
              <p:cNvSpPr/>
              <p:nvPr/>
            </p:nvSpPr>
            <p:spPr>
              <a:xfrm>
                <a:off x="2324160" y="3619440"/>
                <a:ext cx="36000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24160" y="3968640"/>
                <a:ext cx="36000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324160" y="4332240"/>
                <a:ext cx="36000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89040" y="3289320"/>
                <a:ext cx="1440" cy="2879640"/>
              </a:xfrm>
              <a:custGeom>
                <a:avLst/>
                <a:gdLst/>
                <a:ahLst/>
                <a:rect l="l" t="t" r="r" b="b"/>
                <a:pathLst>
                  <a:path w="1" h="1908">
                    <a:moveTo>
                      <a:pt x="0" y="1908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b2b2b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24160" y="5029200"/>
                <a:ext cx="36000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4160" y="5371920"/>
                <a:ext cx="36000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24160" y="5740560"/>
                <a:ext cx="36000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6" name=""/>
                  <p:cNvSpPr txBox="1"/>
                  <p:nvPr/>
                </p:nvSpPr>
                <p:spPr>
                  <a:xfrm>
                    <a:off x="2171520" y="4152960"/>
                    <a:ext cx="168120" cy="31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7" name=""/>
                  <p:cNvSpPr txBox="1"/>
                  <p:nvPr/>
                </p:nvSpPr>
                <p:spPr>
                  <a:xfrm>
                    <a:off x="1968480" y="4851360"/>
                    <a:ext cx="385560" cy="312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8" name=""/>
                  <p:cNvSpPr txBox="1"/>
                  <p:nvPr/>
                </p:nvSpPr>
                <p:spPr>
                  <a:xfrm>
                    <a:off x="1930320" y="5168880"/>
                    <a:ext cx="434520" cy="312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1924200" y="5568840"/>
                    <a:ext cx="434880" cy="33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2146320" y="3778200"/>
                    <a:ext cx="240840" cy="312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41" name=""/>
            <p:cNvSpPr/>
            <p:nvPr/>
          </p:nvSpPr>
          <p:spPr>
            <a:xfrm>
              <a:off x="8485200" y="423396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28880" y="4667400"/>
              <a:ext cx="7696080" cy="144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754440" y="4249800"/>
                  <a:ext cx="264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6576840" y="4197240"/>
                  <a:ext cx="40968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5168880" y="4197240"/>
                  <a:ext cx="43488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831960" y="4278240"/>
                  <a:ext cx="4824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7981920" y="4179960"/>
                  <a:ext cx="43488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8169120" y="4492800"/>
              <a:ext cx="0" cy="3603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56480" y="4497480"/>
              <a:ext cx="0" cy="3603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56080" y="4497480"/>
              <a:ext cx="0" cy="3603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60640" y="4497480"/>
              <a:ext cx="0" cy="3603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55600" y="4497480"/>
              <a:ext cx="0" cy="3603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104840" y="3600360"/>
            <a:ext cx="7128000" cy="2163600"/>
            <a:chOff x="1104840" y="3600360"/>
            <a:chExt cx="7128000" cy="2163600"/>
          </a:xfrm>
        </p:grpSpPr>
        <p:sp>
          <p:nvSpPr>
            <p:cNvPr id="254" name=""/>
            <p:cNvSpPr/>
            <p:nvPr/>
          </p:nvSpPr>
          <p:spPr>
            <a:xfrm>
              <a:off x="5337000" y="3609720"/>
              <a:ext cx="2895840" cy="2154240"/>
            </a:xfrm>
            <a:custGeom>
              <a:avLst/>
              <a:gdLst/>
              <a:ahLst/>
              <a:rect l="l" t="t" r="r" b="b"/>
              <a:pathLst>
                <a:path w="1824" h="1369">
                  <a:moveTo>
                    <a:pt x="0" y="8"/>
                  </a:moveTo>
                  <a:cubicBezTo>
                    <a:pt x="370" y="6"/>
                    <a:pt x="624" y="1367"/>
                    <a:pt x="928" y="1368"/>
                  </a:cubicBezTo>
                  <a:cubicBezTo>
                    <a:pt x="1232" y="1369"/>
                    <a:pt x="1496" y="0"/>
                    <a:pt x="1824" y="16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89040" y="3600360"/>
              <a:ext cx="2895840" cy="2154240"/>
            </a:xfrm>
            <a:custGeom>
              <a:avLst/>
              <a:gdLst/>
              <a:ahLst/>
              <a:rect l="l" t="t" r="r" b="b"/>
              <a:pathLst>
                <a:path w="1824" h="1369">
                  <a:moveTo>
                    <a:pt x="0" y="8"/>
                  </a:moveTo>
                  <a:cubicBezTo>
                    <a:pt x="368" y="24"/>
                    <a:pt x="624" y="1367"/>
                    <a:pt x="928" y="1368"/>
                  </a:cubicBezTo>
                  <a:cubicBezTo>
                    <a:pt x="1232" y="1369"/>
                    <a:pt x="1496" y="0"/>
                    <a:pt x="1824" y="1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04840" y="3614400"/>
              <a:ext cx="1357200" cy="2125800"/>
            </a:xfrm>
            <a:custGeom>
              <a:avLst/>
              <a:gdLst/>
              <a:ahLst/>
              <a:rect l="l" t="t" r="r" b="b"/>
              <a:pathLst>
                <a:path w="855" h="1351">
                  <a:moveTo>
                    <a:pt x="0" y="1351"/>
                  </a:moveTo>
                  <a:cubicBezTo>
                    <a:pt x="296" y="1351"/>
                    <a:pt x="582" y="6"/>
                    <a:pt x="855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1181160" y="777204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xample: </a:t>
            </a:r>
            <a:r>
              <a:rPr b="0" i="1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3 cos </a:t>
            </a:r>
            <a:r>
              <a:rPr b="0" i="1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3780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xample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 Sketch the graph of 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3 cos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on the interval [–</a:t>
            </a:r>
            <a:r>
              <a:rPr b="0" lang="en-CA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4</a:t>
            </a:r>
            <a:r>
              <a:rPr b="0" lang="en-CA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]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920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artition the interval [0, 2</a:t>
            </a:r>
            <a:r>
              <a:rPr b="0" lang="en-CA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] into four equal parts. Find the five key points; graph one cycle; then repeat the cycle over the interval.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454040" y="1857240"/>
            <a:ext cx="6195600" cy="1495080"/>
            <a:chOff x="1454040" y="1857240"/>
            <a:chExt cx="6195600" cy="1495080"/>
          </a:xfrm>
        </p:grpSpPr>
        <p:sp>
          <p:nvSpPr>
            <p:cNvPr id="261" name=""/>
            <p:cNvSpPr/>
            <p:nvPr/>
          </p:nvSpPr>
          <p:spPr>
            <a:xfrm>
              <a:off x="6548760" y="2833560"/>
              <a:ext cx="108900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41560" y="2833560"/>
              <a:ext cx="102852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-int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73520" y="2833560"/>
              <a:ext cx="120960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92320" y="2833560"/>
              <a:ext cx="111708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-int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26880" y="2833560"/>
              <a:ext cx="108000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54040" y="3008880"/>
              <a:ext cx="1855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48760" y="2348280"/>
              <a:ext cx="10890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1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41560" y="2348280"/>
              <a:ext cx="102852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1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73520" y="2348280"/>
              <a:ext cx="12096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1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92320" y="2348280"/>
              <a:ext cx="1117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1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26880" y="2348280"/>
              <a:ext cx="10800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1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54040" y="2371680"/>
              <a:ext cx="1855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= 3 cos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8760" y="1963440"/>
              <a:ext cx="10890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2</a:t>
              </a:r>
              <a:r>
                <a:rPr b="0" lang="en-CA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73520" y="1963440"/>
              <a:ext cx="12096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40280" y="1865520"/>
              <a:ext cx="1117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26880" y="1963440"/>
              <a:ext cx="10800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54040" y="1963440"/>
              <a:ext cx="18550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4040" y="2384640"/>
              <a:ext cx="61722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54040" y="2811600"/>
              <a:ext cx="61722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54040" y="3246120"/>
              <a:ext cx="617220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54040" y="1865520"/>
              <a:ext cx="0" cy="138744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61160" y="1865520"/>
              <a:ext cx="0" cy="13874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86280" y="1865520"/>
              <a:ext cx="0" cy="13874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75120" y="1865520"/>
              <a:ext cx="0" cy="13874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41560" y="1865520"/>
              <a:ext cx="0" cy="13874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70080" y="1865520"/>
              <a:ext cx="0" cy="13874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38120" y="1865520"/>
              <a:ext cx="0" cy="138744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4040" y="1865520"/>
              <a:ext cx="111708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54040" y="1865520"/>
              <a:ext cx="293580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54520" y="1865520"/>
              <a:ext cx="289512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4310640" y="1857240"/>
                  <a:ext cx="261720" cy="54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5984640" y="1860120"/>
                  <a:ext cx="382680" cy="54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3" name=""/>
          <p:cNvGrpSpPr/>
          <p:nvPr/>
        </p:nvGrpSpPr>
        <p:grpSpPr>
          <a:xfrm>
            <a:off x="1508040" y="3354480"/>
            <a:ext cx="1060560" cy="459720"/>
            <a:chOff x="1508040" y="3354480"/>
            <a:chExt cx="1060560" cy="459720"/>
          </a:xfrm>
        </p:grpSpPr>
        <p:sp>
          <p:nvSpPr>
            <p:cNvPr id="294" name=""/>
            <p:cNvSpPr/>
            <p:nvPr/>
          </p:nvSpPr>
          <p:spPr>
            <a:xfrm>
              <a:off x="1508040" y="3354480"/>
              <a:ext cx="106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0, 3)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44760" y="3575160"/>
              <a:ext cx="90360" cy="9036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506840" y="4622760"/>
            <a:ext cx="1327320" cy="784080"/>
            <a:chOff x="4506840" y="4622760"/>
            <a:chExt cx="1327320" cy="784080"/>
          </a:xfrm>
        </p:grpSpPr>
        <p:grpSp>
          <p:nvGrpSpPr>
            <p:cNvPr id="297" name=""/>
            <p:cNvGrpSpPr/>
            <p:nvPr/>
          </p:nvGrpSpPr>
          <p:grpSpPr>
            <a:xfrm>
              <a:off x="4506840" y="4659120"/>
              <a:ext cx="1327320" cy="747720"/>
              <a:chOff x="4506840" y="4659120"/>
              <a:chExt cx="1327320" cy="747720"/>
            </a:xfrm>
          </p:grpSpPr>
          <mc:AlternateContent>
            <mc:Choice xmlns:a14="http://schemas.microsoft.com/office/drawing/2010/main" Requires="a14">
              <p:sp>
                <p:nvSpPr>
                  <p:cNvPr id="298" name=""/>
                  <p:cNvSpPr txBox="1"/>
                  <p:nvPr/>
                </p:nvSpPr>
                <p:spPr>
                  <a:xfrm>
                    <a:off x="4659480" y="4659120"/>
                    <a:ext cx="458640" cy="74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9" name=""/>
              <p:cNvSpPr/>
              <p:nvPr/>
            </p:nvSpPr>
            <p:spPr>
              <a:xfrm>
                <a:off x="4506840" y="4728960"/>
                <a:ext cx="132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(     , 0)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4618080" y="4622760"/>
              <a:ext cx="90360" cy="9036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536920" y="4622760"/>
            <a:ext cx="1326960" cy="1020600"/>
            <a:chOff x="2536920" y="4622760"/>
            <a:chExt cx="1326960" cy="1020600"/>
          </a:xfrm>
        </p:grpSpPr>
        <p:grpSp>
          <p:nvGrpSpPr>
            <p:cNvPr id="302" name=""/>
            <p:cNvGrpSpPr/>
            <p:nvPr/>
          </p:nvGrpSpPr>
          <p:grpSpPr>
            <a:xfrm>
              <a:off x="2536920" y="4895640"/>
              <a:ext cx="1326960" cy="747720"/>
              <a:chOff x="2536920" y="4895640"/>
              <a:chExt cx="1326960" cy="747720"/>
            </a:xfrm>
          </p:grpSpPr>
          <p:sp>
            <p:nvSpPr>
              <p:cNvPr id="303" name=""/>
              <p:cNvSpPr/>
              <p:nvPr/>
            </p:nvSpPr>
            <p:spPr>
              <a:xfrm>
                <a:off x="2536920" y="4952880"/>
                <a:ext cx="1326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(    , 0)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4" name=""/>
                  <p:cNvSpPr txBox="1"/>
                  <p:nvPr/>
                </p:nvSpPr>
                <p:spPr>
                  <a:xfrm>
                    <a:off x="2725560" y="4895640"/>
                    <a:ext cx="312480" cy="74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05" name=""/>
            <p:cNvSpPr/>
            <p:nvPr/>
          </p:nvSpPr>
          <p:spPr>
            <a:xfrm>
              <a:off x="3201840" y="4622760"/>
              <a:ext cx="90720" cy="9036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315040" y="3305160"/>
            <a:ext cx="1153800" cy="459720"/>
            <a:chOff x="5315040" y="3305160"/>
            <a:chExt cx="1153800" cy="459720"/>
          </a:xfrm>
        </p:grpSpPr>
        <p:grpSp>
          <p:nvGrpSpPr>
            <p:cNvPr id="307" name=""/>
            <p:cNvGrpSpPr/>
            <p:nvPr/>
          </p:nvGrpSpPr>
          <p:grpSpPr>
            <a:xfrm>
              <a:off x="5446800" y="3305160"/>
              <a:ext cx="1022040" cy="459720"/>
              <a:chOff x="5446800" y="3305160"/>
              <a:chExt cx="1022040" cy="459720"/>
            </a:xfrm>
          </p:grpSpPr>
          <mc:AlternateContent>
            <mc:Choice xmlns:a14="http://schemas.microsoft.com/office/drawing/2010/main" Requires="a14">
              <p:sp>
                <p:nvSpPr>
                  <p:cNvPr id="308" name=""/>
                  <p:cNvSpPr txBox="1"/>
                  <p:nvPr/>
                </p:nvSpPr>
                <p:spPr>
                  <a:xfrm>
                    <a:off x="5592600" y="3365640"/>
                    <a:ext cx="435240" cy="33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9" name=""/>
              <p:cNvSpPr/>
              <p:nvPr/>
            </p:nvSpPr>
            <p:spPr>
              <a:xfrm>
                <a:off x="5446800" y="3305160"/>
                <a:ext cx="102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(    , 3)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315040" y="3583080"/>
              <a:ext cx="90360" cy="9036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414600" y="5621400"/>
            <a:ext cx="1327320" cy="459720"/>
            <a:chOff x="3414600" y="5621400"/>
            <a:chExt cx="1327320" cy="459720"/>
          </a:xfrm>
        </p:grpSpPr>
        <p:grpSp>
          <p:nvGrpSpPr>
            <p:cNvPr id="312" name=""/>
            <p:cNvGrpSpPr/>
            <p:nvPr/>
          </p:nvGrpSpPr>
          <p:grpSpPr>
            <a:xfrm>
              <a:off x="3414600" y="5621400"/>
              <a:ext cx="1327320" cy="459720"/>
              <a:chOff x="3414600" y="5621400"/>
              <a:chExt cx="1327320" cy="459720"/>
            </a:xfrm>
          </p:grpSpPr>
          <mc:AlternateContent>
            <mc:Choice xmlns:a14="http://schemas.microsoft.com/office/drawing/2010/main" Requires="a14">
              <p:sp>
                <p:nvSpPr>
                  <p:cNvPr id="313" name=""/>
                  <p:cNvSpPr txBox="1"/>
                  <p:nvPr/>
                </p:nvSpPr>
                <p:spPr>
                  <a:xfrm>
                    <a:off x="3654360" y="5740560"/>
                    <a:ext cx="26532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4" name=""/>
              <p:cNvSpPr/>
              <p:nvPr/>
            </p:nvSpPr>
            <p:spPr>
              <a:xfrm>
                <a:off x="3414600" y="5621400"/>
                <a:ext cx="132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(   , –3)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892680" y="5688000"/>
              <a:ext cx="90360" cy="9036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06D0-D888-481B-9BD8-B61795416A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923760" y="7562520"/>
            <a:ext cx="184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tu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304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</a:t>
            </a: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tude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of 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</a:t>
            </a:r>
            <a:r>
              <a:rPr b="0" i="1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sin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or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</a:t>
            </a:r>
            <a:r>
              <a:rPr b="0" i="1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cos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) is half the distance between the maximum and minimum values of the function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65640" y="103176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tude =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38200" y="1438200"/>
            <a:ext cx="69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f |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| &gt; 1, the amplitude stretches the graph vertically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689280" y="4719600"/>
                <a:ext cx="11448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1428120" y="179856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f 0 &lt; |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| &gt; 1, the amplitude shrinks the graph vertically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92120" y="2158920"/>
            <a:ext cx="55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f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lt; 0, the graph is reflected in the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axi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84400" y="2486160"/>
            <a:ext cx="4700520" cy="3843360"/>
            <a:chOff x="2984400" y="2486160"/>
            <a:chExt cx="4700520" cy="3843360"/>
          </a:xfrm>
        </p:grpSpPr>
        <p:sp>
          <p:nvSpPr>
            <p:cNvPr id="324" name=""/>
            <p:cNvSpPr/>
            <p:nvPr/>
          </p:nvSpPr>
          <p:spPr>
            <a:xfrm>
              <a:off x="3949560" y="2730600"/>
              <a:ext cx="1440" cy="3598920"/>
            </a:xfrm>
            <a:custGeom>
              <a:avLst/>
              <a:gdLst/>
              <a:ahLst/>
              <a:rect l="l" t="t" r="r" b="b"/>
              <a:pathLst>
                <a:path w="1" h="1908">
                  <a:moveTo>
                    <a:pt x="0" y="1908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2984400" y="2486160"/>
              <a:ext cx="4700520" cy="3716280"/>
              <a:chOff x="2984400" y="2486160"/>
              <a:chExt cx="4700520" cy="3716280"/>
            </a:xfrm>
          </p:grpSpPr>
          <mc:AlternateContent>
            <mc:Choice xmlns:a14="http://schemas.microsoft.com/office/drawing/2010/main" Requires="a14">
              <p:sp>
                <p:nvSpPr>
                  <p:cNvPr id="326" name=""/>
                  <p:cNvSpPr txBox="1"/>
                  <p:nvPr/>
                </p:nvSpPr>
                <p:spPr>
                  <a:xfrm>
                    <a:off x="5920920" y="3790800"/>
                    <a:ext cx="459000" cy="74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7" name=""/>
                  <p:cNvSpPr txBox="1"/>
                  <p:nvPr/>
                </p:nvSpPr>
                <p:spPr>
                  <a:xfrm>
                    <a:off x="4512960" y="3755880"/>
                    <a:ext cx="312840" cy="74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8" name=""/>
                  <p:cNvSpPr txBox="1"/>
                  <p:nvPr/>
                </p:nvSpPr>
                <p:spPr>
                  <a:xfrm>
                    <a:off x="3554280" y="3067200"/>
                    <a:ext cx="16344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9" name=""/>
              <p:cNvSpPr/>
              <p:nvPr/>
            </p:nvSpPr>
            <p:spPr>
              <a:xfrm>
                <a:off x="3776400" y="428004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789000" y="391176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776400" y="355608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776400" y="321300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76400" y="608328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76400" y="571500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76400" y="537228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76400" y="497844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47880" y="248616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65600" y="423864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84400" y="4648320"/>
                <a:ext cx="4520880" cy="1440"/>
              </a:xfrm>
              <a:custGeom>
                <a:avLst/>
                <a:gdLst/>
                <a:ahLst/>
                <a:rect l="l" t="t" r="r" b="b"/>
                <a:pathLst>
                  <a:path w="2848" h="1">
                    <a:moveTo>
                      <a:pt x="0" y="0"/>
                    </a:moveTo>
                    <a:lnTo>
                      <a:pt x="2848" y="0"/>
                    </a:lnTo>
                  </a:path>
                </a:pathLst>
              </a:custGeom>
              <a:noFill/>
              <a:ln w="38160">
                <a:solidFill>
                  <a:srgbClr val="b2b2b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11720" y="453852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682880" y="451944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2" name=""/>
                  <p:cNvSpPr txBox="1"/>
                  <p:nvPr/>
                </p:nvSpPr>
                <p:spPr>
                  <a:xfrm>
                    <a:off x="3489120" y="5987880"/>
                    <a:ext cx="293760" cy="21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4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3" name=""/>
              <p:cNvSpPr/>
              <p:nvPr/>
            </p:nvSpPr>
            <p:spPr>
              <a:xfrm>
                <a:off x="6771960" y="4535640"/>
                <a:ext cx="0" cy="2696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4" name=""/>
                  <p:cNvSpPr txBox="1"/>
                  <p:nvPr/>
                </p:nvSpPr>
                <p:spPr>
                  <a:xfrm>
                    <a:off x="6580080" y="4176720"/>
                    <a:ext cx="434880" cy="33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5" name=""/>
              <p:cNvSpPr/>
              <p:nvPr/>
            </p:nvSpPr>
            <p:spPr>
              <a:xfrm>
                <a:off x="5368680" y="451944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" name=""/>
                  <p:cNvSpPr txBox="1"/>
                  <p:nvPr/>
                </p:nvSpPr>
                <p:spPr>
                  <a:xfrm>
                    <a:off x="5216400" y="4249800"/>
                    <a:ext cx="26496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47" name=""/>
          <p:cNvSpPr/>
          <p:nvPr/>
        </p:nvSpPr>
        <p:spPr>
          <a:xfrm>
            <a:off x="3965400" y="3191040"/>
            <a:ext cx="2819520" cy="2952720"/>
          </a:xfrm>
          <a:custGeom>
            <a:avLst/>
            <a:gdLst/>
            <a:ahLst/>
            <a:rect l="l" t="t" r="r" b="b"/>
            <a:pathLst>
              <a:path w="1776" h="1860">
                <a:moveTo>
                  <a:pt x="0" y="912"/>
                </a:moveTo>
                <a:cubicBezTo>
                  <a:pt x="81" y="1069"/>
                  <a:pt x="288" y="1860"/>
                  <a:pt x="486" y="1854"/>
                </a:cubicBezTo>
                <a:cubicBezTo>
                  <a:pt x="684" y="1848"/>
                  <a:pt x="1032" y="24"/>
                  <a:pt x="1290" y="12"/>
                </a:cubicBezTo>
                <a:cubicBezTo>
                  <a:pt x="1548" y="0"/>
                  <a:pt x="1675" y="729"/>
                  <a:pt x="1776" y="918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36960" y="2987640"/>
            <a:ext cx="2847960" cy="3300480"/>
          </a:xfrm>
          <a:custGeom>
            <a:avLst/>
            <a:gdLst/>
            <a:ahLst/>
            <a:rect l="l" t="t" r="r" b="b"/>
            <a:pathLst>
              <a:path w="1794" h="2079">
                <a:moveTo>
                  <a:pt x="0" y="1052"/>
                </a:moveTo>
                <a:cubicBezTo>
                  <a:pt x="80" y="901"/>
                  <a:pt x="256" y="0"/>
                  <a:pt x="480" y="146"/>
                </a:cubicBezTo>
                <a:cubicBezTo>
                  <a:pt x="704" y="292"/>
                  <a:pt x="1125" y="1777"/>
                  <a:pt x="1344" y="1928"/>
                </a:cubicBezTo>
                <a:cubicBezTo>
                  <a:pt x="1563" y="2079"/>
                  <a:pt x="1700" y="1234"/>
                  <a:pt x="1794" y="1052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46680" y="3857760"/>
            <a:ext cx="2847960" cy="1504800"/>
          </a:xfrm>
          <a:custGeom>
            <a:avLst/>
            <a:gdLst/>
            <a:ahLst/>
            <a:rect l="l" t="t" r="r" b="b"/>
            <a:pathLst>
              <a:path w="1794" h="948">
                <a:moveTo>
                  <a:pt x="0" y="477"/>
                </a:moveTo>
                <a:cubicBezTo>
                  <a:pt x="80" y="398"/>
                  <a:pt x="210" y="0"/>
                  <a:pt x="480" y="2"/>
                </a:cubicBezTo>
                <a:cubicBezTo>
                  <a:pt x="750" y="4"/>
                  <a:pt x="1116" y="924"/>
                  <a:pt x="1344" y="936"/>
                </a:cubicBezTo>
                <a:cubicBezTo>
                  <a:pt x="1572" y="948"/>
                  <a:pt x="1700" y="572"/>
                  <a:pt x="1794" y="4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75120" y="4229280"/>
            <a:ext cx="2847960" cy="793440"/>
          </a:xfrm>
          <a:custGeom>
            <a:avLst/>
            <a:gdLst/>
            <a:ahLst/>
            <a:rect l="l" t="t" r="r" b="b"/>
            <a:pathLst>
              <a:path w="1794" h="500">
                <a:moveTo>
                  <a:pt x="0" y="255"/>
                </a:moveTo>
                <a:cubicBezTo>
                  <a:pt x="80" y="213"/>
                  <a:pt x="234" y="6"/>
                  <a:pt x="480" y="3"/>
                </a:cubicBezTo>
                <a:cubicBezTo>
                  <a:pt x="726" y="0"/>
                  <a:pt x="1110" y="498"/>
                  <a:pt x="1344" y="499"/>
                </a:cubicBezTo>
                <a:cubicBezTo>
                  <a:pt x="1578" y="500"/>
                  <a:pt x="1700" y="306"/>
                  <a:pt x="1794" y="255"/>
                </a:cubicBezTo>
              </a:path>
            </a:pathLst>
          </a:custGeom>
          <a:noFill/>
          <a:ln w="38160">
            <a:solidFill>
              <a:srgbClr val="00808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65400" y="4400640"/>
            <a:ext cx="2848320" cy="498240"/>
          </a:xfrm>
          <a:custGeom>
            <a:avLst/>
            <a:gdLst/>
            <a:ahLst/>
            <a:rect l="l" t="t" r="r" b="b"/>
            <a:pathLst>
              <a:path w="1794" h="500">
                <a:moveTo>
                  <a:pt x="0" y="255"/>
                </a:moveTo>
                <a:cubicBezTo>
                  <a:pt x="80" y="213"/>
                  <a:pt x="234" y="6"/>
                  <a:pt x="480" y="3"/>
                </a:cubicBezTo>
                <a:cubicBezTo>
                  <a:pt x="726" y="0"/>
                  <a:pt x="1110" y="498"/>
                  <a:pt x="1344" y="499"/>
                </a:cubicBezTo>
                <a:cubicBezTo>
                  <a:pt x="1578" y="500"/>
                  <a:pt x="1700" y="306"/>
                  <a:pt x="1794" y="255"/>
                </a:cubicBezTo>
              </a:path>
            </a:pathLst>
          </a:custGeom>
          <a:noFill/>
          <a:ln w="38160">
            <a:solidFill>
              <a:srgbClr val="b2b2b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85360" y="5168880"/>
            <a:ext cx="3580200" cy="821520"/>
            <a:chOff x="585360" y="5168880"/>
            <a:chExt cx="3580200" cy="821520"/>
          </a:xfrm>
        </p:grpSpPr>
        <p:sp>
          <p:nvSpPr>
            <p:cNvPr id="353" name=""/>
            <p:cNvSpPr/>
            <p:nvPr/>
          </p:nvSpPr>
          <p:spPr>
            <a:xfrm>
              <a:off x="2036880" y="516888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 = –</a:t>
              </a:r>
              <a:r>
                <a:rPr b="0" lang="en-CA" sz="10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CA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4 sin </a:t>
              </a:r>
              <a:r>
                <a:rPr b="0" i="1" lang="en-CA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5360" y="5530680"/>
              <a:ext cx="301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reflection of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CA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 = 4 sin </a:t>
              </a:r>
              <a:r>
                <a:rPr b="0" i="1" lang="en-CA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260880" y="5514480"/>
              <a:ext cx="904680" cy="133560"/>
            </a:xfrm>
            <a:prstGeom prst="line">
              <a:avLst/>
            </a:prstGeom>
            <a:ln w="1260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488280" y="5477040"/>
            <a:ext cx="1438200" cy="526320"/>
            <a:chOff x="6488280" y="5477040"/>
            <a:chExt cx="1438200" cy="526320"/>
          </a:xfrm>
        </p:grpSpPr>
        <p:sp>
          <p:nvSpPr>
            <p:cNvPr id="357" name=""/>
            <p:cNvSpPr/>
            <p:nvPr/>
          </p:nvSpPr>
          <p:spPr>
            <a:xfrm>
              <a:off x="6488280" y="5543640"/>
              <a:ext cx="14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= 4</a:t>
              </a:r>
              <a:r>
                <a:rPr b="0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sin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6594480" y="5477040"/>
              <a:ext cx="628560" cy="171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395440" y="3562200"/>
            <a:ext cx="1474920" cy="838440"/>
            <a:chOff x="2395440" y="3562200"/>
            <a:chExt cx="1474920" cy="838440"/>
          </a:xfrm>
        </p:grpSpPr>
        <p:sp>
          <p:nvSpPr>
            <p:cNvPr id="360" name=""/>
            <p:cNvSpPr/>
            <p:nvPr/>
          </p:nvSpPr>
          <p:spPr>
            <a:xfrm>
              <a:off x="2395440" y="3562200"/>
              <a:ext cx="13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= 2sin </a:t>
              </a:r>
              <a:r>
                <a:rPr b="0" i="1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36880" y="3933720"/>
              <a:ext cx="933480" cy="466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135160" y="4505040"/>
            <a:ext cx="2440080" cy="729000"/>
            <a:chOff x="2135160" y="4505040"/>
            <a:chExt cx="2440080" cy="729000"/>
          </a:xfrm>
        </p:grpSpPr>
        <p:grpSp>
          <p:nvGrpSpPr>
            <p:cNvPr id="363" name=""/>
            <p:cNvGrpSpPr/>
            <p:nvPr/>
          </p:nvGrpSpPr>
          <p:grpSpPr>
            <a:xfrm>
              <a:off x="2135160" y="4638600"/>
              <a:ext cx="1514520" cy="595440"/>
              <a:chOff x="2135160" y="4638600"/>
              <a:chExt cx="1514520" cy="595440"/>
            </a:xfrm>
          </p:grpSpPr>
          <mc:AlternateContent>
            <mc:Choice xmlns:a14="http://schemas.microsoft.com/office/drawing/2010/main" Requires="a14">
              <p:sp>
                <p:nvSpPr>
                  <p:cNvPr id="364" name=""/>
                  <p:cNvSpPr txBox="1"/>
                  <p:nvPr/>
                </p:nvSpPr>
                <p:spPr>
                  <a:xfrm>
                    <a:off x="2701800" y="4638600"/>
                    <a:ext cx="230040" cy="595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5" name=""/>
              <p:cNvSpPr/>
              <p:nvPr/>
            </p:nvSpPr>
            <p:spPr>
              <a:xfrm>
                <a:off x="2135160" y="4695840"/>
                <a:ext cx="151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>
                    <a:solidFill>
                      <a:srgbClr val="b2b2b2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CA" sz="2400" spc="-1" strike="noStrike">
                    <a:solidFill>
                      <a:srgbClr val="b2b2b2"/>
                    </a:solidFill>
                    <a:latin typeface="Times New Roman"/>
                    <a:ea typeface="Times New Roman"/>
                  </a:rPr>
                  <a:t> =     sin </a:t>
                </a:r>
                <a:r>
                  <a:rPr b="0" i="1" lang="en-CA" sz="2400" spc="-1" strike="noStrike">
                    <a:solidFill>
                      <a:srgbClr val="b2b2b2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flipV="1">
              <a:off x="3575160" y="4505040"/>
              <a:ext cx="1000080" cy="47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270120" y="5057280"/>
            <a:ext cx="1913040" cy="488880"/>
            <a:chOff x="6270120" y="5057280"/>
            <a:chExt cx="1913040" cy="488880"/>
          </a:xfrm>
        </p:grpSpPr>
        <p:sp>
          <p:nvSpPr>
            <p:cNvPr id="368" name=""/>
            <p:cNvSpPr/>
            <p:nvPr/>
          </p:nvSpPr>
          <p:spPr>
            <a:xfrm>
              <a:off x="6897240" y="508644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 =  sin </a:t>
              </a:r>
              <a:r>
                <a:rPr b="0" i="1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6270120" y="5057280"/>
              <a:ext cx="981000" cy="171720"/>
            </a:xfrm>
            <a:prstGeom prst="line">
              <a:avLst/>
            </a:prstGeom>
            <a:ln w="936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00B51-B732-41F0-A181-52D2410CF2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2006640" y="2397240"/>
            <a:ext cx="5919840" cy="2031840"/>
            <a:chOff x="2006640" y="2397240"/>
            <a:chExt cx="5919840" cy="2031840"/>
          </a:xfrm>
        </p:grpSpPr>
        <p:grpSp>
          <p:nvGrpSpPr>
            <p:cNvPr id="371" name=""/>
            <p:cNvGrpSpPr/>
            <p:nvPr/>
          </p:nvGrpSpPr>
          <p:grpSpPr>
            <a:xfrm>
              <a:off x="3660840" y="2397240"/>
              <a:ext cx="318960" cy="2031840"/>
              <a:chOff x="3660840" y="2397240"/>
              <a:chExt cx="318960" cy="2031840"/>
            </a:xfrm>
          </p:grpSpPr>
          <p:sp>
            <p:nvSpPr>
              <p:cNvPr id="372" name=""/>
              <p:cNvSpPr/>
              <p:nvPr/>
            </p:nvSpPr>
            <p:spPr>
              <a:xfrm>
                <a:off x="3660840" y="239724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936960" y="2629080"/>
                <a:ext cx="1800" cy="1800000"/>
              </a:xfrm>
              <a:custGeom>
                <a:avLst/>
                <a:gdLst/>
                <a:ahLst/>
                <a:rect l="l" t="t" r="r" b="b"/>
                <a:pathLst>
                  <a:path w="1" h="1908">
                    <a:moveTo>
                      <a:pt x="0" y="1908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b2b2b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006640" y="3171960"/>
              <a:ext cx="5919840" cy="863640"/>
              <a:chOff x="2006640" y="3171960"/>
              <a:chExt cx="5919840" cy="863640"/>
            </a:xfrm>
          </p:grpSpPr>
          <p:sp>
            <p:nvSpPr>
              <p:cNvPr id="375" name=""/>
              <p:cNvSpPr/>
              <p:nvPr/>
            </p:nvSpPr>
            <p:spPr>
              <a:xfrm>
                <a:off x="7569360" y="317196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006640" y="3606840"/>
                <a:ext cx="5753160" cy="1800"/>
              </a:xfrm>
              <a:custGeom>
                <a:avLst/>
                <a:gdLst/>
                <a:ahLst/>
                <a:rect l="l" t="t" r="r" b="b"/>
                <a:pathLst>
                  <a:path w="3624" h="1">
                    <a:moveTo>
                      <a:pt x="0" y="0"/>
                    </a:moveTo>
                    <a:lnTo>
                      <a:pt x="3624" y="0"/>
                    </a:lnTo>
                  </a:path>
                </a:pathLst>
              </a:custGeom>
              <a:noFill/>
              <a:ln w="38160">
                <a:solidFill>
                  <a:srgbClr val="b2b2b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16240" y="347832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514600" y="347832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10480" y="345924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86520" y="347184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69040" y="345924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32480" y="345924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3" name=""/>
                  <p:cNvSpPr txBox="1"/>
                  <p:nvPr/>
                </p:nvSpPr>
                <p:spPr>
                  <a:xfrm>
                    <a:off x="2278080" y="3770280"/>
                    <a:ext cx="48276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4" name=""/>
                  <p:cNvSpPr txBox="1"/>
                  <p:nvPr/>
                </p:nvSpPr>
                <p:spPr>
                  <a:xfrm>
                    <a:off x="6607080" y="3692520"/>
                    <a:ext cx="435240" cy="33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5" name=""/>
                  <p:cNvSpPr txBox="1"/>
                  <p:nvPr/>
                </p:nvSpPr>
                <p:spPr>
                  <a:xfrm>
                    <a:off x="5246640" y="3751560"/>
                    <a:ext cx="26532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24000" y="7562520"/>
            <a:ext cx="211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eriod of a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753160" y="2781360"/>
            <a:ext cx="2009880" cy="1155600"/>
            <a:chOff x="5753160" y="2781360"/>
            <a:chExt cx="2009880" cy="1155600"/>
          </a:xfrm>
        </p:grpSpPr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6362640" y="3124080"/>
                  <a:ext cx="109692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7512120" y="2927520"/>
                  <a:ext cx="250920" cy="25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0" name=""/>
            <p:cNvSpPr/>
            <p:nvPr/>
          </p:nvSpPr>
          <p:spPr>
            <a:xfrm>
              <a:off x="6388200" y="2781360"/>
              <a:ext cx="12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eriod: 2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753160" y="3378240"/>
              <a:ext cx="1054080" cy="55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52560" y="2806560"/>
            <a:ext cx="1562040" cy="675720"/>
            <a:chOff x="952560" y="2806560"/>
            <a:chExt cx="1562040" cy="675720"/>
          </a:xfrm>
        </p:grpSpPr>
        <p:grpSp>
          <p:nvGrpSpPr>
            <p:cNvPr id="393" name=""/>
            <p:cNvGrpSpPr/>
            <p:nvPr/>
          </p:nvGrpSpPr>
          <p:grpSpPr>
            <a:xfrm>
              <a:off x="952560" y="2806560"/>
              <a:ext cx="1528560" cy="675720"/>
              <a:chOff x="952560" y="2806560"/>
              <a:chExt cx="1528560" cy="675720"/>
            </a:xfrm>
          </p:grpSpPr>
          <mc:AlternateContent>
            <mc:Choice xmlns:a14="http://schemas.microsoft.com/office/drawing/2010/main" Requires="a14">
              <p:sp>
                <p:nvSpPr>
                  <p:cNvPr id="394" name=""/>
                  <p:cNvSpPr txBox="1"/>
                  <p:nvPr/>
                </p:nvSpPr>
                <p:spPr>
                  <a:xfrm>
                    <a:off x="1155600" y="2806560"/>
                    <a:ext cx="1325520" cy="365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95" name=""/>
              <p:cNvGrpSpPr/>
              <p:nvPr/>
            </p:nvGrpSpPr>
            <p:grpSpPr>
              <a:xfrm>
                <a:off x="952560" y="3022560"/>
                <a:ext cx="1197000" cy="459720"/>
                <a:chOff x="952560" y="3022560"/>
                <a:chExt cx="1197000" cy="4597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96" name=""/>
                    <p:cNvSpPr txBox="1"/>
                    <p:nvPr/>
                  </p:nvSpPr>
                  <p:spPr>
                    <a:xfrm>
                      <a:off x="1898640" y="3168720"/>
                      <a:ext cx="250920" cy="250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π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97" name=""/>
                <p:cNvSpPr/>
                <p:nvPr/>
              </p:nvSpPr>
              <p:spPr>
                <a:xfrm>
                  <a:off x="952560" y="3022560"/>
                  <a:ext cx="104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period: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8" name=""/>
            <p:cNvSpPr/>
            <p:nvPr/>
          </p:nvSpPr>
          <p:spPr>
            <a:xfrm>
              <a:off x="2146320" y="3162240"/>
              <a:ext cx="368280" cy="76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2451240" y="2908440"/>
            <a:ext cx="4394160" cy="1473120"/>
          </a:xfrm>
          <a:custGeom>
            <a:avLst/>
            <a:gdLst/>
            <a:ahLst/>
            <a:rect l="l" t="t" r="r" b="b"/>
            <a:pathLst>
              <a:path w="2768" h="928">
                <a:moveTo>
                  <a:pt x="0" y="384"/>
                </a:moveTo>
                <a:cubicBezTo>
                  <a:pt x="77" y="464"/>
                  <a:pt x="236" y="928"/>
                  <a:pt x="472" y="864"/>
                </a:cubicBezTo>
                <a:cubicBezTo>
                  <a:pt x="744" y="856"/>
                  <a:pt x="1115" y="0"/>
                  <a:pt x="1416" y="0"/>
                </a:cubicBezTo>
                <a:cubicBezTo>
                  <a:pt x="1717" y="0"/>
                  <a:pt x="1992" y="872"/>
                  <a:pt x="2280" y="864"/>
                </a:cubicBezTo>
                <a:cubicBezTo>
                  <a:pt x="2568" y="856"/>
                  <a:pt x="2666" y="509"/>
                  <a:pt x="2768" y="4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76440" y="2819520"/>
            <a:ext cx="4343400" cy="1485720"/>
          </a:xfrm>
          <a:custGeom>
            <a:avLst/>
            <a:gdLst/>
            <a:ahLst/>
            <a:rect l="l" t="t" r="r" b="b"/>
            <a:pathLst>
              <a:path w="2736" h="936">
                <a:moveTo>
                  <a:pt x="0" y="488"/>
                </a:moveTo>
                <a:cubicBezTo>
                  <a:pt x="64" y="344"/>
                  <a:pt x="88" y="32"/>
                  <a:pt x="224" y="16"/>
                </a:cubicBezTo>
                <a:cubicBezTo>
                  <a:pt x="360" y="0"/>
                  <a:pt x="521" y="927"/>
                  <a:pt x="680" y="928"/>
                </a:cubicBezTo>
                <a:cubicBezTo>
                  <a:pt x="839" y="929"/>
                  <a:pt x="984" y="32"/>
                  <a:pt x="1160" y="32"/>
                </a:cubicBezTo>
                <a:cubicBezTo>
                  <a:pt x="1336" y="32"/>
                  <a:pt x="1352" y="936"/>
                  <a:pt x="1608" y="920"/>
                </a:cubicBezTo>
                <a:cubicBezTo>
                  <a:pt x="1864" y="904"/>
                  <a:pt x="1848" y="24"/>
                  <a:pt x="2040" y="24"/>
                </a:cubicBezTo>
                <a:cubicBezTo>
                  <a:pt x="2232" y="24"/>
                  <a:pt x="2288" y="912"/>
                  <a:pt x="2488" y="912"/>
                </a:cubicBezTo>
                <a:cubicBezTo>
                  <a:pt x="2688" y="912"/>
                  <a:pt x="2681" y="527"/>
                  <a:pt x="2736" y="44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299880"/>
            <a:ext cx="74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</a:t>
            </a: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eriod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of a function is the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interval needed for the function to complete one cycle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85800" y="1054080"/>
            <a:ext cx="6081840" cy="746280"/>
            <a:chOff x="685800" y="1054080"/>
            <a:chExt cx="6081840" cy="746280"/>
          </a:xfrm>
        </p:grpSpPr>
        <p:sp>
          <p:nvSpPr>
            <p:cNvPr id="403" name=""/>
            <p:cNvSpPr/>
            <p:nvPr/>
          </p:nvSpPr>
          <p:spPr>
            <a:xfrm>
              <a:off x="685800" y="1125360"/>
              <a:ext cx="60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For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b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en-CA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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0, the </a:t>
              </a:r>
              <a:r>
                <a:rPr b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eriod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of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a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sin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bx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is       .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522760" y="1054080"/>
                  <a:ext cx="48276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5" name=""/>
          <p:cNvGrpSpPr/>
          <p:nvPr/>
        </p:nvGrpSpPr>
        <p:grpSpPr>
          <a:xfrm>
            <a:off x="685800" y="1663560"/>
            <a:ext cx="6767640" cy="687240"/>
            <a:chOff x="685800" y="1663560"/>
            <a:chExt cx="6767640" cy="687240"/>
          </a:xfrm>
        </p:grpSpPr>
        <p:sp>
          <p:nvSpPr>
            <p:cNvPr id="406" name=""/>
            <p:cNvSpPr/>
            <p:nvPr/>
          </p:nvSpPr>
          <p:spPr>
            <a:xfrm>
              <a:off x="685800" y="1690560"/>
              <a:ext cx="676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For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b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en-CA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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0, the </a:t>
              </a:r>
              <a:r>
                <a:rPr b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eriod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of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a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cos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bx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is also       .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6107040" y="1663560"/>
                  <a:ext cx="48276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8" name=""/>
          <p:cNvSpPr/>
          <p:nvPr/>
        </p:nvSpPr>
        <p:spPr>
          <a:xfrm>
            <a:off x="675360" y="2235240"/>
            <a:ext cx="78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f 0 &lt;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&lt; 1, the graph of the function is stretched horizontally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8240" y="434340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f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&gt; 1, the graph of the function is shrunk horizontally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676600" y="4518000"/>
            <a:ext cx="5078160" cy="1838520"/>
            <a:chOff x="2676600" y="4518000"/>
            <a:chExt cx="5078160" cy="1838520"/>
          </a:xfrm>
        </p:grpSpPr>
        <p:sp>
          <p:nvSpPr>
            <p:cNvPr id="411" name=""/>
            <p:cNvSpPr/>
            <p:nvPr/>
          </p:nvSpPr>
          <p:spPr>
            <a:xfrm>
              <a:off x="3489480" y="451800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97640" y="524196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67040" y="4724640"/>
              <a:ext cx="1800" cy="1631880"/>
            </a:xfrm>
            <a:custGeom>
              <a:avLst/>
              <a:gdLst/>
              <a:ahLst/>
              <a:rect l="l" t="t" r="r" b="b"/>
              <a:pathLst>
                <a:path w="1" h="1028">
                  <a:moveTo>
                    <a:pt x="0" y="102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76600" y="5661000"/>
              <a:ext cx="4786200" cy="1800"/>
            </a:xfrm>
            <a:custGeom>
              <a:avLst/>
              <a:gdLst/>
              <a:ahLst/>
              <a:rect l="l" t="t" r="r" b="b"/>
              <a:pathLst>
                <a:path w="3015" h="1">
                  <a:moveTo>
                    <a:pt x="0" y="0"/>
                  </a:moveTo>
                  <a:lnTo>
                    <a:pt x="3015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44880" y="55483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51720" y="55292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27760" y="55292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22880" y="55292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98920" y="55292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2751120" y="5357880"/>
                  <a:ext cx="355680" cy="19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1" name=""/>
                <p:cNvSpPr txBox="1"/>
                <p:nvPr/>
              </p:nvSpPr>
              <p:spPr>
                <a:xfrm>
                  <a:off x="5025960" y="5291280"/>
                  <a:ext cx="32076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4421160" y="5357880"/>
                  <a:ext cx="195120" cy="19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5653080" y="5291280"/>
                  <a:ext cx="3031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6445080" y="5291280"/>
                  <a:ext cx="32076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5" name=""/>
          <p:cNvSpPr/>
          <p:nvPr/>
        </p:nvSpPr>
        <p:spPr>
          <a:xfrm>
            <a:off x="2828880" y="4826160"/>
            <a:ext cx="4422960" cy="1474560"/>
          </a:xfrm>
          <a:custGeom>
            <a:avLst/>
            <a:gdLst/>
            <a:ahLst/>
            <a:rect l="l" t="t" r="r" b="b"/>
            <a:pathLst>
              <a:path w="2786" h="929">
                <a:moveTo>
                  <a:pt x="0" y="670"/>
                </a:moveTo>
                <a:cubicBezTo>
                  <a:pt x="105" y="572"/>
                  <a:pt x="386" y="46"/>
                  <a:pt x="629" y="89"/>
                </a:cubicBezTo>
                <a:cubicBezTo>
                  <a:pt x="872" y="132"/>
                  <a:pt x="1165" y="927"/>
                  <a:pt x="1458" y="928"/>
                </a:cubicBezTo>
                <a:cubicBezTo>
                  <a:pt x="1739" y="929"/>
                  <a:pt x="2172" y="190"/>
                  <a:pt x="2386" y="96"/>
                </a:cubicBezTo>
                <a:cubicBezTo>
                  <a:pt x="2607" y="0"/>
                  <a:pt x="2703" y="299"/>
                  <a:pt x="2786" y="352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32120" y="4954680"/>
            <a:ext cx="4191120" cy="1361880"/>
          </a:xfrm>
          <a:custGeom>
            <a:avLst/>
            <a:gdLst/>
            <a:ahLst/>
            <a:rect l="l" t="t" r="r" b="b"/>
            <a:pathLst>
              <a:path w="2640" h="858">
                <a:moveTo>
                  <a:pt x="0" y="727"/>
                </a:moveTo>
                <a:cubicBezTo>
                  <a:pt x="17" y="747"/>
                  <a:pt x="24" y="855"/>
                  <a:pt x="104" y="847"/>
                </a:cubicBezTo>
                <a:cubicBezTo>
                  <a:pt x="184" y="839"/>
                  <a:pt x="455" y="7"/>
                  <a:pt x="610" y="7"/>
                </a:cubicBezTo>
                <a:cubicBezTo>
                  <a:pt x="765" y="7"/>
                  <a:pt x="886" y="848"/>
                  <a:pt x="1032" y="847"/>
                </a:cubicBezTo>
                <a:cubicBezTo>
                  <a:pt x="1178" y="846"/>
                  <a:pt x="1334" y="0"/>
                  <a:pt x="1486" y="1"/>
                </a:cubicBezTo>
                <a:cubicBezTo>
                  <a:pt x="1638" y="2"/>
                  <a:pt x="1788" y="853"/>
                  <a:pt x="1944" y="855"/>
                </a:cubicBezTo>
                <a:cubicBezTo>
                  <a:pt x="2092" y="858"/>
                  <a:pt x="2272" y="7"/>
                  <a:pt x="2424" y="15"/>
                </a:cubicBezTo>
                <a:cubicBezTo>
                  <a:pt x="2576" y="23"/>
                  <a:pt x="2595" y="300"/>
                  <a:pt x="2640" y="37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7009920" y="4782960"/>
            <a:ext cx="1769040" cy="629640"/>
            <a:chOff x="7009920" y="4782960"/>
            <a:chExt cx="1769040" cy="629640"/>
          </a:xfrm>
        </p:grpSpPr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7354800" y="4782960"/>
                  <a:ext cx="111924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8528040" y="5099040"/>
                  <a:ext cx="25092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0" name=""/>
            <p:cNvSpPr/>
            <p:nvPr/>
          </p:nvSpPr>
          <p:spPr>
            <a:xfrm>
              <a:off x="7391520" y="4952880"/>
              <a:ext cx="12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eriod: 2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09920" y="5029200"/>
              <a:ext cx="660600" cy="291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092240" y="4794120"/>
            <a:ext cx="1866960" cy="1037880"/>
            <a:chOff x="1092240" y="4794120"/>
            <a:chExt cx="1866960" cy="1037880"/>
          </a:xfrm>
        </p:grpSpPr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1360440" y="4794120"/>
                  <a:ext cx="134928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2216160" y="5505480"/>
                  <a:ext cx="25092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5" name=""/>
            <p:cNvSpPr/>
            <p:nvPr/>
          </p:nvSpPr>
          <p:spPr>
            <a:xfrm>
              <a:off x="1092240" y="5372280"/>
              <a:ext cx="12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eriod: 4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63840" y="5397480"/>
              <a:ext cx="49536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15BA-FE25-41C1-B18E-4BC3B2FF3C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2425680" y="3794040"/>
            <a:ext cx="5373360" cy="2314440"/>
            <a:chOff x="2425680" y="3794040"/>
            <a:chExt cx="5373360" cy="2314440"/>
          </a:xfrm>
        </p:grpSpPr>
        <p:grpSp>
          <p:nvGrpSpPr>
            <p:cNvPr id="438" name=""/>
            <p:cNvGrpSpPr/>
            <p:nvPr/>
          </p:nvGrpSpPr>
          <p:grpSpPr>
            <a:xfrm>
              <a:off x="2981160" y="3794040"/>
              <a:ext cx="660240" cy="2314440"/>
              <a:chOff x="2981160" y="3794040"/>
              <a:chExt cx="660240" cy="2314440"/>
            </a:xfrm>
          </p:grpSpPr>
          <mc:AlternateContent>
            <mc:Choice xmlns:a14="http://schemas.microsoft.com/office/drawing/2010/main" Requires="a14">
              <p:sp>
                <p:nvSpPr>
                  <p:cNvPr id="439" name=""/>
                  <p:cNvSpPr txBox="1"/>
                  <p:nvPr/>
                </p:nvSpPr>
                <p:spPr>
                  <a:xfrm>
                    <a:off x="3097080" y="4349520"/>
                    <a:ext cx="16344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0" name=""/>
              <p:cNvSpPr/>
              <p:nvPr/>
            </p:nvSpPr>
            <p:spPr>
              <a:xfrm>
                <a:off x="3281040" y="590544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268440" y="554976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68440" y="483840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268440" y="447012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89160" y="379404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16040" y="3949560"/>
                <a:ext cx="1800" cy="2158920"/>
              </a:xfrm>
              <a:custGeom>
                <a:avLst/>
                <a:gdLst/>
                <a:ahLst/>
                <a:rect l="l" t="t" r="r" b="b"/>
                <a:pathLst>
                  <a:path w="1" h="1908">
                    <a:moveTo>
                      <a:pt x="0" y="1908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b2b2b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6" name=""/>
                  <p:cNvSpPr txBox="1"/>
                  <p:nvPr/>
                </p:nvSpPr>
                <p:spPr>
                  <a:xfrm>
                    <a:off x="2981160" y="5771880"/>
                    <a:ext cx="293760" cy="21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47" name=""/>
            <p:cNvSpPr/>
            <p:nvPr/>
          </p:nvSpPr>
          <p:spPr>
            <a:xfrm>
              <a:off x="5806800" y="50749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44720" y="50749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3931920" y="4552920"/>
                  <a:ext cx="2304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"/>
            <p:cNvSpPr/>
            <p:nvPr/>
          </p:nvSpPr>
          <p:spPr>
            <a:xfrm>
              <a:off x="7480080" y="475920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25680" y="5194080"/>
              <a:ext cx="5283000" cy="1440"/>
            </a:xfrm>
            <a:custGeom>
              <a:avLst/>
              <a:gdLst/>
              <a:ahLst/>
              <a:rect l="l" t="t" r="r" b="b"/>
              <a:pathLst>
                <a:path w="3328" h="1">
                  <a:moveTo>
                    <a:pt x="0" y="0"/>
                  </a:moveTo>
                  <a:lnTo>
                    <a:pt x="3328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7840" y="50749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5100480" y="4520880"/>
                  <a:ext cx="230040" cy="55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6769080" y="4854240"/>
                  <a:ext cx="195120" cy="19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5" name=""/>
            <p:cNvSpPr/>
            <p:nvPr/>
          </p:nvSpPr>
          <p:spPr>
            <a:xfrm>
              <a:off x="6867360" y="506556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6" name=""/>
                <p:cNvSpPr txBox="1"/>
                <p:nvPr/>
              </p:nvSpPr>
              <p:spPr>
                <a:xfrm>
                  <a:off x="6165720" y="4527360"/>
                  <a:ext cx="3366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57" name=""/>
            <p:cNvSpPr/>
            <p:nvPr/>
          </p:nvSpPr>
          <p:spPr>
            <a:xfrm>
              <a:off x="6321240" y="5072040"/>
              <a:ext cx="0" cy="269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41600" y="505908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4516200" y="4549680"/>
                  <a:ext cx="2304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5638680" y="4518000"/>
                  <a:ext cx="3538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2693880" y="4552920"/>
                  <a:ext cx="23004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2" name=""/>
            <p:cNvSpPr/>
            <p:nvPr/>
          </p:nvSpPr>
          <p:spPr>
            <a:xfrm>
              <a:off x="2809800" y="50749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206800" y="2698920"/>
            <a:ext cx="5349240" cy="1212840"/>
            <a:chOff x="2206800" y="2698920"/>
            <a:chExt cx="5349240" cy="1212840"/>
          </a:xfrm>
        </p:grpSpPr>
        <mc:AlternateContent>
          <mc:Choice xmlns:a14="http://schemas.microsoft.com/office/drawing/2010/main" Requires="a14">
            <p:sp>
              <p:nvSpPr>
                <p:cNvPr id="464" name=""/>
                <p:cNvSpPr txBox="1"/>
                <p:nvPr/>
              </p:nvSpPr>
              <p:spPr>
                <a:xfrm>
                  <a:off x="5016240" y="2724120"/>
                  <a:ext cx="24732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5638680" y="2737080"/>
                  <a:ext cx="24732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6311880" y="2724120"/>
                  <a:ext cx="24696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6908760" y="2711520"/>
                  <a:ext cx="38052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8" name=""/>
            <p:cNvSpPr/>
            <p:nvPr/>
          </p:nvSpPr>
          <p:spPr>
            <a:xfrm>
              <a:off x="6800760" y="3449880"/>
              <a:ext cx="6724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10000" y="3411720"/>
              <a:ext cx="526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74960" y="3411720"/>
              <a:ext cx="4568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76560" y="3436920"/>
              <a:ext cx="49500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CA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70160" y="3449880"/>
              <a:ext cx="717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22280" y="3449880"/>
              <a:ext cx="18475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=  –2 sin 3</a:t>
              </a:r>
              <a:r>
                <a:rPr b="0" i="1" lang="en-CA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70160" y="2876760"/>
              <a:ext cx="7297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2280" y="2737080"/>
              <a:ext cx="16696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30840" y="2698920"/>
              <a:ext cx="6120" cy="1200240"/>
            </a:xfrm>
            <a:custGeom>
              <a:avLst/>
              <a:gdLst/>
              <a:ahLst/>
              <a:rect l="l" t="t" r="r" b="b"/>
              <a:pathLst>
                <a:path w="4" h="756">
                  <a:moveTo>
                    <a:pt x="4" y="0"/>
                  </a:moveTo>
                  <a:lnTo>
                    <a:pt x="0" y="756"/>
                  </a:lnTo>
                </a:path>
              </a:pathLst>
            </a:custGeom>
            <a:noFill/>
            <a:ln cap="sq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06800" y="2718000"/>
              <a:ext cx="5336640" cy="1440"/>
            </a:xfrm>
            <a:custGeom>
              <a:avLst/>
              <a:gdLst/>
              <a:ahLst/>
              <a:rect l="l" t="t" r="r" b="b"/>
              <a:pathLst>
                <a:path w="3362" h="1">
                  <a:moveTo>
                    <a:pt x="0" y="0"/>
                  </a:moveTo>
                  <a:lnTo>
                    <a:pt x="3362" y="0"/>
                  </a:lnTo>
                </a:path>
              </a:pathLst>
            </a:custGeom>
            <a:noFill/>
            <a:ln cap="sq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22280" y="3327480"/>
              <a:ext cx="5333760" cy="3240"/>
            </a:xfrm>
            <a:custGeom>
              <a:avLst/>
              <a:gdLst/>
              <a:ahLst/>
              <a:rect l="l" t="t" r="r" b="b"/>
              <a:pathLst>
                <a:path w="3360" h="2">
                  <a:moveTo>
                    <a:pt x="0" y="2"/>
                  </a:moveTo>
                  <a:lnTo>
                    <a:pt x="3360" y="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22280" y="3897360"/>
              <a:ext cx="5333760" cy="1800"/>
            </a:xfrm>
            <a:custGeom>
              <a:avLst/>
              <a:gdLst/>
              <a:ahLst/>
              <a:rect l="l" t="t" r="r" b="b"/>
              <a:pathLst>
                <a:path w="3360" h="1">
                  <a:moveTo>
                    <a:pt x="0" y="0"/>
                  </a:moveTo>
                  <a:lnTo>
                    <a:pt x="3360" y="1"/>
                  </a:lnTo>
                </a:path>
              </a:pathLst>
            </a:custGeom>
            <a:noFill/>
            <a:ln cap="sq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22280" y="2711520"/>
              <a:ext cx="0" cy="657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70160" y="2711520"/>
              <a:ext cx="6120" cy="1200240"/>
            </a:xfrm>
            <a:custGeom>
              <a:avLst/>
              <a:gdLst/>
              <a:ahLst/>
              <a:rect l="l" t="t" r="r" b="b"/>
              <a:pathLst>
                <a:path w="4" h="756">
                  <a:moveTo>
                    <a:pt x="0" y="0"/>
                  </a:moveTo>
                  <a:lnTo>
                    <a:pt x="4" y="756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00240" y="2711520"/>
              <a:ext cx="1440" cy="1174680"/>
            </a:xfrm>
            <a:custGeom>
              <a:avLst/>
              <a:gdLst/>
              <a:ahLst/>
              <a:rect l="l" t="t" r="r" b="b"/>
              <a:pathLst>
                <a:path w="1" h="740">
                  <a:moveTo>
                    <a:pt x="0" y="0"/>
                  </a:moveTo>
                  <a:lnTo>
                    <a:pt x="0" y="74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11600" y="2711520"/>
              <a:ext cx="1080" cy="1187640"/>
            </a:xfrm>
            <a:custGeom>
              <a:avLst/>
              <a:gdLst/>
              <a:ahLst/>
              <a:rect l="l" t="t" r="r" b="b"/>
              <a:pathLst>
                <a:path w="1" h="748">
                  <a:moveTo>
                    <a:pt x="0" y="0"/>
                  </a:moveTo>
                  <a:lnTo>
                    <a:pt x="0" y="74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46640" y="2711520"/>
              <a:ext cx="1080" cy="1200240"/>
            </a:xfrm>
            <a:custGeom>
              <a:avLst/>
              <a:gdLst/>
              <a:ahLst/>
              <a:rect l="l" t="t" r="r" b="b"/>
              <a:pathLst>
                <a:path w="1" h="756">
                  <a:moveTo>
                    <a:pt x="0" y="0"/>
                  </a:moveTo>
                  <a:lnTo>
                    <a:pt x="0" y="756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19840" y="2711520"/>
              <a:ext cx="5760" cy="1200240"/>
            </a:xfrm>
            <a:custGeom>
              <a:avLst/>
              <a:gdLst/>
              <a:ahLst/>
              <a:rect l="l" t="t" r="r" b="b"/>
              <a:pathLst>
                <a:path w="4" h="756">
                  <a:moveTo>
                    <a:pt x="4" y="0"/>
                  </a:moveTo>
                  <a:lnTo>
                    <a:pt x="0" y="756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222280" y="3368880"/>
              <a:ext cx="1080" cy="542880"/>
            </a:xfrm>
            <a:custGeom>
              <a:avLst/>
              <a:gdLst/>
              <a:ahLst/>
              <a:rect l="l" t="t" r="r" b="b"/>
              <a:pathLst>
                <a:path w="1" h="342">
                  <a:moveTo>
                    <a:pt x="0" y="0"/>
                  </a:moveTo>
                  <a:lnTo>
                    <a:pt x="0" y="342"/>
                  </a:lnTo>
                </a:path>
              </a:pathLst>
            </a:custGeom>
            <a:noFill/>
            <a:ln cap="sq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866880" y="7752960"/>
            <a:ext cx="17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xample: </a:t>
            </a:r>
            <a:r>
              <a:rPr b="0" i="1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2 sin(-3</a:t>
            </a:r>
            <a:r>
              <a:rPr b="0" i="1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331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xample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 Sketch the graph of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-2 sin</a:t>
            </a:r>
            <a:r>
              <a:rPr b="0" lang="en-CA" sz="1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3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).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801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ewrite the function in the form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sin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with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&gt; 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28880" y="177336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amplitude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 |</a:t>
            </a:r>
            <a:r>
              <a:rPr b="0" i="1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| = |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2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| =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2224080"/>
            <a:ext cx="41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alculate the five key points.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371680" y="4352760"/>
            <a:ext cx="4781520" cy="1716120"/>
            <a:chOff x="2371680" y="4352760"/>
            <a:chExt cx="4781520" cy="1716120"/>
          </a:xfrm>
        </p:grpSpPr>
        <p:sp>
          <p:nvSpPr>
            <p:cNvPr id="493" name=""/>
            <p:cNvSpPr/>
            <p:nvPr/>
          </p:nvSpPr>
          <p:spPr>
            <a:xfrm>
              <a:off x="2371680" y="4397040"/>
              <a:ext cx="1047600" cy="800280"/>
            </a:xfrm>
            <a:custGeom>
              <a:avLst/>
              <a:gdLst/>
              <a:ahLst/>
              <a:rect l="l" t="t" r="r" b="b"/>
              <a:pathLst>
                <a:path w="660" h="504">
                  <a:moveTo>
                    <a:pt x="0" y="312"/>
                  </a:moveTo>
                  <a:cubicBezTo>
                    <a:pt x="52" y="261"/>
                    <a:pt x="162" y="0"/>
                    <a:pt x="312" y="6"/>
                  </a:cubicBezTo>
                  <a:cubicBezTo>
                    <a:pt x="462" y="12"/>
                    <a:pt x="588" y="400"/>
                    <a:pt x="660" y="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77880" y="4352760"/>
              <a:ext cx="2470320" cy="1716120"/>
            </a:xfrm>
            <a:custGeom>
              <a:avLst/>
              <a:gdLst/>
              <a:ahLst/>
              <a:rect l="l" t="t" r="r" b="b"/>
              <a:pathLst>
                <a:path w="1556" h="1081">
                  <a:moveTo>
                    <a:pt x="0" y="498"/>
                  </a:moveTo>
                  <a:cubicBezTo>
                    <a:pt x="77" y="583"/>
                    <a:pt x="272" y="1081"/>
                    <a:pt x="464" y="1010"/>
                  </a:cubicBezTo>
                  <a:cubicBezTo>
                    <a:pt x="656" y="939"/>
                    <a:pt x="970" y="148"/>
                    <a:pt x="1152" y="74"/>
                  </a:cubicBezTo>
                  <a:cubicBezTo>
                    <a:pt x="1334" y="0"/>
                    <a:pt x="1472" y="465"/>
                    <a:pt x="1556" y="568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10040" y="4616280"/>
              <a:ext cx="1343160" cy="1380960"/>
            </a:xfrm>
            <a:custGeom>
              <a:avLst/>
              <a:gdLst/>
              <a:ahLst/>
              <a:rect l="l" t="t" r="r" b="b"/>
              <a:pathLst>
                <a:path w="846" h="870">
                  <a:moveTo>
                    <a:pt x="0" y="396"/>
                  </a:moveTo>
                  <a:cubicBezTo>
                    <a:pt x="61" y="463"/>
                    <a:pt x="223" y="870"/>
                    <a:pt x="364" y="804"/>
                  </a:cubicBezTo>
                  <a:cubicBezTo>
                    <a:pt x="536" y="738"/>
                    <a:pt x="746" y="167"/>
                    <a:pt x="84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506320" y="5143680"/>
            <a:ext cx="949680" cy="532440"/>
            <a:chOff x="2506320" y="5143680"/>
            <a:chExt cx="949680" cy="532440"/>
          </a:xfrm>
        </p:grpSpPr>
        <p:sp>
          <p:nvSpPr>
            <p:cNvPr id="497" name=""/>
            <p:cNvSpPr/>
            <p:nvPr/>
          </p:nvSpPr>
          <p:spPr>
            <a:xfrm>
              <a:off x="3365640" y="5143680"/>
              <a:ext cx="90360" cy="90000"/>
            </a:xfrm>
            <a:prstGeom prst="ellipse">
              <a:avLst/>
            </a:prstGeom>
            <a:solidFill>
              <a:srgbClr val="008080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06320" y="521640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(0, 0)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4449240" y="5156280"/>
            <a:ext cx="918360" cy="686880"/>
            <a:chOff x="4449240" y="5156280"/>
            <a:chExt cx="918360" cy="686880"/>
          </a:xfrm>
        </p:grpSpPr>
        <p:sp>
          <p:nvSpPr>
            <p:cNvPr id="500" name=""/>
            <p:cNvSpPr/>
            <p:nvPr/>
          </p:nvSpPr>
          <p:spPr>
            <a:xfrm>
              <a:off x="4609800" y="5156280"/>
              <a:ext cx="90720" cy="90360"/>
            </a:xfrm>
            <a:prstGeom prst="ellipse">
              <a:avLst/>
            </a:prstGeom>
            <a:solidFill>
              <a:srgbClr val="008080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49240" y="5292360"/>
              <a:ext cx="9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(   , 0)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4649760" y="5292360"/>
                  <a:ext cx="23004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3" name=""/>
          <p:cNvGrpSpPr/>
          <p:nvPr/>
        </p:nvGrpSpPr>
        <p:grpSpPr>
          <a:xfrm>
            <a:off x="4773240" y="3978360"/>
            <a:ext cx="918360" cy="550800"/>
            <a:chOff x="4773240" y="3978360"/>
            <a:chExt cx="918360" cy="550800"/>
          </a:xfrm>
        </p:grpSpPr>
        <p:sp>
          <p:nvSpPr>
            <p:cNvPr id="504" name=""/>
            <p:cNvSpPr/>
            <p:nvPr/>
          </p:nvSpPr>
          <p:spPr>
            <a:xfrm>
              <a:off x="5203800" y="4419720"/>
              <a:ext cx="90000" cy="90360"/>
            </a:xfrm>
            <a:prstGeom prst="ellipse">
              <a:avLst/>
            </a:prstGeom>
            <a:solidFill>
              <a:srgbClr val="008080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73240" y="3978360"/>
              <a:ext cx="9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(   , 2)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6" name=""/>
                <p:cNvSpPr txBox="1"/>
                <p:nvPr/>
              </p:nvSpPr>
              <p:spPr>
                <a:xfrm>
                  <a:off x="4948200" y="3978360"/>
                  <a:ext cx="2296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7" name=""/>
          <p:cNvGrpSpPr/>
          <p:nvPr/>
        </p:nvGrpSpPr>
        <p:grpSpPr>
          <a:xfrm>
            <a:off x="3578760" y="5842080"/>
            <a:ext cx="970200" cy="563040"/>
            <a:chOff x="3578760" y="5842080"/>
            <a:chExt cx="970200" cy="563040"/>
          </a:xfrm>
        </p:grpSpPr>
        <p:sp>
          <p:nvSpPr>
            <p:cNvPr id="508" name=""/>
            <p:cNvSpPr/>
            <p:nvPr/>
          </p:nvSpPr>
          <p:spPr>
            <a:xfrm>
              <a:off x="4000320" y="5914800"/>
              <a:ext cx="90000" cy="90000"/>
            </a:xfrm>
            <a:prstGeom prst="ellipse">
              <a:avLst/>
            </a:prstGeom>
            <a:solidFill>
              <a:srgbClr val="008080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578760" y="584208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(   ,</a:t>
              </a:r>
              <a:r>
                <a:rPr b="0" lang="en-CA" sz="8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-2)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3741480" y="5854680"/>
                  <a:ext cx="267840" cy="55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1" name=""/>
          <p:cNvGrpSpPr/>
          <p:nvPr/>
        </p:nvGrpSpPr>
        <p:grpSpPr>
          <a:xfrm>
            <a:off x="5138280" y="5156280"/>
            <a:ext cx="994680" cy="912240"/>
            <a:chOff x="5138280" y="5156280"/>
            <a:chExt cx="994680" cy="912240"/>
          </a:xfrm>
        </p:grpSpPr>
        <p:sp>
          <p:nvSpPr>
            <p:cNvPr id="512" name=""/>
            <p:cNvSpPr/>
            <p:nvPr/>
          </p:nvSpPr>
          <p:spPr>
            <a:xfrm>
              <a:off x="5752800" y="5156280"/>
              <a:ext cx="90360" cy="90360"/>
            </a:xfrm>
            <a:prstGeom prst="ellipse">
              <a:avLst/>
            </a:prstGeom>
            <a:solidFill>
              <a:srgbClr val="008080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38280" y="5479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(    , 0)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5314680" y="5518080"/>
                  <a:ext cx="353880" cy="55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5" name=""/>
          <p:cNvSpPr/>
          <p:nvPr/>
        </p:nvSpPr>
        <p:spPr>
          <a:xfrm>
            <a:off x="5436720" y="123984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-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sin (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) 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370120" y="1595520"/>
            <a:ext cx="2225160" cy="844560"/>
            <a:chOff x="5370120" y="1595520"/>
            <a:chExt cx="2225160" cy="844560"/>
          </a:xfrm>
        </p:grpSpPr>
        <p:sp>
          <p:nvSpPr>
            <p:cNvPr id="517" name=""/>
            <p:cNvSpPr/>
            <p:nvPr/>
          </p:nvSpPr>
          <p:spPr>
            <a:xfrm>
              <a:off x="5370120" y="1735560"/>
              <a:ext cx="10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period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6297480" y="1595520"/>
              <a:ext cx="1297800" cy="844560"/>
              <a:chOff x="6297480" y="1595520"/>
              <a:chExt cx="1297800" cy="84456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6297480" y="1608120"/>
                <a:ext cx="535680" cy="771480"/>
                <a:chOff x="6297480" y="1608120"/>
                <a:chExt cx="535680" cy="7714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20" name=""/>
                    <p:cNvSpPr txBox="1"/>
                    <p:nvPr/>
                  </p:nvSpPr>
                  <p:spPr>
                    <a:xfrm>
                      <a:off x="6358680" y="1627200"/>
                      <a:ext cx="474480" cy="752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b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521" name=""/>
                <p:cNvSpPr/>
                <p:nvPr/>
              </p:nvSpPr>
              <p:spPr>
                <a:xfrm>
                  <a:off x="6297480" y="1608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7084800" y="1595520"/>
                <a:ext cx="510480" cy="844560"/>
                <a:chOff x="7084800" y="1595520"/>
                <a:chExt cx="510480" cy="8445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23" name=""/>
                    <p:cNvSpPr txBox="1"/>
                    <p:nvPr/>
                  </p:nvSpPr>
                  <p:spPr>
                    <a:xfrm>
                      <a:off x="7124040" y="1622520"/>
                      <a:ext cx="471240" cy="817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π</m:t>
                              </m:r>
                            </m:num>
                            <m:den/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524" name=""/>
                <p:cNvSpPr/>
                <p:nvPr/>
              </p:nvSpPr>
              <p:spPr>
                <a:xfrm>
                  <a:off x="7084800" y="1595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200360" y="1976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"/>
              <p:cNvSpPr/>
              <p:nvPr/>
            </p:nvSpPr>
            <p:spPr>
              <a:xfrm>
                <a:off x="6795720" y="17985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AA624-0D73-431A-B3C7-A9CF762EBC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CB57-7CB3-4A8E-9327-1EECA20ABB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2:38:15Z</dcterms:created>
  <dc:creator/>
  <dc:description/>
  <cp:keywords/>
  <dc:language>en-US</dc:language>
  <cp:lastModifiedBy>abeason</cp:lastModifiedBy>
  <dcterms:modified xsi:type="dcterms:W3CDTF">2008-10-20T16:36:16Z</dcterms:modified>
  <cp:revision>3</cp:revision>
  <dc:subject/>
  <dc:title>Graphs of Trigonometric Functions </dc:title>
</cp:coreProperties>
</file>